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FBC4-A820-4636-8D10-7F906BF31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2DD3-46B2-4967-91F2-53D2B299B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B5E7-6E53-4294-AC26-D9F07CF0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AA2-960B-4ACC-BC70-D1F23F40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8BA6-38E1-4B6B-BF2E-E892B058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658-4BAD-4E34-A427-CD3A8984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B65B-E679-47E7-94C2-17A8F186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F3F4-FE38-44BC-B028-B0E5BFCC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5C91-33C3-40EC-BA3E-CB5218CE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E719-D7A6-4B3F-B487-797D96D5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B9F9-64EE-4A2F-8F4B-193B426E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AE27-471D-4490-9281-7FDFBB73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CAA1-41FB-4114-9900-2DDFD4AD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3DD2-F632-4007-A71B-11CB6D34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BC1A-8420-4D08-8E87-A7FDF7EA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A594-E832-4707-814B-409055F8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57EF-4166-4348-BD0B-33B265AA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8B3A-9C73-4CF2-B5E7-65B00F8C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4C8B-4F31-46AB-8BA9-5B5CC238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5DA-BBB1-4A6A-9214-32CB3BD1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0BB5-A366-4202-A884-E040A910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1A4-4A08-4C6E-B1BB-B5BE3442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725-D0F9-4205-A106-BB34A2ED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D73-E413-4DCF-A1BA-4378AB47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9EF-FC7A-4E1D-BA5B-C8A3DE26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31B2-2D16-4AEF-985D-2CB6FEE5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4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F0A2-A825-4ABB-A3A3-E2567E0081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1"/>
          <p:cNvSpPr/>
          <p:nvPr/>
        </p:nvSpPr>
        <p:spPr>
          <a:xfrm>
            <a:off x="457200" y="1676520"/>
            <a:ext cx="67816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19810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CB21-002E-4E9B-B0A6-11F2034E4B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8288-9260-4379-8760-50FC5F582C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44956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838080" y="152280"/>
            <a:ext cx="815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TRODUCTION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YSTEMS ANALYSIS AND DESIG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GILE, ITER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762120" y="41148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3886200" y="3276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ZINGER | JACKSON |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453B-B2B4-4913-AD07-6F942213E5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Newer Overlapping Phases Predictive SDLC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686800" cy="3547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8"/>
          <p:cNvSpPr/>
          <p:nvPr/>
        </p:nvSpPr>
        <p:spPr>
          <a:xfrm>
            <a:off x="685800" y="1295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flexibility, but still assumes predictive planning and sequential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8D3B-AAFB-4651-B42B-9D413C957C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er Adaptive SDL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30492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erged in response to increasingly complex requirements and uncertain technological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ways includes iterations where some of design and implementation is done from the beg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developers claim it is the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ay to develop inform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IS managers are still scep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9E47-09E1-4E97-A186-87ECD11C75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iral Model</a:t>
            </a:r>
            <a:br>
              <a:rPr sz="39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he First Adaptive SDLC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026320" cy="4848120"/>
          </a:xfrm>
          <a:prstGeom prst="rect">
            <a:avLst/>
          </a:prstGeom>
          <a:ln w="0">
            <a:noFill/>
          </a:ln>
        </p:spPr>
      </p:pic>
      <p:sp>
        <p:nvSpPr>
          <p:cNvPr id="23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52EF-D22A-4F45-AFC9-67D6F0C868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terative Model</a:t>
            </a:r>
            <a:br>
              <a:rPr sz="35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Popular Way to Represent Adaptive SDLC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659480" cy="487692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E854-D8BC-4756-AD3D-F83BD162AD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1920" y="12204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re Processes vs. Iterations Model</a:t>
            </a:r>
            <a:br>
              <a:rPr sz="35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The Adaptive SDLC used in this Tex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7767720" cy="40989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8"/>
          <p:cNvSpPr/>
          <p:nvPr/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ws core processes, not phases, plus iterations in a sequence for management checkpo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the Unified Process SDLC (see chapter 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55A1-0E74-457C-84D5-992D32B532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ditional Adaptive Concep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685800" y="12193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n approach that completes portions of the system in inc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 system is implemented and partially deployed in steps during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ets part of working system into users’ hands soo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lking Skel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n approach in which the complete system structure is built early, but with bare-bon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A070-A349-476A-B0AE-95AA60BC01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SDLC Support Pha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information systems need to be supported once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dictive SDLCs typically include support as a project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ive SDLCs treat support as a separat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tivities whose objective is to  maintain and enhance the system after it is installed and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F284-4062-428D-9990-B2E9933A47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pport Activi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ing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ix problems/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ke minor adju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pdate for changes in operating systems or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hancing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dd desired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dd or change functionality to comply with regulations or legisl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ng the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going user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elp de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86EB-9160-4C00-9D8D-10B17A2C24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guidelines for every facet of system development: What to do when, why and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s an SDLC with activities an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s project planning and project management models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s analysis and design models to cre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s implementation and testing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s deployment and support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term used i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ystem Develop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B932-EDC2-43E9-9158-BB47F25109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 abstraction of an important aspect of the real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kes it possible to understand a complex concept by focusing only on a relevant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ach model shows a different aspect of the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rucial for communicating proje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IS, some models are of system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models are used to manage the develop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41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pproaches to System Developmen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969920" y="3655800"/>
            <a:ext cx="426744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and Desig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ile, Iteractive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zinger, Jackson &amp;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880" y="1828800"/>
            <a:ext cx="6782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hapter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BF34-2137-42C2-B253-4A0F2345E9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8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162920" cy="4478040"/>
          </a:xfrm>
          <a:prstGeom prst="rect">
            <a:avLst/>
          </a:prstGeom>
          <a:ln w="0">
            <a:noFill/>
          </a:ln>
        </p:spPr>
      </p:pic>
      <p:sp>
        <p:nvSpPr>
          <p:cNvPr id="29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80D7-69C9-4134-8A1C-F6B8F2273B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applications that assists developers in creating models or other components required for a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1143000" y="3200400"/>
            <a:ext cx="6934320" cy="2865600"/>
          </a:xfrm>
          <a:prstGeom prst="rect">
            <a:avLst/>
          </a:prstGeom>
          <a:ln w="0">
            <a:noFill/>
          </a:ln>
        </p:spPr>
      </p:pic>
      <p:sp>
        <p:nvSpPr>
          <p:cNvPr id="30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0A4E-6647-4DB9-A2BA-2B115A8BE6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685800" y="1371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collection of guidelines that help an analyst complete an activity or ta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earning techniques is the key to having expertise in a fiel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"/>
          <p:cNvPicPr/>
          <p:nvPr/>
        </p:nvPicPr>
        <p:blipFill>
          <a:blip r:embed="rId1"/>
          <a:stretch/>
        </p:blipFill>
        <p:spPr>
          <a:xfrm>
            <a:off x="1676520" y="2835360"/>
            <a:ext cx="5715000" cy="3409920"/>
          </a:xfrm>
          <a:prstGeom prst="rect">
            <a:avLst/>
          </a:prstGeom>
          <a:ln w="0">
            <a:noFill/>
          </a:ln>
        </p:spPr>
      </p:pic>
      <p:sp>
        <p:nvSpPr>
          <p:cNvPr id="31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8393-AC97-4A4A-A6E1-F4501FF329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cludes a collection of techniques that are used to complete activities and tasks, including modeling, for every aspect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483520" cy="3861000"/>
          </a:xfrm>
          <a:prstGeom prst="rect">
            <a:avLst/>
          </a:prstGeom>
          <a:ln w="0">
            <a:noFill/>
          </a:ln>
        </p:spPr>
      </p:pic>
      <p:sp>
        <p:nvSpPr>
          <p:cNvPr id="324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1E70-3DE9-48BB-8A6D-B21660106F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wo Approaches to Software Construction and Modeling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685800" y="15238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ructur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arlier approach. Assumes a system is a collection of processes that interact with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alysis, structured design, and structured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bject-Orient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re recent approach. Assumes a system is a collection of objects that interact to complet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O analysis, OO design, and OO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8D77-2BEC-4583-9A8F-ED0091F6AF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685800" y="1295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d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equence, selection/decision, and re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7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034040" cy="4127400"/>
          </a:xfrm>
          <a:prstGeom prst="rect">
            <a:avLst/>
          </a:prstGeom>
          <a:ln w="0">
            <a:noFill/>
          </a:ln>
        </p:spPr>
      </p:pic>
      <p:sp>
        <p:nvSpPr>
          <p:cNvPr id="34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528D-D65A-40ED-891B-52082B0BAA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685800" y="1295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p down, modular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772400" cy="3828960"/>
          </a:xfrm>
          <a:prstGeom prst="rect">
            <a:avLst/>
          </a:prstGeom>
          <a:ln w="0">
            <a:noFill/>
          </a:ln>
        </p:spPr>
      </p:pic>
      <p:sp>
        <p:nvSpPr>
          <p:cNvPr id="349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3DB9-4010-45FB-9077-7B28DC5631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0" y="1523880"/>
            <a:ext cx="25909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d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 chart with data couples sh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7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5405400" cy="4889520"/>
          </a:xfrm>
          <a:prstGeom prst="rect">
            <a:avLst/>
          </a:prstGeom>
          <a:ln w="0">
            <a:noFill/>
          </a:ln>
        </p:spPr>
      </p:pic>
      <p:sp>
        <p:nvSpPr>
          <p:cNvPr id="35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26C5-DD96-453B-8B53-BF6FA5816F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1752480"/>
            <a:ext cx="23623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 (DF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6324480" cy="4937400"/>
          </a:xfrm>
          <a:prstGeom prst="rect">
            <a:avLst/>
          </a:prstGeom>
          <a:ln w="0">
            <a:noFill/>
          </a:ln>
        </p:spPr>
      </p:pic>
      <p:sp>
        <p:nvSpPr>
          <p:cNvPr id="3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2A6A-7AC6-4024-A55A-515C879F96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685800" y="1295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tity-relationship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"/>
          <p:cNvPicPr/>
          <p:nvPr/>
        </p:nvPicPr>
        <p:blipFill>
          <a:blip r:embed="rId1"/>
          <a:stretch/>
        </p:blipFill>
        <p:spPr>
          <a:xfrm>
            <a:off x="255600" y="2176560"/>
            <a:ext cx="8631360" cy="2500200"/>
          </a:xfrm>
          <a:prstGeom prst="rect">
            <a:avLst/>
          </a:prstGeom>
          <a:ln w="0">
            <a:noFill/>
          </a:ln>
        </p:spPr>
      </p:pic>
      <p:sp>
        <p:nvSpPr>
          <p:cNvPr id="37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C1EF-650C-44A4-B40C-80AB00709F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pter 8 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04920" y="15238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stems Development Life Cycle (SDL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upport Phase of the SD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hodologies, Models, Tools and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Approaches to Software Construction and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il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A8BD-A790-45B3-9A04-70235030A4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685800" y="1295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it fit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8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467480" cy="4276440"/>
          </a:xfrm>
          <a:prstGeom prst="rect">
            <a:avLst/>
          </a:prstGeom>
          <a:ln w="0">
            <a:noFill/>
          </a:ln>
        </p:spPr>
      </p:pic>
      <p:sp>
        <p:nvSpPr>
          <p:cNvPr id="38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C317-4E1F-4F8C-AE0F-CA13A72E66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Object-Orient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-oriented analysis (O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process of identifying and defining the use cases and sets of objects (classes) in the new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-oriented design (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fining all of the types of objects necessary to communicate with people and devices and showing how they interact to complete ta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-oriented programming (O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riting statements that define the actual classes and what each object of the class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B288-1163-4C45-8E29-E9EB7B488B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Object-Orient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380880" y="1600200"/>
            <a:ext cx="2514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showing the O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s collaborate to get a task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5562720" cy="5166000"/>
          </a:xfrm>
          <a:prstGeom prst="rect">
            <a:avLst/>
          </a:prstGeom>
          <a:ln w="0">
            <a:noFill/>
          </a:ln>
        </p:spPr>
      </p:pic>
      <p:sp>
        <p:nvSpPr>
          <p:cNvPr id="40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D9B3-BAB0-4A84-819C-2FBE698411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Object-Orient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457200" y="12193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L Design Clas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05360" cy="4418280"/>
          </a:xfrm>
          <a:prstGeom prst="rect">
            <a:avLst/>
          </a:prstGeom>
          <a:ln w="0">
            <a:noFill/>
          </a:ln>
        </p:spPr>
      </p:pic>
      <p:sp>
        <p:nvSpPr>
          <p:cNvPr id="40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51A8-FE0D-4ACD-987E-4BE1257815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Object-Orient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457200" y="12193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L Sequenc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7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4586040"/>
          </a:xfrm>
          <a:prstGeom prst="rect">
            <a:avLst/>
          </a:prstGeom>
          <a:ln w="0">
            <a:noFill/>
          </a:ln>
        </p:spPr>
      </p:pic>
      <p:sp>
        <p:nvSpPr>
          <p:cNvPr id="41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DC1B-2EA0-4DF2-9934-B2576792D8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gile Developmen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457200" y="1219320"/>
            <a:ext cx="7467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guiding philosophy and set of guidelines for developing information systems in an unknown, rapidly chang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ments Adaptive SDLCs and Methodologies that suppor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es adaptive and makes sure developers are fast on their feet to respond to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specific examples of Agile Methodologies/Development Processes are covered in Chapter 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B716-4DC6-4DB4-B9F4-811B9C6008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gile Development Philosophies and Valu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457200" y="1523880"/>
            <a:ext cx="74674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text emphasizes agile values, as stated by the “Manifesto for Agile Develop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alue responding to change over following a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alue individuals and interactions over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alue working software over comprehensive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alue customer collaboration over contract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220D-DF9D-418F-A5E9-B7B726033C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gile Modeling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6" descr=""/>
          <p:cNvPicPr/>
          <p:nvPr/>
        </p:nvPicPr>
        <p:blipFill>
          <a:blip r:embed="rId1"/>
          <a:stretch/>
        </p:blipFill>
        <p:spPr>
          <a:xfrm>
            <a:off x="762120" y="1738440"/>
            <a:ext cx="7543800" cy="4047840"/>
          </a:xfrm>
          <a:prstGeom prst="rect">
            <a:avLst/>
          </a:prstGeom>
          <a:ln w="0">
            <a:noFill/>
          </a:ln>
        </p:spPr>
      </p:pic>
      <p:sp>
        <p:nvSpPr>
          <p:cNvPr id="43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D723-8DEC-4165-B3FC-44954A5741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049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457200" y="1066680"/>
            <a:ext cx="7467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hapter covers approaches to system development in more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two approaches to the SDLC: Predictive and Adap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edictive SDLC, also known as the waterfall model, is used when it is possible to plan the project completely in ad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Adaptive SDLC, which uses iteration, is used when the requirements are less certain and the project will need to react to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text uses an adaptive approach to the S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3520-3AF2-43FA-A9D3-4FFA421ED3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457200" y="914400"/>
            <a:ext cx="74674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new information systems require support once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 development project use a methodology (or development process) and many are available. A methodology includes an SDLC and tools, techniques, an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two approaches to construction and modeling software: the traditional structured approach and the newer object-orien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ile development is the current trend in system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34CF-2701-460F-B42E-BB481B0883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52280" y="914400"/>
            <a:ext cx="83822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the underlying assumptions and uses of a predictive and an adaptive system development life cycle (SDL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Describe the key activities and tasks of information system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Explain what comprises a system development methodology—the SDLC as well as models, tools, and techn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Describe the two overall approaches used for software construction and modeling: the structured approach and the object-oriented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Describe the key features of Agil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E424-261E-4B00-8370-F65C2257B4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1 demonstrated a system development project that used an iterative and agile system development life cycle (SD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ter chapters focused on Systems Analysis activities and tasks and some System Design activities an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we return to look at the SDLC and related concepts in more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dictive versus Adaptive SDLC vari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ities and Tasks of System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dels, Methodologies, Tools and Techn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acts of Traditional versus OO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gile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179E-8C4F-4788-83A7-433778B9B3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he System Development Life Cycle (SDLC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two general approaches to the S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dictiv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fal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es the project can be planned in advance and that the information system can be developed according to th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ments are well understood and/or low technic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aptive Approach to the S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rative model (as see in this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es the project must be more flexible and adapt to changing needs as the project prog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ments and needs are uncertain and/or high technic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8008-B2A7-4EB4-9706-8D7DB05015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he System Development Life Cycle (SDLC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686800" cy="26431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rojects fall on a continuum between Predictive and Ada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E082-22CA-48CE-952A-83F2645C94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ditional Predictive SDL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0492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ier approach based on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ically have sequential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hases are related groups of development activities, such as planning, analysis, design, implementation, and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erfal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DLC that assumes phases can be completed sequentially with no overlap or it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Once one phase is completed, you fall over the waterfall to the next phase, no going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B2C5-7701-4E6C-B533-360019D759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ditional Predictive SDL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016520"/>
          </a:xfrm>
          <a:prstGeom prst="rect">
            <a:avLst/>
          </a:prstGeom>
          <a:ln w="0">
            <a:noFill/>
          </a:ln>
        </p:spPr>
      </p:pic>
      <p:sp>
        <p:nvSpPr>
          <p:cNvPr id="20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6:54:53Z</dcterms:created>
  <dc:creator>John</dc:creator>
  <dc:description/>
  <dc:language>en-US</dc:language>
  <cp:lastModifiedBy>Lee Reising</cp:lastModifiedBy>
  <dcterms:modified xsi:type="dcterms:W3CDTF">2012-02-28T13:58:02Z</dcterms:modified>
  <cp:revision>105</cp:revision>
  <dc:subject/>
  <dc:title>Chapter 1: From bla to bl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