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6D1B-73B5-4D9E-9186-25556131C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C482-75AC-49C6-98BE-802F01247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5BC-44F1-4703-949E-951E49FF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CE4-BE67-414D-A535-CADA98A8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84C-6F0D-44B4-B37D-AFE81C37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04A-70D8-4D5A-A2E0-BBE31AB0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F288-3072-4696-AEE0-1CB240FB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C227-3653-4810-849C-399A980F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79B9-B26B-4132-8EF7-145BC887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F550-12B5-4300-985A-76A2A3A7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ECB5-2009-410F-9C72-9B804265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8D98-9101-4DD7-9171-A8538B57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DABC-69BC-4734-AB11-A8FD09F8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C87-29DF-49AA-B27F-7CC7C32C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0FD6-6703-44CB-80A3-286682B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AF91-4354-43A9-8C4F-36BA6270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D96F-2E4D-48CB-81E0-1BA93210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5FF6-8CED-4954-BD15-3853E716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0E69-2AAC-4836-B4BE-B5E39546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D48-F2B8-4BF5-826E-3CD5B3CE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2F0-1A0E-46EA-9EE8-BDA56E6C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389-CBE7-4BA4-975C-7A81E943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91C-8198-445F-8669-936A6D29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755-FB3F-4EB3-9DD0-104E634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04D-DCE6-47BD-978C-5A5D02A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4FD-E49E-4CCC-9476-E0AA0B1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E0CD-1718-4C4F-9EC1-A708ED8EF4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9E6-883C-4638-91EF-6D315EE7BF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80B7-7F71-4301-9E15-656B1015EF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76212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26DD-BCBA-4295-8E6F-55EC3545F1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Newer Overlapping Phases Predictive SDLC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3547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flexibility, but still assumes predictive planning and sequential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CF95-EF38-4494-84AD-1421B68A02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er Adap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049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d in response to increasingly complex requirements and uncertain technologic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includes iterations where some of design and implementation is done from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velopers claim it is 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ay to develop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IS managers are still scep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0067-5101-4427-A083-FBA2D8E9E7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ral Model</a:t>
            </a:r>
            <a:br>
              <a:rPr sz="39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First Adaptive SDLC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026320" cy="484812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F2C2-649B-45A8-B0D9-0CF0262A20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e Model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opular Way to Represent Adaptive SDLC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659480" cy="487692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B0E0-5956-4862-8B08-23D43A03B9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12204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re Processes vs. Iterations Model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Adaptive SDLC used in this Tex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67720" cy="40989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"/>
          <p:cNvSpPr/>
          <p:nvPr/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s core processes, not phases, plus iterations in a sequence for management check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the Unified Process SDLC (see chapter 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D907-AAB4-40C6-A13A-A30569C77C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itional Adaptive Concep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85800" y="12193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pproach that completes portions of the system in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system is implemented and partially deployed in steps dur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ets part of working system into users’ hands soo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king Sk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pproach in which the complete system structure is built early, but with bare-bon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C2D8-9A51-45AC-9B01-E63F5049B8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DLC Support Ph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information systems need to be supported once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dictive SDLCs typically include support as a projec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ive SDLCs treat support as a separat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tivities whose objective is to  maintain and enhance the system after it is installed and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8B6E-47C0-46FB-A957-91E1F48AC4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port Activ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x problems/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 minor adju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pdate for changes in operating systems or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hanc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d desired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d or change functionality to comply with regulations or legisl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th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going use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lp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099F-247C-4FC6-8BDE-20C2C66A9C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guidelines for every facet of system development: What to do when, why and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an SDLC with activities an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project planning and project management model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analysis and design models to 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implementation and test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deployment and suppor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term used i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ystem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0364-3CD6-477E-B082-70FB04B3A5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abstraction of an important aspect of the real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s it possible to understand a complex concept by focusing only on a relevan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ch model shows a different aspect of the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ucial for communicating proje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IS, some models are of system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odels are used to manage th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pproaches to System Developmen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A474-B929-439E-89DA-AB13A2D935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4478040"/>
          </a:xfrm>
          <a:prstGeom prst="rect">
            <a:avLst/>
          </a:prstGeom>
          <a:ln w="0">
            <a:noFill/>
          </a:ln>
        </p:spPr>
      </p:pic>
      <p:sp>
        <p:nvSpPr>
          <p:cNvPr id="29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7672-C5B7-4619-83D9-CFD407373B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 that assists developers in creating models or other components required for a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934320" cy="286560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533B-C614-4904-BCB9-4F16008975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85800" y="1371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collection of guidelines that help an analyst complete an activity or 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arning techniques is the key to having expertise in a fiel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1"/>
          <a:stretch/>
        </p:blipFill>
        <p:spPr>
          <a:xfrm>
            <a:off x="1676520" y="2835360"/>
            <a:ext cx="5715000" cy="3409920"/>
          </a:xfrm>
          <a:prstGeom prst="rect">
            <a:avLst/>
          </a:prstGeom>
          <a:ln w="0">
            <a:noFill/>
          </a:ln>
        </p:spPr>
      </p:pic>
      <p:sp>
        <p:nvSpPr>
          <p:cNvPr id="3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84C-4675-4E68-9876-92FE34CDB8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cludes a collection of techniques that are used to complete activities and tasks, including modeling, for every aspect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483520" cy="3861000"/>
          </a:xfrm>
          <a:prstGeom prst="rect">
            <a:avLst/>
          </a:prstGeom>
          <a:ln w="0">
            <a:noFill/>
          </a:ln>
        </p:spPr>
      </p:pic>
      <p:sp>
        <p:nvSpPr>
          <p:cNvPr id="32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6601-3F85-4BB7-A5F7-A350D97B39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wo Approaches to Software Construction and Model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85800" y="15238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uctu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rlier approach. Assumes a system is a collection of processes that interact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, structured design, and structur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bject-Orien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re recent approach. Assumes a system is a collection of objects that interact to comple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O analysis, OO design, and OO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30A0-55B8-4FFA-84DC-D7C01FCCE6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685800" y="1295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quence, selection/decision, and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034040" cy="412740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21FD-CCFA-4CA4-B4A1-DE11276C29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 down, modul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772400" cy="3828960"/>
          </a:xfrm>
          <a:prstGeom prst="rect">
            <a:avLst/>
          </a:prstGeom>
          <a:ln w="0">
            <a:noFill/>
          </a:ln>
        </p:spPr>
      </p:pic>
      <p:sp>
        <p:nvSpPr>
          <p:cNvPr id="34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13A1-E4D7-43F1-A04B-EBBF6C08E4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1523880"/>
            <a:ext cx="2590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 chart with data couples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405400" cy="4889520"/>
          </a:xfrm>
          <a:prstGeom prst="rect">
            <a:avLst/>
          </a:prstGeom>
          <a:ln w="0">
            <a:noFill/>
          </a:ln>
        </p:spPr>
      </p:pic>
      <p:sp>
        <p:nvSpPr>
          <p:cNvPr id="35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5CDE-1523-435D-8E90-2696191216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1752480"/>
            <a:ext cx="2362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 (DF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6324480" cy="4937400"/>
          </a:xfrm>
          <a:prstGeom prst="rect">
            <a:avLst/>
          </a:prstGeom>
          <a:ln w="0">
            <a:noFill/>
          </a:ln>
        </p:spPr>
      </p:pic>
      <p:sp>
        <p:nvSpPr>
          <p:cNvPr id="3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DB8-A520-40C4-AB47-07D10764D4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ity-relationship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255600" y="2176560"/>
            <a:ext cx="8631360" cy="2500200"/>
          </a:xfrm>
          <a:prstGeom prst="rect">
            <a:avLst/>
          </a:prstGeom>
          <a:ln w="0">
            <a:noFill/>
          </a:ln>
        </p:spPr>
      </p:pic>
      <p:sp>
        <p:nvSpPr>
          <p:cNvPr id="37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08E9-33ED-4916-9803-996A890D0F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8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15238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stems Development Life Cycle (SD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pport Phase of the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ologies, Models, Tool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Approaches to Software Construction and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EA15-3FDC-4952-8360-642DAD763A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685800" y="1295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t fit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4276440"/>
          </a:xfrm>
          <a:prstGeom prst="rect">
            <a:avLst/>
          </a:prstGeom>
          <a:ln w="0">
            <a:noFill/>
          </a:ln>
        </p:spPr>
      </p:pic>
      <p:sp>
        <p:nvSpPr>
          <p:cNvPr id="3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A3F6-8070-46A9-91B1-F4BEC53637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analysis (O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rocess of identifying and defining the use cases and sets of objects (classes) in the new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design (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 all of the types of objects necessary to communicate with people and devices and showing how they interact to complete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programming (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statements that define the actual classes and what each object of the class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E511-093E-4CA3-825F-FCF5244597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80880" y="160020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owing the O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s collaborate to get a task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5562720" cy="516600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B24E-1B84-49F8-9CA3-C6E8DD7220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457200" y="1219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L Design Cla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05360" cy="4418280"/>
          </a:xfrm>
          <a:prstGeom prst="rect">
            <a:avLst/>
          </a:prstGeom>
          <a:ln w="0">
            <a:noFill/>
          </a:ln>
        </p:spPr>
      </p:pic>
      <p:sp>
        <p:nvSpPr>
          <p:cNvPr id="4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248E-470E-4287-AF53-5563CBFFCB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457200" y="1219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L Sequenc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586040"/>
          </a:xfrm>
          <a:prstGeom prst="rect">
            <a:avLst/>
          </a:prstGeom>
          <a:ln w="0">
            <a:noFill/>
          </a:ln>
        </p:spPr>
      </p:pic>
      <p:sp>
        <p:nvSpPr>
          <p:cNvPr id="4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1F26-9F06-4B97-A8A9-D6611ABAC5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gile Developmen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457200" y="1219320"/>
            <a:ext cx="7467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guiding philosophy and set of guidelines for developing information systems in an unknown, rapidly chang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s Adaptive SDLCs and Methodologies that suppor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s adaptive and makes sure developers are fast on their feet to respond to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specific examples of Agile Methodologies/Development Processes are covered in Chapter 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6084-6FB2-483F-B8F8-DE151FC50E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gile Development Philosophies and Valu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457200" y="1523880"/>
            <a:ext cx="7467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ext emphasizes agile values, as stated by the “Manifesto for Agile Develop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ue responding to change over following 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ue individuals and interactions over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ue working software over comprehensive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ue customer collaboration over contract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1DC9-FC03-44D0-AE52-5DAA78A804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gile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"/>
          <p:cNvPicPr/>
          <p:nvPr/>
        </p:nvPicPr>
        <p:blipFill>
          <a:blip r:embed="rId1"/>
          <a:stretch/>
        </p:blipFill>
        <p:spPr>
          <a:xfrm>
            <a:off x="762120" y="1738440"/>
            <a:ext cx="7543800" cy="4047840"/>
          </a:xfrm>
          <a:prstGeom prst="rect">
            <a:avLst/>
          </a:prstGeom>
          <a:ln w="0">
            <a:noFill/>
          </a:ln>
        </p:spPr>
      </p:pic>
      <p:sp>
        <p:nvSpPr>
          <p:cNvPr id="43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4B3F-14A9-4060-AD70-FAEA657200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57200" y="10666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hapter covers approaches to system development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wo approaches to the SDLC: Predictive and Ada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edictive SDLC, also known as the waterfall model, is used when it is possible to plan the project completely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daptive SDLC, which uses iteration, is used when the requirements are less certain and the project will need to react to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ext uses an adaptive approach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AAE-92CC-4B08-980F-42BED4F936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457200" y="914400"/>
            <a:ext cx="7467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new information systems require support onc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development project use a methodology (or development process) and many are available. A methodology includes an SDLC and tools, techniques, a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wo approaches to construction and modeling software: the traditional structured approach and the newer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ile development is the current trend in system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654-D1AB-4662-84B6-AF1C9DD551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522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underlying assumptions and uses of a predictive and an adaptive system development life cycle (SDL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key activities and tasks of information system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what comprises a system development methodology—the SDLC as well as models, tools, and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two overall approaches used for software construction and modeling: the structured approach and the object-oriented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key features of Agi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10E4-41F9-4B93-ADFD-1163478F89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demonstrated a system development project that used an iterative and agile system development life cycle (SD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chapters focused on Systems Analysis activities and tasks and some System Design activities an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we return to look at the SDLC and related concept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dictive versus Adaptive SDLC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and Tasks of System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, Methodologies, Tools and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acts of Traditional versus OO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9080-B594-46A2-9FBC-487FE9B31F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System Development Life Cycle (SDLC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wo general approaches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dic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fal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s the project can be planned in advance and that the information system can be developed according to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ments are well understood and/or low technic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ve Approach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rative model (as see in this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s the project must be more flexible and adapt to changing needs as the project prog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ments and needs are uncertain and/or high technic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498B-A5F1-44BC-AD7A-A2FD22B448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System Development Life Cycle (SDLC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2643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rojects fall on a continuum between Predictive and 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406B-C84B-4423-87DE-6CF4028788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ditional Predic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049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ier approach based on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ly have sequential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hases are related groups of development activities, such as planning, analysis, design, implementation, 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DLC that assumes phases can be completed sequentially with no overlap or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ce one phase is completed, you fall over the waterfall to the next phase, no go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A65A-29DB-4751-A99C-3C77ED4465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ditional Predic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01652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58:02Z</dcterms:modified>
  <cp:revision>105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