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95D6-7337-48F9-9E36-2C38393E1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F90A-727D-4E0A-8706-410EC9983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9746-8D13-4D82-BE43-ADD499192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E9C7-A5FA-4996-9B6B-243222426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915B-609A-4F0A-B272-ED45D8E93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DFC9-4C24-4097-B6F4-D0D50E07B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D7D6-2C99-43B1-9789-36943B341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4099-7A8B-4133-B7DE-8809BFBE2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9F2-19D8-4DBD-A40B-D4A419265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8250-0DF9-4744-9241-DAB6E47B2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FD1B-7E41-43B1-BF14-D85029CB9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4251-65F8-416F-B70C-B47C6C273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E636-9667-41F4-B6D3-8E2BFC638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B465-FF5A-487C-AE4F-8599AA77D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AD11-AEAE-4BF8-9D6A-817133F52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A6E9-27F1-4C17-90BF-65F00A22D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9FC9-6FE4-4CD3-8505-37A34BAC9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4D21-3D25-4ECB-A115-336206B87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A8BB-A38C-445C-A2EF-029957390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28AF-3CF2-4D75-86E2-08B8D343B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ECDD-64B5-44EB-8480-A7C474B16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1C36-B185-4C49-ADBD-BCC4C0C5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9DB5-FAF8-413D-BF19-4BE4D962A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28ED-BC7A-4E76-BE29-C2EF438E9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8A76-3BA8-4B52-AB53-25BE38CB2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4405-3F22-40F9-9CDA-34D0A93B6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0E4A-E74A-4E37-8A43-62064798D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680" y="415080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764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400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32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68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400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32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764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680" y="415080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764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632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7168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632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764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3"/>
          <p:cNvSpPr/>
          <p:nvPr/>
        </p:nvSpPr>
        <p:spPr>
          <a:xfrm>
            <a:off x="1349280" y="6613560"/>
            <a:ext cx="700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2009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4"/>
          <p:cNvGrpSpPr/>
          <p:nvPr/>
        </p:nvGrpSpPr>
        <p:grpSpPr>
          <a:xfrm>
            <a:off x="239040" y="244440"/>
            <a:ext cx="6215400" cy="1861200"/>
            <a:chOff x="239040" y="244440"/>
            <a:chExt cx="6215400" cy="1861200"/>
          </a:xfrm>
        </p:grpSpPr>
        <p:sp>
          <p:nvSpPr>
            <p:cNvPr id="41" name="Text Box 7"/>
            <p:cNvSpPr/>
            <p:nvPr/>
          </p:nvSpPr>
          <p:spPr>
            <a:xfrm>
              <a:off x="239040" y="244440"/>
              <a:ext cx="4216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99"/>
                  </a:solidFill>
                  <a:latin typeface="Arial"/>
                </a:rPr>
                <a:t>Scott K. Powers  •  Edward T. Howl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Text Box 8"/>
            <p:cNvSpPr/>
            <p:nvPr/>
          </p:nvSpPr>
          <p:spPr>
            <a:xfrm>
              <a:off x="357120" y="1415880"/>
              <a:ext cx="5994360" cy="3988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Theory and Application to Fitness and 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Text Box 9"/>
            <p:cNvSpPr/>
            <p:nvPr/>
          </p:nvSpPr>
          <p:spPr>
            <a:xfrm>
              <a:off x="4661280" y="1798560"/>
              <a:ext cx="17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99"/>
                  </a:solidFill>
                  <a:latin typeface="Arial"/>
                </a:rPr>
                <a:t>SEVENTH E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WordArt 10"/>
            <p:cNvSpPr txBox="1"/>
            <p:nvPr/>
          </p:nvSpPr>
          <p:spPr>
            <a:xfrm>
              <a:off x="363600" y="635040"/>
              <a:ext cx="5967360" cy="67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006699">
                        <a:alpha val="65000"/>
                      </a:srgbClr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Exercise Physiology</a:t>
              </a:r>
              <a:endParaRPr b="1" lang="en-US" sz="4800" spc="1" strike="noStrike">
                <a:ln w="19080">
                  <a:solidFill>
                    <a:srgbClr val="006699">
                      <a:alpha val="65000"/>
                    </a:srgbClr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5" name="Group 20"/>
          <p:cNvGrpSpPr/>
          <p:nvPr/>
        </p:nvGrpSpPr>
        <p:grpSpPr>
          <a:xfrm>
            <a:off x="253080" y="2540160"/>
            <a:ext cx="1043280" cy="1428120"/>
            <a:chOff x="253080" y="2540160"/>
            <a:chExt cx="1043280" cy="1428120"/>
          </a:xfrm>
        </p:grpSpPr>
        <p:sp>
          <p:nvSpPr>
            <p:cNvPr id="46" name="Text Box 14"/>
            <p:cNvSpPr/>
            <p:nvPr/>
          </p:nvSpPr>
          <p:spPr>
            <a:xfrm>
              <a:off x="253080" y="25401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99"/>
                  </a:solidFill>
                  <a:latin typeface="Arial"/>
                </a:rPr>
                <a:t>Chap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18"/>
            <p:cNvSpPr txBox="1"/>
            <p:nvPr/>
          </p:nvSpPr>
          <p:spPr>
            <a:xfrm>
              <a:off x="514440" y="2952360"/>
              <a:ext cx="507960" cy="101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25560">
                    <a:solidFill>
                      <a:srgbClr val="006699"/>
                    </a:solidFill>
                    <a:miter/>
                  </a:ln>
                  <a:solidFill>
                    <a:srgbClr val="006699">
                      <a:alpha val="20000"/>
                    </a:srgbClr>
                  </a:solidFill>
                  <a:latin typeface="Arial"/>
                </a:rPr>
                <a:t>2</a:t>
              </a:r>
              <a:endParaRPr b="1" lang="en-US" sz="7200" spc="1" strike="noStrike">
                <a:ln w="25560">
                  <a:solidFill>
                    <a:srgbClr val="006699"/>
                  </a:solidFill>
                  <a:miter/>
                </a:ln>
                <a:solidFill>
                  <a:srgbClr val="006699">
                    <a:alpha val="20000"/>
                  </a:srgbClr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8" name="Picture 1028" descr=""/>
          <p:cNvPicPr/>
          <p:nvPr/>
        </p:nvPicPr>
        <p:blipFill>
          <a:blip r:embed="rId2"/>
          <a:stretch/>
        </p:blipFill>
        <p:spPr>
          <a:xfrm>
            <a:off x="0" y="5159520"/>
            <a:ext cx="9144000" cy="1269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29"/>
          <p:cNvSpPr/>
          <p:nvPr/>
        </p:nvSpPr>
        <p:spPr>
          <a:xfrm>
            <a:off x="1349280" y="6513480"/>
            <a:ext cx="681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2009 The McGraw-Hill Companies, Inc. Permission required for reproduction or display outside of classroom u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57360" y="291888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ntrol of the Internal Environmen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ntrol Systems of the Bod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cellular control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breakdown and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of stored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and circulator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enish oxygen and remove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28"/>
          <p:cNvSpPr/>
          <p:nvPr/>
        </p:nvSpPr>
        <p:spPr>
          <a:xfrm>
            <a:off x="5824080" y="12600"/>
            <a:ext cx="33184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 Systems of the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n-Biological Control System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106960" y="1413000"/>
            <a:ext cx="40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 thermostat-controlled heating/cool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275440" y="256860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n increase in temperature above the set point signals the air conditioner to turn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389560" y="430848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 decrease in room temperature below the set point results in turning on the furn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1"/>
          <a:stretch/>
        </p:blipFill>
        <p:spPr>
          <a:xfrm>
            <a:off x="449280" y="1295280"/>
            <a:ext cx="4605480" cy="52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iological Control System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es of interconnected components that maintain a physical or chemical parameter at a near constant valu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or recepto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s changes i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cen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es input and initiates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ternal environment back to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28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mponents of a Biological Control System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732800" y="6402240"/>
            <a:ext cx="136044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92440" y="16714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omponents of a biological contro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5" descr=""/>
          <p:cNvPicPr/>
          <p:nvPr/>
        </p:nvPicPr>
        <p:blipFill>
          <a:blip r:embed="rId1"/>
          <a:stretch/>
        </p:blipFill>
        <p:spPr>
          <a:xfrm>
            <a:off x="1959120" y="2219400"/>
            <a:ext cx="4825800" cy="40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gative Feedback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9800" y="1523520"/>
            <a:ext cx="821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reverses the initial disturbance in homeost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extracellular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ggers a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information to respiratory contro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muscles are activated to increase brea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returns t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ontrol systems work vi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itive Feedback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9800" y="1523520"/>
            <a:ext cx="821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increases the original stimul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on of childbirth stimulates receptors in cerv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message to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oxytocin from pituitary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tocin promotes increased uterine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ain of a control system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523520"/>
            <a:ext cx="821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gree to which a control system maintains homeostas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with large gain is more capable of maintaining homeostasis than system with low 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and cardiovascular systems ha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g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 Summar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iological control system is composed of a sensor, a control center, and an effect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ntrol systems act by way of negative feedbac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to which a control system maintains homeostasis is term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in of th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 control system with a large gain is more capable of maintaining homeostasis than a system with a low ga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amples of Homeostatic Control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1680" y="1609560"/>
            <a:ext cx="8051760" cy="49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 of body temp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ceptors send message to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by skin blood vessels and sweat glands regulates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 of blood 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the hormone ins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be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of blood glucose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 of cellular homeost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proteins (heat shock prote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ir damaged proteins to restore homeostasis in response to changes in temperature, pH, and free rad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30244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30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gulation of Body Temperatur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390920" y="1557360"/>
            <a:ext cx="43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Negative feedback mechanism to regulate body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529920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84280" y="1209600"/>
            <a:ext cx="370188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the term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meosta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ady s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ram and discuss a biological control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 an example of a biological control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 the term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what is meant by the gain of a control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30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gulation of Blood Glucos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 Box 1032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33"/>
          <p:cNvSpPr/>
          <p:nvPr/>
        </p:nvSpPr>
        <p:spPr>
          <a:xfrm>
            <a:off x="2217600" y="177336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llustration of the regulation of blood glucose concen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34"/>
          <p:cNvSpPr/>
          <p:nvPr/>
        </p:nvSpPr>
        <p:spPr>
          <a:xfrm>
            <a:off x="6512040" y="372420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 pancreas acts as both the sensor and effector or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35"/>
          <p:cNvSpPr/>
          <p:nvPr/>
        </p:nvSpPr>
        <p:spPr>
          <a:xfrm>
            <a:off x="0" y="4594320"/>
            <a:ext cx="23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Negative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36"/>
          <p:cNvSpPr/>
          <p:nvPr/>
        </p:nvSpPr>
        <p:spPr>
          <a:xfrm>
            <a:off x="529920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37" descr=""/>
          <p:cNvPicPr/>
          <p:nvPr/>
        </p:nvPicPr>
        <p:blipFill>
          <a:blip r:embed="rId1"/>
          <a:stretch/>
        </p:blipFill>
        <p:spPr>
          <a:xfrm>
            <a:off x="1951200" y="2475000"/>
            <a:ext cx="42894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283680"/>
            <a:ext cx="86457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linical Applications 2.1</a:t>
            </a:r>
            <a:br>
              <a:rPr sz="28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ailure of a Biological Control System Results in Diseas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2187360"/>
            <a:ext cx="80517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ure of any component of a control system results in a disturbance of homeost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1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age to beta cells in pan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lin is no longer released into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glycemia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presents failure of “effe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28"/>
          <p:cNvSpPr/>
          <p:nvPr/>
        </p:nvSpPr>
        <p:spPr>
          <a:xfrm>
            <a:off x="529920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9120" y="296640"/>
            <a:ext cx="8645760" cy="14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earch Focus 2.2</a:t>
            </a:r>
            <a:br>
              <a:rPr sz="28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ress Proteins Help Maintain Cellular Homeostasi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2187720"/>
            <a:ext cx="80517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synthesize “stress proteins” when homeostasis is disrup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hock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sses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ellular energ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ations in cell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damage by free rad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ise induces these st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28"/>
          <p:cNvSpPr/>
          <p:nvPr/>
        </p:nvSpPr>
        <p:spPr>
          <a:xfrm>
            <a:off x="529920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30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ample of Homeostatic Control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ellular Stress Respons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427040" y="1749600"/>
            <a:ext cx="63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he cellular stress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29920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4" descr=""/>
          <p:cNvPicPr/>
          <p:nvPr/>
        </p:nvPicPr>
        <p:blipFill>
          <a:blip r:embed="rId1"/>
          <a:stretch/>
        </p:blipFill>
        <p:spPr>
          <a:xfrm>
            <a:off x="1654200" y="2303640"/>
            <a:ext cx="5630760" cy="42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rcis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ise disrupts homeostasis by changes in pH,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emp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systems are capable of maintaining steady state during submaximal exercise in a cool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e exercise or prolonged exercise in a hot/humid environment may exceed the ability to maintain steady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sult in fatigue and cessation of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626720" y="12600"/>
            <a:ext cx="45486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: A Test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 Summar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 represents a challenge to the body’s control systems to maintain homeostasis. In general, the body’s control systems are capable of maintaining a steady state during most types of exercise in a cool environment. However, intense exercise or prolonged work in a hostile environment (i.e., high temperature/ humidity) may exceed the ability of a control system to maintain steady state, and severe disturbances of homeostasis may occ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4605840" y="12600"/>
            <a:ext cx="45486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: A Test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udy Question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meosta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How does it differ from the ter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eady s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e an example of a biological homeostasis control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simple diagram that demonstrates the relationship between the components of a biological control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efly, explain the role of the sensor, the integrating center, and the effector organ in a biological control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ain the term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Give a biological example of negative feedb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the concept of gain associated with a biological control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3680" y="1790280"/>
            <a:ext cx="2917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ostasis: Dynamic Consta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Systems of the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e of the Control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n of a Contro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3201840" y="1785960"/>
            <a:ext cx="29178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gulation of Body Tempe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gulation of Blood Gluc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ress Proteins Assist in the Regulation of Cellular Homeost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6084720" y="1770120"/>
            <a:ext cx="29181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rcise: A Test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earch Focus 2.1</a:t>
            </a:r>
            <a:br>
              <a:rPr sz="28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w to Understand Graph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illustrate relationships between two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x-axis (horizo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ed by resea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y-axis (vert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as a function of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979720" y="14716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he relationship between heart rate and exercise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earch Focus 2.1</a:t>
            </a:r>
            <a:br>
              <a:rPr sz="28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w to Understand Graph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499640" y="607212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ndependent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39760" y="3592440"/>
            <a:ext cx="26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ependent variab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hanges as a function of exercise intens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7" descr="F02-01"/>
          <p:cNvPicPr/>
          <p:nvPr/>
        </p:nvPicPr>
        <p:blipFill>
          <a:blip r:embed="rId1"/>
          <a:stretch/>
        </p:blipFill>
        <p:spPr>
          <a:xfrm>
            <a:off x="3086280" y="2089080"/>
            <a:ext cx="4709880" cy="40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meostasis: Dynamic Constan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of a constant and “normal” in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ady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al variable is unchanging, but not necessarily “norm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between demands placed on body and the body’s response to those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263560" y="12600"/>
            <a:ext cx="392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ostasis: Dynamic Const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35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nges in Body Core Temperature During Exercis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54120" y="1893960"/>
            <a:ext cx="52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hanges in body core temperature during submaximal exerc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5969160" y="356868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Body temperature reaches a plateau (steady 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249520" y="12600"/>
            <a:ext cx="392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ostasis: Dynamic Const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"/>
          <p:cNvPicPr/>
          <p:nvPr/>
        </p:nvPicPr>
        <p:blipFill>
          <a:blip r:embed="rId1"/>
          <a:stretch/>
        </p:blipFill>
        <p:spPr>
          <a:xfrm>
            <a:off x="560520" y="2700360"/>
            <a:ext cx="515592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nges in Arterial Blood Pressur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 Res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76440" y="195408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hanges in arterial blood pressure at 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657760" y="3627360"/>
            <a:ext cx="30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lthough arterial pressure oscillates over time, mean pressure remains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246280" y="12600"/>
            <a:ext cx="392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ostasis: Dynamic Const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6" descr=""/>
          <p:cNvPicPr/>
          <p:nvPr/>
        </p:nvPicPr>
        <p:blipFill>
          <a:blip r:embed="rId1"/>
          <a:stretch/>
        </p:blipFill>
        <p:spPr>
          <a:xfrm>
            <a:off x="793800" y="2577960"/>
            <a:ext cx="4452840" cy="38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 Summar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meosta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efined as the maintenance of a constant or unchanging “normal” internal environment during unstressed condi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eady st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lso defined as a constant internal environment, but this does not necessarily mean that the internal environment is at rest and normal. When the body is in a steady state, a balance has been achieved between the demands placed on the body and the body’s response to those dema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249520" y="12600"/>
            <a:ext cx="392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ostasis: Dynamic Const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46:14Z</dcterms:created>
  <dc:creator>Brian B. Parr, Ph.D.</dc:creator>
  <dc:description/>
  <cp:keywords/>
  <dc:language>en-US</dc:language>
  <cp:lastModifiedBy>sai</cp:lastModifiedBy>
  <cp:lastPrinted>2008-06-09T17:59:05Z</cp:lastPrinted>
  <dcterms:modified xsi:type="dcterms:W3CDTF">2012-01-04T07:15:31Z</dcterms:modified>
  <cp:revision>129</cp:revision>
  <dc:subject>Powers &amp; Howley: Exercise Physiology, 7th Edition</dc:subject>
  <dc:title>Chapter 2</dc:title>
</cp:coreProperties>
</file>