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3DFE0-415F-4ED3-8716-A27482842D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E55BC-D7F0-42C0-B88E-B229B16C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C729C-F977-4F82-B751-6634C01B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CD3D-6F63-4441-9EEF-4578772162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7C49E-6C8A-4AC1-8ED3-9975FCA7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BF78E-75A9-4916-87F2-31241ED2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EB53B7-9698-4D5F-A86F-F8CDE323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B974B-EF9A-4C92-BE00-5A922E7E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CD4A6-3CDC-4C60-8692-D41DCA1A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FA5BE-07DE-4F8B-BA0D-D6DDF24B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D11C2-55F7-409D-B10A-FED13CF1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A81ED-8B60-4CA9-882D-1FEACD64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7E380-B2AC-400A-98D8-F896D1B13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B20C1-899C-40BB-994A-7A724A3E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18533-0735-4A5E-8354-2F3E0506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489F0-43EB-471D-BAAC-5E25C003B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2BD1F-8DCB-4612-B119-7B2349F6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EEFF-FE9D-46A2-950E-010B17A6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7D891-41A3-4370-A9C2-BEE1A365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DAC7D-69E2-4AD2-87AB-6F9391E94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B6E6-39FF-4EC2-A48E-21B877AD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F4FFB-387F-450B-86DF-3CF125E9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1BA7-8B94-4287-AA78-70123156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577DE-6A1C-409D-BDA2-5B4FA72C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6776-77AB-40C8-BF7B-09A1C206FA14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6"/>
          <p:cNvSpPr/>
          <p:nvPr/>
        </p:nvSpPr>
        <p:spPr>
          <a:xfrm>
            <a:off x="2660760" y="63468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© 2011 Cengage Learning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" name="Picture 10" descr="oranges.jpg"/>
          <p:cNvPicPr/>
          <p:nvPr/>
        </p:nvPicPr>
        <p:blipFill>
          <a:blip r:embed="rId9"/>
          <a:stretch/>
        </p:blipFill>
        <p:spPr>
          <a:xfrm>
            <a:off x="190440" y="179280"/>
            <a:ext cx="660600" cy="98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" name="AutoShape 1027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1028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AutoShape 1029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Line 1030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pic>
        <p:nvPicPr>
          <p:cNvPr id="51" name="Picture 16" descr="Florida beach house.jpg"/>
          <p:cNvPicPr/>
          <p:nvPr/>
        </p:nvPicPr>
        <p:blipFill>
          <a:blip r:embed="rId2"/>
          <a:stretch/>
        </p:blipFill>
        <p:spPr>
          <a:xfrm>
            <a:off x="409680" y="1523880"/>
            <a:ext cx="19526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2630520" y="6253200"/>
            <a:ext cx="389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1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884B-3325-4D34-B09B-C44F34C92E5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87520" y="1509480"/>
            <a:ext cx="640080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000" spc="-1" strike="noStrike">
                <a:solidFill>
                  <a:srgbClr val="ffffff"/>
                </a:solidFill>
                <a:latin typeface="Arial"/>
              </a:rPr>
              <a:t>الاستثمار العقاري</a:t>
            </a:r>
            <a:br>
              <a:rPr sz="26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723960" y="4267080"/>
            <a:ext cx="73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AE" sz="4000" spc="-1" strike="noStrike">
                <a:solidFill>
                  <a:srgbClr val="003399"/>
                </a:solidFill>
                <a:latin typeface="Arial"/>
              </a:rPr>
              <a:t>العقارات كاستثمار</a:t>
            </a: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800" spc="-1" strike="noStrike">
                <a:solidFill>
                  <a:srgbClr val="ffffff"/>
                </a:solidFill>
                <a:latin typeface="Arial"/>
              </a:rPr>
              <a:t>مقارنه بين استثمار العقارات و انواع الاستثمارات الاخرى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معادن الثمين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سند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رهن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اسه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سلع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شهادات الايداع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مقتني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Picture 4" descr="85-371091151"/>
          <p:cNvPicPr/>
          <p:nvPr/>
        </p:nvPicPr>
        <p:blipFill>
          <a:blip r:embed="rId8"/>
          <a:stretch/>
        </p:blipFill>
        <p:spPr>
          <a:xfrm>
            <a:off x="6156360" y="3497400"/>
            <a:ext cx="1428840" cy="12096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قيمه الارض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228680" y="1725480"/>
            <a:ext cx="2025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438360" y="252576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Arial"/>
              </a:rPr>
              <a:t>التنجيم</a:t>
            </a:r>
            <a:r>
              <a:rPr b="1" lang="ar-JO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647720" y="1751040"/>
            <a:ext cx="240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Arial"/>
              </a:rPr>
              <a:t>الزراع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695840" y="3300480"/>
            <a:ext cx="164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Arial"/>
              </a:rPr>
              <a:t>التنقيب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156360" y="406224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0000"/>
                </a:solidFill>
                <a:latin typeface="Arial"/>
              </a:rPr>
              <a:t>التطوير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6" name="Picture 10" descr="CAG9EJ0L"/>
          <p:cNvPicPr/>
          <p:nvPr/>
        </p:nvPicPr>
        <p:blipFill>
          <a:blip r:embed="rId1"/>
          <a:stretch/>
        </p:blipFill>
        <p:spPr>
          <a:xfrm>
            <a:off x="1066680" y="3924360"/>
            <a:ext cx="3022560" cy="193032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الارض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39880" y="1968480"/>
            <a:ext cx="679464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انماط العمل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انماط المعيش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تطوير الاراضي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التحركات التجاري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فئات استخدام الاراضي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71800" y="2437920"/>
            <a:ext cx="5562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للسكن الاحادي (البيت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تجمعات السكن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اراضي التي يقام عليها التجمعات  التجار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اراضي التي يقام عليها تجمعات سكن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5"/>
          <a:stretch/>
        </p:blipFill>
        <p:spPr>
          <a:xfrm>
            <a:off x="814320" y="2832120"/>
            <a:ext cx="1852560" cy="1627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الحصول على الملكيه العقاريه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3399"/>
                </a:solidFill>
                <a:latin typeface="Arial"/>
              </a:rPr>
              <a:t>سعر الشراء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3399"/>
                </a:solidFill>
                <a:latin typeface="Arial"/>
              </a:rPr>
              <a:t>تكلفه البحث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3399"/>
                </a:solidFill>
                <a:latin typeface="Arial"/>
              </a:rPr>
              <a:t>سعر النقد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3399"/>
                </a:solidFill>
                <a:latin typeface="Arial"/>
              </a:rPr>
              <a:t>شروط الدفعات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3399"/>
                </a:solidFill>
                <a:latin typeface="Arial"/>
              </a:rPr>
              <a:t>تكاليف جاري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3399"/>
                </a:solidFill>
                <a:latin typeface="Arial"/>
              </a:rPr>
              <a:t>الضرائب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3399"/>
                </a:solidFill>
                <a:latin typeface="Arial"/>
              </a:rPr>
              <a:t>الفائد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3399"/>
                </a:solidFill>
                <a:latin typeface="Arial"/>
              </a:rPr>
              <a:t>الصيانه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3399"/>
                </a:solidFill>
                <a:latin typeface="Arial"/>
              </a:rPr>
              <a:t>التأمين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تقييم التكلفه الاولي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181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تكلفه الفرصه البديل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دراسه الجدوى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رسوم التخطيط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التكلفه البيئيه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3399"/>
                </a:solidFill>
                <a:latin typeface="Arial"/>
              </a:rPr>
              <a:t>رسوم التقييم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6"/>
          <a:stretch/>
        </p:blipFill>
        <p:spPr>
          <a:xfrm>
            <a:off x="5749920" y="2425680"/>
            <a:ext cx="2598840" cy="33274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تكاليف اخرى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تكلفه القانون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رسوم المحاسب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تكلفه المهندسين و العمار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رسوم تمويل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ey Term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36560" y="1447560"/>
            <a:ext cx="354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لتقدير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تحمل الرسو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لضمان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ارض التجار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لخطر الافتراضي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432320" y="144756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تقارير دراسات الجدوى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كساد العظي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خطر التضخ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سعر الفائد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Key Term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سيول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نماط المعش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خيار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شراء الرهن العقاري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ارض الخام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لاصول الملموس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ff0000"/>
                </a:solidFill>
                <a:latin typeface="Arial"/>
              </a:rPr>
              <a:t>القيمه المضاف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الفرص في قطاع العقارات</a:t>
            </a: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060360" y="1599840"/>
            <a:ext cx="547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لعقارات مقارنه مع قطاعات الاستثمار الاخرى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003399"/>
                </a:solidFill>
                <a:latin typeface="Arial"/>
              </a:rPr>
              <a:t>الاستثمار و قيم الاستثمار</a:t>
            </a:r>
            <a:r>
              <a:rPr b="1" lang="ar-JO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a50021"/>
                </a:solidFill>
                <a:latin typeface="Arial"/>
              </a:rPr>
              <a:t>الدخل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a50021"/>
                </a:solidFill>
                <a:latin typeface="Arial"/>
              </a:rPr>
              <a:t>ارتفاع الثمن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000" spc="-1" strike="noStrike">
                <a:solidFill>
                  <a:srgbClr val="a50021"/>
                </a:solidFill>
                <a:latin typeface="Arial"/>
              </a:rPr>
              <a:t>القيمه المكتسبه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4" name="Picture 6" descr="80-400703995"/>
          <p:cNvPicPr/>
          <p:nvPr/>
        </p:nvPicPr>
        <p:blipFill>
          <a:blip r:embed="rId7"/>
          <a:stretch/>
        </p:blipFill>
        <p:spPr>
          <a:xfrm>
            <a:off x="898560" y="2827440"/>
            <a:ext cx="1428840" cy="130500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nvestment Opportunitie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01800" y="1599840"/>
            <a:ext cx="763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0000"/>
                </a:solidFill>
                <a:latin typeface="Arial"/>
              </a:rPr>
              <a:t>لغايات الدخل ___القروض العقار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ff0000"/>
                </a:solidFill>
                <a:latin typeface="Arial"/>
              </a:rPr>
              <a:t>لغايات ارتفاع الثمن ___ الارض الغير خاضعه للتنظيم</a:t>
            </a:r>
            <a:r>
              <a:rPr b="0" lang="ar-JO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لغايات القيمه المضافه____ تطوير الوحدات السكن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الكساد العظيم</a:t>
            </a:r>
            <a:r>
              <a:rPr b="1" lang="ar-JO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06520" y="1533240"/>
            <a:ext cx="640224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فقاعه العقار السكني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201"/>
              </a:spcBef>
              <a:buSzPct val="2882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أجراءات حكوميه من اجل التخفيف من المشكل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نخفاض كبير في قيم البيوت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لتعافي بهذه الحاله قد يشكل فرصه استثماريه جيد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702480" y="45194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0" name="Content Placeholder 4" descr="graph up and down.JPG"/>
          <p:cNvPicPr/>
          <p:nvPr/>
        </p:nvPicPr>
        <p:blipFill>
          <a:blip r:embed="rId6"/>
          <a:stretch/>
        </p:blipFill>
        <p:spPr>
          <a:xfrm>
            <a:off x="5591160" y="4589640"/>
            <a:ext cx="3032280" cy="166176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800" spc="-1" strike="noStrike">
                <a:solidFill>
                  <a:srgbClr val="ffffff"/>
                </a:solidFill>
                <a:latin typeface="Arial"/>
              </a:rPr>
              <a:t>حسنات الاستثمار بقطاع العقارات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01880" y="1533240"/>
            <a:ext cx="612288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العائد على الاستثمار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لدخل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زياده في رأس المال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3399"/>
                </a:solidFill>
                <a:latin typeface="Arial"/>
              </a:rPr>
              <a:t>حسنات اخرى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غطاء من الضرائب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تستعمل كضمان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لارض تعتبر من الاستثمارات الملموس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3399"/>
                </a:solidFill>
                <a:latin typeface="Arial"/>
              </a:rPr>
              <a:t>التفاخر بالملكيه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10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1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1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800" spc="-1" strike="noStrike">
                <a:solidFill>
                  <a:srgbClr val="ffffff"/>
                </a:solidFill>
                <a:latin typeface="Arial"/>
              </a:rPr>
              <a:t>سيئات الاستثمار بالعقارات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تكلفه التراخيص ورسوم البلدي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قله السيول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قله تدفق المعلومات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محدوديه البائعون و المشترين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More Disadvantages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لتباين يطبيعه المنتج (العقارات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استثمار طويل الامد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متطلبات الادار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مخاطر الملك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تشدد و تقلب الانظمه والقوانين الحكوميه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3399"/>
                </a:solidFill>
                <a:latin typeface="Arial"/>
              </a:rPr>
              <a:t>تغير و تقلب سوق العقار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9:45:42Z</dcterms:created>
  <dc:creator>Karen Loftus</dc:creator>
  <dc:description>k.l.lotus@comcst.net</dc:description>
  <dc:language>en-US</dc:language>
  <cp:lastModifiedBy>Administrator</cp:lastModifiedBy>
  <dcterms:modified xsi:type="dcterms:W3CDTF">2011-02-20T06:50:26Z</dcterms:modified>
  <cp:revision>106</cp:revision>
  <dc:subject/>
  <dc:title>Slide 1</dc:title>
</cp:coreProperties>
</file>