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53E9-80C0-4826-9CAD-4EF0A27C1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A98-C604-43B0-8F8E-0481588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766C-42F8-4219-864F-1D50492A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69F6-7593-409A-B113-484395E21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F0A1-91FF-4823-902C-BE02D7B9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9622F-3D58-4228-922A-CB4F3167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A30D-A228-4492-BA8B-8BDEEB2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F20C9-92CD-462F-AF9B-73F44AB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C0C3-7E87-4925-9208-5D04D25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87033-5A4A-45D9-9547-D1F7441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60D01-7D74-4D6A-9294-ECF8777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433A-B438-4997-AA12-7734C06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19F1A-3299-4B00-8FF9-3A12261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5D4BB-6DB5-484B-87E7-C34C26B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E1469-336C-4BAD-9083-A8624A25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6916E-6009-4E57-8579-B4D5D81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4237-6B1A-452E-B35C-73F7C64E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A5E4-442D-4260-8ECD-49FB16A7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2489-7FDE-4A6A-B6D7-7BB971E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5CCC-7134-43F2-BFF5-E6C69879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4540-7AB8-4967-9FF4-CBCC2A9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D1AD-E082-4538-AF53-39E16EF8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E4A5-DA3C-4B45-AC22-EB10D37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71F8-34FD-4158-9F76-973EE0B2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116-44F0-4E96-8D07-F5487A98BAA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E2C-6322-44D1-9C08-35299A37338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ff"/>
                </a:solidFill>
                <a:latin typeface="Arial"/>
              </a:rPr>
              <a:t>الاستثمار العقاري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23960" y="4267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</a:rPr>
              <a:t>العقارات كاستثمار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مقارنه بين استثمار العقارات و انواع الاستثمارات الاخرى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معادن الثمين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سند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ره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سه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سل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شهادات الايدا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مقتني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4" descr="85-371091151"/>
          <p:cNvPicPr/>
          <p:nvPr/>
        </p:nvPicPr>
        <p:blipFill>
          <a:blip r:embed="rId8"/>
          <a:stretch/>
        </p:blipFill>
        <p:spPr>
          <a:xfrm>
            <a:off x="6156360" y="34974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قيمه الارض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8680" y="1725480"/>
            <a:ext cx="202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438360" y="25257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نجيم</a:t>
            </a: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47720" y="175104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زراع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695840" y="3300480"/>
            <a:ext cx="16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نقي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156360" y="406224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طوير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Picture 10" descr="CAG9EJ0L"/>
          <p:cNvPicPr/>
          <p:nvPr/>
        </p:nvPicPr>
        <p:blipFill>
          <a:blip r:embed="rId1"/>
          <a:stretch/>
        </p:blipFill>
        <p:spPr>
          <a:xfrm>
            <a:off x="1066680" y="3924360"/>
            <a:ext cx="302256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ارض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39880" y="1968480"/>
            <a:ext cx="67946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نماط العمل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نماط المعيش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تطوير الاراضي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لتحركات التجاري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فئات استخدام الاراض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1800" y="2437920"/>
            <a:ext cx="5562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للسكن الاحادي (البيت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جمعات ال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راضي التي يقام عليها التجمعات  التج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راضي التي يقام عليها تجمعات 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5"/>
          <a:stretch/>
        </p:blipFill>
        <p:spPr>
          <a:xfrm>
            <a:off x="814320" y="2832120"/>
            <a:ext cx="185256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حصول على الملكيه العقاريه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سعر الشراء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تكلفه البحث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سعر النقد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شروط الدفعات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تكاليف جاري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ضرائب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فائد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صيان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تأمين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تقييم التكلفه الاول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8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تكلفه الفرصه البديل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دراسه الجدو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رسوم التخطيط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لتكلفه البيئي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رسوم التقييم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5749920" y="2425680"/>
            <a:ext cx="2598840" cy="3327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تكاليف اخرى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كلفه القانو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رسوم المحاسب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كلفه المهندسين و العمار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رسوم تمويل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6560" y="1447560"/>
            <a:ext cx="354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تقدي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تحمل الرسو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ضمان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ارض التج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خطر الافتراض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3232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تقارير دراسات الجدوى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كساد العظي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خطر التضخ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سعر الفائد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سيول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نماط المعش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خيار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شراء الرهن العقار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ارض الخا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اصول الملموس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قيمه المضاف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فرص في قطاع العقارات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60360" y="1599840"/>
            <a:ext cx="547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عقارات مقارنه مع قطاعات الاستثمار الاخر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3399"/>
                </a:solidFill>
                <a:latin typeface="Arial"/>
              </a:rPr>
              <a:t>الاستثمار و قيم الاستثمار</a:t>
            </a:r>
            <a:r>
              <a:rPr b="1" lang="ar-JO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لدخل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رتفاع الثمن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لقيمه المكتسبه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Picture 6" descr="80-400703995"/>
          <p:cNvPicPr/>
          <p:nvPr/>
        </p:nvPicPr>
        <p:blipFill>
          <a:blip r:embed="rId7"/>
          <a:stretch/>
        </p:blipFill>
        <p:spPr>
          <a:xfrm>
            <a:off x="898560" y="282744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vestment Opportuniti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لغايات الدخل ___القروض العق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لغايات ارتفاع الثمن ___ الارض الغير خاضعه للتنظيم</a:t>
            </a: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لغايات القيمه المضافه____ تطوير الوحدات ال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كساد العظيم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6520" y="1533240"/>
            <a:ext cx="64022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فقاعه العقار السكني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SzPct val="2882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أجراءات حكوميه من اجل التخفيف من المشكل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نخفاض كبير في قيم البيوت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تعافي بهذه الحاله قد يشكل فرصه استثماريه جيد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Content Placeholder 4" descr="graph up and down.JPG"/>
          <p:cNvPicPr/>
          <p:nvPr/>
        </p:nvPicPr>
        <p:blipFill>
          <a:blip r:embed="rId6"/>
          <a:stretch/>
        </p:blipFill>
        <p:spPr>
          <a:xfrm>
            <a:off x="5591160" y="4589640"/>
            <a:ext cx="3032280" cy="16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800" spc="-1" strike="noStrike">
                <a:solidFill>
                  <a:srgbClr val="ffffff"/>
                </a:solidFill>
                <a:latin typeface="Arial"/>
              </a:rPr>
              <a:t>حسنات الاستثمار بقطاع العقارات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1880" y="1533240"/>
            <a:ext cx="61228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عائد على الاستثما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دخل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زياده في رأس المال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حسنات اخرى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غطاء من الضرائ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تستعمل كضمان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ارض تعتبر من الاستثمارات الملموس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تفاخر بالملكي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800" spc="-1" strike="noStrike">
                <a:solidFill>
                  <a:srgbClr val="ffffff"/>
                </a:solidFill>
                <a:latin typeface="Arial"/>
              </a:rPr>
              <a:t>سيئات الاستثمار بالعقارات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كلفه التراخيص ورسوم البلدي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قله السيول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قله تدفق المعلوم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حدوديه البائعون و المشتري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More Disadvantag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باين يطبيعه المنتج (العقارات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ستثمار طويل الام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تطلبات الادار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خاطر الملك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شدد و تقلب الانظمه والقوانين الحكوم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غير و تقلب سوق العقا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2-20T06:50:26Z</dcterms:modified>
  <cp:revision>106</cp:revision>
  <dc:subject/>
  <dc:title>Slide 1</dc:title>
</cp:coreProperties>
</file>