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7.wmf" ContentType="image/x-wmf"/>
  <Override PartName="/ppt/media/image15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4.jpeg" ContentType="image/jpeg"/>
  <Override PartName="/ppt/media/image16.wmf" ContentType="image/x-wmf"/>
  <Override PartName="/ppt/media/image2.wmf" ContentType="image/x-wmf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FF2C-8418-4E58-BD9D-B702950D6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083B-4C01-417D-849E-422DD78CC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37F3-43BE-4E9F-9BF5-DBAD3F95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5616-4960-42B7-8F0F-3918661D6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26C2-8966-4FB2-B34B-1476F7248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BAA1-0355-499B-9CD4-21ECDA082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23B7-BF21-4A65-AB7F-3C696381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45722-28D6-41CB-8ADC-8CEDFC432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9B35-963D-4F49-BC45-DE3A9B67E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8098-8DD0-44F3-842B-DAD32EDAB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6C31-8F32-4C87-B653-49FF7FA9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ight have subtracted 1926 from 2009.  Of course, you got 83, which excludes the 1926 return.  To include 1926, add one.  This is because the 1926 return uses year-end 1925 prices.  So, 2009 – 1925 = 84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62F8-EBE7-47D0-BC1E-F1CDD5F87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CB5E-1836-4703-8DE1-4658D21D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5A2B-9F1E-4081-90A4-B446448E5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B0C6-34E7-481D-905C-A6BD2B62F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C6D9-FAB0-4D11-92F6-DFA85502E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7B1C4-B556-467C-A736-69D16B7AB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3BAE-CA6B-4650-95CF-C864D0E84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0C41-2C0B-4797-B96D-4E1745842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81FE-8667-431F-8BD0-EB5043E64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10FF-1C87-4583-B933-6F2CB57D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44F8-8A76-420B-AF4D-211D453DB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Of course, one could use also the Excel functions, =Average( ), =VAR( ), and =STDEV(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A47A-121E-4BA6-B2D0-D9C1DF034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1F2-45C5-4F3C-8E7B-DE3218DC6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C19A-44ED-491A-92C2-4DEC1C887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F074-7200-4685-8E45-FB8DC5A8B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1416-D0B6-459B-868B-F3A3EA67A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AEFDF-A142-4318-BBD6-852D8A2F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8E5-00CB-4DCB-9860-5B29A68EC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E554-E308-4925-BB6D-A4A54B4CB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0B15-3F7F-4329-ABCE-9170404E8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6B48-A4AE-4005-9EC8-04DB4B14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3142-9698-4CA1-86E9-5254A55C2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F947-CB1D-46F3-A2D3-FA93E4F1A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C50E-C1ED-4A5C-93C9-447FB8A69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6AE4-F3F4-4DB2-AC40-721B27952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7DF-EC9C-4D60-AA11-1D7E4C24B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FF7C-738D-49EE-8B21-57BC402E9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09AD-73A4-476F-AC15-8A192831D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3E3F-D408-41B5-B538-63AF92D54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AE21-DD5A-4AD9-840C-98D08C744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59FD-429F-4D13-885B-4B2057CB3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2AD-B7C6-4687-A535-B53F3EA41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6437-E815-43E6-BBAD-B2AF9B433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5BD6-591B-4D16-A6F4-AF3C7C3D7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3809880" y="2270160"/>
            <a:ext cx="4572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-</a:t>
            </a:r>
            <a:fld id="{B93C26D5-9DB4-44B4-904B-7568318FA7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cgi.money.cnn.com/tools/millionaire/millionaire.html" TargetMode="External"/><Relationship Id="rId2" Type="http://schemas.openxmlformats.org/officeDocument/2006/relationships/hyperlink" Target="http://finance.yahoo.com/" TargetMode="External"/><Relationship Id="rId3" Type="http://schemas.openxmlformats.org/officeDocument/2006/relationships/hyperlink" Target="http://www.globalfinancialdata.com/" TargetMode="External"/><Relationship Id="rId4" Type="http://schemas.openxmlformats.org/officeDocument/2006/relationships/hyperlink" Target="http://www.robertniles.com/stats" TargetMode="External"/><Relationship Id="rId5" Type="http://schemas.openxmlformats.org/officeDocument/2006/relationships/hyperlink" Target="http://www.robertniles.com/stats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holding period percentage return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 = the number of holding periods in a yea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xample, m = 4 (12 months / 3 months). Ther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 + EAR = (1 + .0556)</a:t>
            </a:r>
            <a:r>
              <a:rPr b="0" lang="en-US" sz="2400" spc="-1" strike="noStrike" baseline="30000">
                <a:solidFill>
                  <a:srgbClr val="2b2c0e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.2416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EAR = .2416 or 24.16%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$1 Investment in Different Type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f Portfolio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92468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nancial Market Histor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0769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Record: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otal Returns on Large-Company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30556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otal Returns on Small-Company Stock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otal Returns on Long-term U.S. Bon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otal Returns on U.S. T-bill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0556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Historical Record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1532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Average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useful number to help us summarize historical financial data is the simple, or arithmetic averag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data in Table 1.1, if you add up the returns for large-company stocks from 1926 through 2009, you get about 987 percen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there are 84 returns, the average return is about 11.75%.  How do you use this number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f you are making a guess about the size of the return for a year selected at random, your best guess is 11.75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formula for the historical average return i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1905120" y="4876920"/>
            <a:ext cx="51116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eturns fo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ve Portfolios and Infl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020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To become a wise investor (maybe even one with too much money), you need to know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 to calculate the return on an investment using different method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eturns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historical risk on various important types of investment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lationship between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verage Annual Risk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emiums for Five Portfolio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219320" y="2193840"/>
            <a:ext cx="693396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-free rate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ate of return on a riskless, i.e., certain investmen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isk premi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xtra return on a risky asset over the risk-free rate; i.e., the reward for bearing risk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is a reward, on average, for bearing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y looking at Table 1.3, we can see the risk premium earned by large-company stocks was 7.9%!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7.9% a good estimate of future risk premium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opinion of 226 financial economists: 7.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y estimate involves assumptions about the future risk environment and the risk aversion of future investors.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orld Stock Market Capital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80773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national Equity Risk Premium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807732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Why Does a Risk Premium Exist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dern investment theory centers on this ques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fore, we will examine this question many times in the chapters ahea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examine part of this question, however, by looking at the dispersion, or spread, of historical retur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use two statistical concepts to study this dispersion, or variability: variance and standard deviat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econd Lesson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eater the potential reward, the greater the ris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ear Growled and Investors Howle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8305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: The Statistical Too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for return variance is ("n" is the number of returns)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metimes, it is useful to use the standard deviation, which is related to variance like th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9" name="Object 4" descr=""/>
          <p:cNvPicPr/>
          <p:nvPr/>
        </p:nvPicPr>
        <p:blipFill>
          <a:blip r:embed="rId1"/>
          <a:stretch/>
        </p:blipFill>
        <p:spPr>
          <a:xfrm>
            <a:off x="3124080" y="2286000"/>
            <a:ext cx="3232440" cy="10112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5" descr=""/>
          <p:cNvPicPr/>
          <p:nvPr/>
        </p:nvPicPr>
        <p:blipFill>
          <a:blip r:embed="rId2"/>
          <a:stretch/>
        </p:blipFill>
        <p:spPr>
          <a:xfrm>
            <a:off x="3352680" y="4724280"/>
            <a:ext cx="2795760" cy="4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 Variability Review and Concep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Varianc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common measure of return dispersion.  Sometimes, return dispersion is also call variabilit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tandard devi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square root of the varian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ometimes the square root is called volatility. 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tandard Deviation is handy because it is in the same "units" as the average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rmal distributi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 symmetric, bell-shaped frequency distribution that can be described with only an average and a standard devi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es a normal distribution describe asset return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requency Distribution of Returns on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ommon Stocks,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00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Historical Varian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Standard Devi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use data from Table 1.1 for Large-Company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average, the variance, and the standard deviation (the long way…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1981080" y="3200400"/>
          <a:ext cx="5613480" cy="2998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200400"/>
                    <a:ext cx="561348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o Wants To Be A Millionaire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retire with One Million Dollars (or more)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ow? Suppos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invest $300 per month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r investments earn 9% per yea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decide to take advantage of deferring taxes on your investment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will take you about 36.25 years. Hmm. Too lo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istorical Returns, Standard Deviations, and Frequency Distributions: 1926—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19320" y="1089000"/>
            <a:ext cx="670536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Normal Distribution a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arge Company Stock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7315200" cy="46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turns on Some “Non-Normal” Day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rithmetic Averages versu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301400"/>
            <a:ext cx="83055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arithmetic average return answers the question:  “What was your return in an average year over a particular period?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eometric average return answers the question:  “What was your average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compound return per yea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ver a particular period?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should you use the arithmetic average and when should you use the geometric averag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we need to learn how to calculate a geometric averag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 Retur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77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use the large-company stock data from Table 1.1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spreadsheet below shows us how to calculate the geometric average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Object 4" descr=""/>
          <p:cNvPicPr/>
          <p:nvPr/>
        </p:nvPicPr>
        <p:blipFill>
          <a:blip r:embed="rId1"/>
          <a:stretch/>
        </p:blipFill>
        <p:spPr>
          <a:xfrm>
            <a:off x="2514600" y="3124080"/>
            <a:ext cx="43243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rithmetic Averages versus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Geometric Averag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30176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arithmetic average tells you what you earned in a typical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eometric average tells you what you actually earned per year on average, compounded annual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When we talk about average returns, we generally are talking about arithmetic average returns.</a:t>
            </a:r>
            <a:br>
              <a:rPr sz="2000"/>
            </a:br>
            <a:r>
              <a:rPr b="0" i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the purpose of forecasting future retur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The arithmetic average is probably "too high" for long forecast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The geometric average is probably "too low" for short forecast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Geometric versus Arithmetic Averag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031840" y="2330280"/>
            <a:ext cx="5080320" cy="21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isk-free rate represents compensation for just waiting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fore, this is often calle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time value of money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First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If we are willing to bear risk, then we can expect to earn a risk premium, at least on averag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econd Less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Further, the more risk we are willing to bear, the greater the expected risk premium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Historical Risk and Return Trade-Of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80010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-Weighted Average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a hidden assumption we make when we calculate arithmetic returns and geometric retur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dden assumption is that we assume that the investor makes only an initial invest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early, many investors make deposits or withdrawals through tim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 do we calculate returns in these cases?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Who Wants To Be A Millionaire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stead, suppose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You invest $500 per month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Your investments earn 12% per year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you decide to take advantage of deferring taxes on your investment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t will take you 25.5 yea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alistic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$250 is about the size of a new car payment, and perhaps your employer will kick in $250 per month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ver the last 84 years, the S&amp;P 500 Index return was about 12%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b2c0e"/>
                </a:solidFill>
                <a:latin typeface="Arial"/>
              </a:rPr>
              <a:t>Try this calculator: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-Weighted Average Returns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had returns of 10% in year one and -5% in year two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you only make an initial investment at the start of year o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arithmetic average return is 2.50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geometric average return is 2.23%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makes a $1,000 initial investment and a $4,000 additional investment at the beginning of year two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end of year one, the initial investment grows to $1,100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start of year two, your account has $5,100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t the end of year two, your account balance is $4,845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You have invested $5,000, but your account value is only $4,845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o, the (positive) arithmetic and geometric returns are not correc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ollar-Weighted Average Returns and IR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8001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Look Ahea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s textbook focuses exclusively on financial assets: stocks, bonds, options, and futur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learn how to value different assets and make informed, intelligent decisions about the associated risk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also learn about different trading mechanisms and the way that different markets func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gi.money.cnn.com/tools/millionaire/millionaire.html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millionaire link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inance.yahoo.com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a terrific financial web site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lobalfinancialdata.com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historical financial market data—not free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robertniles.com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stat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(reference for easy to read statistics review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Percentage Return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Historical Recor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First Look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Longer Range Look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Closer Look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verage Returns: The First Less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alculating Average Return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verage Returns: The Historical Record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isk Premium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 Variability: The Second Less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requency Distributions and Variability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Historical Variance and Standard Deviation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Historical Record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Normal Distribution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ithmetic Returns versus Geometric 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isk-Return Trade-Of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llar Weighted Average Retur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Brief History of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ur goal in this chapter is to see what financial market history can tell us about risk and retur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key observation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irst, there is a substantial reward, on average, for bearing risk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econd, greater risks accompany greater return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observations are important investment guidelin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ollar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tal dollar retur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return on an investment measured in dollars, accounting for all interim cash flows and capital gains or los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3" name="Object 4" descr=""/>
          <p:cNvPicPr/>
          <p:nvPr/>
        </p:nvPicPr>
        <p:blipFill>
          <a:blip r:embed="rId1"/>
          <a:stretch/>
        </p:blipFill>
        <p:spPr>
          <a:xfrm>
            <a:off x="1614600" y="3429000"/>
            <a:ext cx="6010200" cy="7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ercent Retur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Total percent return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the return on an investment measured as a percentage of the original investment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total percent return is the return f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ach dolla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nveste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, you buy a share of stock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6" name="Object 4" descr=""/>
          <p:cNvPicPr/>
          <p:nvPr/>
        </p:nvPicPr>
        <p:blipFill>
          <a:blip r:embed="rId1"/>
          <a:stretch/>
        </p:blipFill>
        <p:spPr>
          <a:xfrm>
            <a:off x="1562040" y="4038480"/>
            <a:ext cx="67820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otal Dollar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d Total Percent Return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uppose you invested $1,400 in a stock with a share price of $35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fter one year, the stock price per share is $49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for each share, you received a $1.40 dividend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dollar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$1,400 / $35 = 40 share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: 40 shares times $14 = $560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s: 40 shares times $1.40 = $5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Dollar Return is $560 + $56 = $616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hat was your total percent return?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Dividend yield = $1.40 / $35 = 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Capital gain yield = ($49 </a:t>
            </a:r>
            <a:r>
              <a:rPr b="0" lang="en-US" sz="2000" spc="-1" strike="noStrike" baseline="8000">
                <a:solidFill>
                  <a:srgbClr val="2b2c0e"/>
                </a:solidFill>
                <a:latin typeface="Arial"/>
              </a:rPr>
              <a:t>–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$35) / $35 = 40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tal percentage return = 4% + 40% = 44%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781680" y="4191120"/>
            <a:ext cx="2133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400800" y="4343400"/>
            <a:ext cx="198108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Note that $616 divided by $1,400 is 4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nualizing Returns, 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200 shares of Lowe’s Companies, Inc. at $18 per share. Three months later, you sell these shares for $19 per share. You received no dividends. What is your return? What is your annualized retur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: (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+1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–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/ 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($19 - $18) / $18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                           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.0556 = 5.5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Effective Annual Return (EAR)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turn on an investment expressed on an “annualized” ba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ey Question: What is the number of holding periods in a year?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6629400" y="33526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This return is </a:t>
            </a:r>
            <a:br>
              <a:rPr sz="1800"/>
            </a:b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known as the </a:t>
            </a: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holding period percentage retu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9:15:42Z</dcterms:modified>
  <cp:revision>94</cp:revision>
  <dc:subject/>
  <dc:title>Slide 1</dc:title>
</cp:coreProperties>
</file>