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4.jpeg" ContentType="image/jpeg"/>
  <Override PartName="/ppt/media/image16.wmf" ContentType="image/x-wmf"/>
  <Override PartName="/ppt/media/image2.wmf" ContentType="image/x-wmf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E1C9-6942-4291-A28B-79036E3F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5F81-C9EF-4BF5-A01B-6687AD607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CB6-15C5-40C5-9528-8A9E8CAD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CACB-2795-44AE-B6FD-5C77B197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5971-358E-4F76-B886-9F3E83F2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CF2C-480B-4522-83AD-5BFEE0DE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9343-44C6-4671-95E2-33C47AFB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90B6-8E76-446E-82F4-EE0C5DBA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BE4F-74B2-48B1-A7E7-182BDE8DA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093-CC1B-49B4-A4A7-91F0B18D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727-C77D-4A19-890A-1CCD392F7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9.  Of course, you got 83, which excludes the 1926 return.  To include 1926, add one.  This is because the 1926 return uses year-end 1925 prices.  So, 2009 – 1925 = 8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FDCF-E8D5-46A9-BA5D-79E3A7438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2CC2-A136-4862-8347-EE70499E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6AB7-C8E0-402C-989A-390E092F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E0D-5622-4344-A3D6-0C14A17D1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DAF5-EE54-41A2-9862-1C5D8C3A0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82F-D77C-4216-A689-40DD45EB0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E41-09EB-4B7E-A292-F1A374811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A09-63C0-497E-996F-6D4D9A1A8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840B-E446-4BC7-A283-EA1E0AC9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4B3-EDCE-4693-9FFF-5CEE6A45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C0D-6A9B-4F79-BF38-188881C4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5893-E080-4E6D-B1EA-22398F05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789C-7638-4CBE-88A9-9EE885CCE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4FB1-4FB8-428D-A2B5-8492A66C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2705-9E5D-493B-9F71-2911BBE49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725-4E17-465A-B6AA-0B8631CC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3064-2DC8-4533-966B-608F289E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5C89-7559-40CD-86D2-D913C6EC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7082-B4EC-482A-AC02-DD374F5F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F62-1E8E-4042-9896-C0A4B13E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3E0B-54F2-43E4-8B31-76265A72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6CB-C4B8-412D-A8CD-958069D7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A27-AC4F-47B0-A07B-B623F869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DF39-CEE6-433F-87FC-8BDA5434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2BEC-8F76-41D2-A737-B5677936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AB99-B42E-48C9-94E1-7774CF8A5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9FF7-DCD3-4A35-B5FE-387090EE9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AC4-7029-4415-8E77-A4CC6E1E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A35-FE17-42DC-9966-722FB67B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4AA6-FD00-4DA5-B76F-F332D859D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EF75-D4C8-4AA0-949A-CD437244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99DB-EFA3-47C4-95FE-F3A869E4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350-90EC-4710-BE67-532A4A48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5AB7-5A09-4A46-9863-719F5C05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809880" y="22701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3A388A1B-851C-4D2B-AC50-1EB9A19E0F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ancial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hyperlink" Target="http://www.robertniles.com/stats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xample, m = 4 (12 months / 3 months). Therefor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.0556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.2416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EAR = .2416 or 24.16%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$1 Investment in Different Type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f Portfolios,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9246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nancial Market Histor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istorical Record:</a:t>
            </a:r>
            <a:br>
              <a:rPr sz="3500"/>
            </a:b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otal Returns on Large-Company Stock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05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otal Returns on Small-Company Stock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3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Total Returns on Long-term U.S. Bon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otal Returns on U.S. T-bill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nfl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Average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data in Table 1.1, if you add up the returns for large-company stocks from 1926 through 2009, you get about 987 percent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ecause there are 84 returns, the average return is about 11.75%.  How do you use this number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f you are making a guess about the size of the return for a year selected at random, your best guess is 11.75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2" name="Object 4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51116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eturns fo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ive Portfolios and Infl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isk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isk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emiums for Five Portfolio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19320" y="2193840"/>
            <a:ext cx="69339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verage Returns: The First Less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y looking at Table 1.3, we can see the risk premium earned by large-company stocks was 7.9%!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7.9% a good estimate of future risk premium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opinion of 226 financial economists: 7.0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y estimate involves assumptions about the future risk environment and the risk aversion of future investors. 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World Stock Market Capitaliz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national Equity Risk Premium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Why Does a Risk Premium Exist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examine part of this question, however,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ear Growled and Investors Howle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: The Statistical Too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9" name="Object 4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232440" cy="10112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5" descr=""/>
          <p:cNvPicPr/>
          <p:nvPr/>
        </p:nvPicPr>
        <p:blipFill>
          <a:blip r:embed="rId2"/>
          <a:stretch/>
        </p:blipFill>
        <p:spPr>
          <a:xfrm>
            <a:off x="3352680" y="4724280"/>
            <a:ext cx="279576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 Review and Concep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requency Distribution of Returns on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ommon Stocks,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Historical Varian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Standard Devi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1981080" y="320040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0040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Who Wants To Be A Millionaire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istorical Returns, Standard Deviations, and Frequency Distributions: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089000"/>
            <a:ext cx="67053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Normal Distribution a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arge Company Stock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s on Some “Non-Normal” Day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rithmetic Averages versu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Geometric Averag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30140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Geometric Average Retur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3243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rithmetic Averages versu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Geometric Averag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30176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Geometric versus Arithmetic Averag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031840" y="2330280"/>
            <a:ext cx="5080320" cy="21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Risk and Return Trade-Of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-Weighted Average Returns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 is a hidden assumption we make when we calculate arithmetic returns and geometric retur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hidden assumption is that we assume that the investor makes only an initial investm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early, many investors make deposits or withdrawals through tim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 do we calculate returns in these cases?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Who Wants To Be A Millionaire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Your investments earn 12% per year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you decide to take advantage of deferring taxes on your investment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Over the last 84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b2c0e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-Weighted Average Returns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had returns of 10% in year one and -5% in year two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you only make an initial investment at the start of year on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arithmetic average return is 2.50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geometric average return is 2.23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makes a $1,000 initial investment and a $4,000 additional investment at the beginning of year two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t the end of year one, the initial investment grows to $1,100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t the start of year two, your account has $5,100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t the end of year two, your account balance is $4,845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 have invested $5,000, but your account value is only $4,845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o, the (positive) arithmetic and geometric returns are not correc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ollar-Weighted Average Returns and IRR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Look Ahea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s textbook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also learn about different trading mechanisms and the way that different markets func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ancialdata.com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stat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ithmetic Returns versus Geometric Retur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ollar Weighted Average Retur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observations are important investment guidelin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3" name="Object 4" descr=""/>
          <p:cNvPicPr/>
          <p:nvPr/>
        </p:nvPicPr>
        <p:blipFill>
          <a:blip r:embed="rId1"/>
          <a:stretch/>
        </p:blipFill>
        <p:spPr>
          <a:xfrm>
            <a:off x="1614600" y="3429000"/>
            <a:ext cx="6010200" cy="7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ercent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6" name="Object 4" descr=""/>
          <p:cNvPicPr/>
          <p:nvPr/>
        </p:nvPicPr>
        <p:blipFill>
          <a:blip r:embed="rId1"/>
          <a:stretch/>
        </p:blipFill>
        <p:spPr>
          <a:xfrm>
            <a:off x="1562040" y="4038480"/>
            <a:ext cx="67820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Total Dolla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Total Percent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2b2c0e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400800" y="4343400"/>
            <a:ext cx="19810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,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200 shares of Lowe’s Companies, Inc. at $18 per share. Three months later, you sell these shares for $19 per share. You received no dividends. What is your return? What is your annualized retur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: (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–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/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($19 - $18) / $18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.0556 = 5.56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turn on an investment expressed on an “annualized” ba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ey Question: What is the number of holding periods in a year?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6294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9:15:42Z</dcterms:modified>
  <cp:revision>94</cp:revision>
  <dc:subject/>
  <dc:title>Slide 1</dc:title>
</cp:coreProperties>
</file>