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A440-DC43-42A8-A8D6-A6F251F9E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8DCE-816D-4C80-AC49-3519ABA3E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FFCC-D807-418C-85F1-04C03D7A0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86C2-B513-49F9-A4E9-AF79DCE1D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6738-53EC-49EC-B573-B6CAF4A74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E5C4-67DB-4B6D-AB5F-0D3ABA921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5265-BB57-4DEE-9608-4F06FA4CD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68B9-814B-424A-82DF-7033762F4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480C-76EA-41D9-B08B-DC53123D9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12C6-FC95-4DAC-A599-98F29B67B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10AF-54E4-4071-A3A5-487A8DF8D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EF94-42E1-436E-96A0-1B8B1B5EB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4F14-1941-45BF-A431-0722CD9E8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87EC-5601-4619-8EDE-E16E5C215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7767-20EF-4166-AFA2-C9A2F7F73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7E4C-E9DA-4A09-9E9C-88D384DDB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015FC-6C96-4C50-9231-61D9A8F41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A91B-A665-4601-928B-9EDBF3C9D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5F00-B5EE-4659-A521-67438C08E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1917-C550-4B14-9815-2DB35A5FF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EC08-BE99-48A1-A40B-BD817284E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11C1-6989-4B27-A4D8-6CA631376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3A52-F3C8-4894-A93D-95BBCA2DC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E349-FC0A-4A58-B129-FD01F862D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9395-EB5F-425E-9E64-6D32DF40E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67FA-F1DE-4DF4-B0E1-FC221D246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ho sells what isn’t his’n, must buy it back, or go to prison.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14E3-29A7-49DC-A0E8-BE89B55BC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01D5-62E7-42C8-A278-220B186AE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8A70-7DD2-40F6-9EF9-5511822AD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3D2F3-AA85-445B-BF0F-5187EC2EC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1063-85E8-4BBC-ACB1-30BAC414C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7748-2CDC-48E7-8152-9D0BE4C07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8C16-ED2E-4EB8-8080-311D1D889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70FB-6A35-4D35-A8C2-32AA30AA1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3147-815F-459A-9C7A-86EF128DE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3592-357A-465D-A81B-D28DBE007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7DFF-1B8A-48B2-B0C0-333D5D68C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2F56-9B4D-4CC5-A8E5-264E2872B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2FEA-B3D7-4E62-B73D-B8EAD9FC3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D013-9F5F-4C33-B21D-3C8CFD9E1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4116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9520" y="114264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3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4116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9520" y="3928680"/>
            <a:ext cx="2674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381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89080" y="392868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89080" y="1142640"/>
            <a:ext cx="40528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33160" y="3928680"/>
            <a:ext cx="830556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5410080" y="304920"/>
            <a:ext cx="381240" cy="53316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3"/>
          <p:cNvSpPr/>
          <p:nvPr/>
        </p:nvSpPr>
        <p:spPr>
          <a:xfrm>
            <a:off x="6629400" y="0"/>
            <a:ext cx="1447920" cy="533520"/>
          </a:xfrm>
          <a:prstGeom prst="rect">
            <a:avLst/>
          </a:prstGeom>
          <a:solidFill>
            <a:srgbClr val="cccc00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32"/>
          <p:cNvSpPr/>
          <p:nvPr/>
        </p:nvSpPr>
        <p:spPr>
          <a:xfrm>
            <a:off x="2666880" y="838080"/>
            <a:ext cx="609840" cy="304920"/>
          </a:xfrm>
          <a:prstGeom prst="rect">
            <a:avLst/>
          </a:prstGeom>
          <a:solidFill>
            <a:srgbClr val="507f2d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>
            <a:off x="3276720" y="304920"/>
            <a:ext cx="609480" cy="533160"/>
          </a:xfrm>
          <a:prstGeom prst="rect">
            <a:avLst/>
          </a:prstGeom>
          <a:solidFill>
            <a:srgbClr val="cc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6"/>
          <p:cNvSpPr/>
          <p:nvPr/>
        </p:nvSpPr>
        <p:spPr>
          <a:xfrm>
            <a:off x="5791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0"/>
          <p:cNvSpPr/>
          <p:nvPr/>
        </p:nvSpPr>
        <p:spPr>
          <a:xfrm>
            <a:off x="66294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 flipH="1">
            <a:off x="0" y="1143000"/>
            <a:ext cx="91440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"/>
          <p:cNvSpPr/>
          <p:nvPr/>
        </p:nvSpPr>
        <p:spPr>
          <a:xfrm flipH="1">
            <a:off x="-360" y="838080"/>
            <a:ext cx="6629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4"/>
          <p:cNvSpPr/>
          <p:nvPr/>
        </p:nvSpPr>
        <p:spPr>
          <a:xfrm flipH="1">
            <a:off x="-360" y="304920"/>
            <a:ext cx="57913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5"/>
          <p:cNvSpPr/>
          <p:nvPr/>
        </p:nvSpPr>
        <p:spPr>
          <a:xfrm>
            <a:off x="388620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7"/>
          <p:cNvSpPr/>
          <p:nvPr/>
        </p:nvSpPr>
        <p:spPr>
          <a:xfrm>
            <a:off x="32767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8"/>
          <p:cNvSpPr/>
          <p:nvPr/>
        </p:nvSpPr>
        <p:spPr>
          <a:xfrm>
            <a:off x="80773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Line 19"/>
          <p:cNvSpPr/>
          <p:nvPr/>
        </p:nvSpPr>
        <p:spPr>
          <a:xfrm>
            <a:off x="8305920" y="0"/>
            <a:ext cx="0" cy="1143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26"/>
          <p:cNvSpPr/>
          <p:nvPr/>
        </p:nvSpPr>
        <p:spPr>
          <a:xfrm flipH="1">
            <a:off x="6629040" y="533520"/>
            <a:ext cx="25146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36"/>
          <p:cNvSpPr/>
          <p:nvPr/>
        </p:nvSpPr>
        <p:spPr>
          <a:xfrm>
            <a:off x="5410080" y="0"/>
            <a:ext cx="0" cy="8380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7"/>
          <p:cNvSpPr/>
          <p:nvPr/>
        </p:nvSpPr>
        <p:spPr>
          <a:xfrm>
            <a:off x="0" y="-457200"/>
            <a:ext cx="3048120" cy="5334120"/>
          </a:xfrm>
          <a:custGeom>
            <a:avLst/>
            <a:gdLst>
              <a:gd name="textAreaLeft" fmla="*/ 148680 w 3048120"/>
              <a:gd name="textAreaRight" fmla="*/ 2899440 w 3048120"/>
              <a:gd name="textAreaTop" fmla="*/ 148680 h 5334120"/>
              <a:gd name="textAreaBottom" fmla="*/ 5185440 h 5334120"/>
            </a:gdLst>
            <a:ahLst/>
            <a:rect l="textAreaLeft" t="textAreaTop" r="textAreaRight" b="textAreaBottom"/>
            <a:pathLst>
              <a:path w="21600" h="37797">
                <a:moveTo>
                  <a:pt x="3600" y="0"/>
                </a:moveTo>
                <a:arcTo wR="3600" hR="3600" stAng="16200000" swAng="-5400000"/>
                <a:lnTo>
                  <a:pt x="0" y="34197"/>
                </a:lnTo>
                <a:arcTo wR="3600" hR="3600" stAng="10800000" swAng="-5400000"/>
                <a:lnTo>
                  <a:pt x="18000" y="37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507f2d">
              <a:alpha val="56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9"/>
          <p:cNvSpPr/>
          <p:nvPr/>
        </p:nvSpPr>
        <p:spPr>
          <a:xfrm>
            <a:off x="0" y="114300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b2c0e"/>
                </a:solidFill>
                <a:latin typeface="Arial"/>
              </a:rPr>
              <a:t>Chapt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35268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3352680" y="2209680"/>
            <a:ext cx="51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3809880" y="2270160"/>
            <a:ext cx="45720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b2c0e"/>
                </a:solidFill>
                <a:latin typeface="Arial"/>
              </a:rPr>
              <a:t>The Investment Proces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69"/>
          <p:cNvSpPr/>
          <p:nvPr/>
        </p:nvSpPr>
        <p:spPr>
          <a:xfrm>
            <a:off x="228600" y="6324480"/>
            <a:ext cx="2666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cGraw-Hill/Irw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70"/>
          <p:cNvSpPr/>
          <p:nvPr/>
        </p:nvSpPr>
        <p:spPr>
          <a:xfrm>
            <a:off x="3733920" y="63244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Copyright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© 2012 by The McGraw-Hill Companies, Inc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51"/>
          <p:cNvSpPr/>
          <p:nvPr/>
        </p:nvSpPr>
        <p:spPr>
          <a:xfrm>
            <a:off x="0" y="6247800"/>
            <a:ext cx="9142560" cy="2844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9"/>
          <p:cNvSpPr/>
          <p:nvPr/>
        </p:nvSpPr>
        <p:spPr>
          <a:xfrm rot="16200000">
            <a:off x="8724960" y="266400"/>
            <a:ext cx="609480" cy="228600"/>
          </a:xfrm>
          <a:prstGeom prst="rect">
            <a:avLst/>
          </a:prstGeom>
          <a:solidFill>
            <a:srgbClr val="cccc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8"/>
          <p:cNvSpPr/>
          <p:nvPr/>
        </p:nvSpPr>
        <p:spPr>
          <a:xfrm>
            <a:off x="785880" y="76320"/>
            <a:ext cx="8345520" cy="7920"/>
          </a:xfrm>
          <a:custGeom>
            <a:avLst/>
            <a:gdLst>
              <a:gd name="textAreaLeft" fmla="*/ 0 w 8345520"/>
              <a:gd name="textAreaRight" fmla="*/ 8345880 w 83455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5257" h="5">
                <a:moveTo>
                  <a:pt x="0" y="5"/>
                </a:moveTo>
                <a:lnTo>
                  <a:pt x="5257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2"/>
          <p:cNvSpPr/>
          <p:nvPr/>
        </p:nvSpPr>
        <p:spPr>
          <a:xfrm>
            <a:off x="457200" y="990720"/>
            <a:ext cx="8458200" cy="563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2b2c0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64" name="Freeform 9"/>
          <p:cNvSpPr/>
          <p:nvPr/>
        </p:nvSpPr>
        <p:spPr>
          <a:xfrm rot="16200000">
            <a:off x="92160" y="-441360"/>
            <a:ext cx="228600" cy="1111320"/>
          </a:xfrm>
          <a:custGeom>
            <a:avLst/>
            <a:gdLst>
              <a:gd name="textAreaLeft" fmla="*/ 0 w 228600"/>
              <a:gd name="textAreaRight" fmla="*/ 228960 w 22860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144" h="240">
                <a:moveTo>
                  <a:pt x="0" y="0"/>
                </a:moveTo>
                <a:lnTo>
                  <a:pt x="144" y="48"/>
                </a:lnTo>
                <a:lnTo>
                  <a:pt x="144" y="240"/>
                </a:lnTo>
                <a:lnTo>
                  <a:pt x="0" y="240"/>
                </a:lnTo>
                <a:lnTo>
                  <a:pt x="0" y="0"/>
                </a:lnTo>
                <a:close/>
              </a:path>
            </a:pathLst>
          </a:custGeom>
          <a:solidFill>
            <a:srgbClr val="507f2d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 rot="16200000">
            <a:off x="-756000" y="5804640"/>
            <a:ext cx="1830240" cy="276480"/>
          </a:xfrm>
          <a:prstGeom prst="rect">
            <a:avLst/>
          </a:prstGeom>
          <a:solidFill>
            <a:srgbClr val="507f2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 rot="16200000">
            <a:off x="61920" y="5241600"/>
            <a:ext cx="609480" cy="181080"/>
          </a:xfrm>
          <a:prstGeom prst="rect">
            <a:avLst/>
          </a:prstGeom>
          <a:solidFill>
            <a:srgbClr val="507f2d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3"/>
          <p:cNvSpPr/>
          <p:nvPr/>
        </p:nvSpPr>
        <p:spPr>
          <a:xfrm rot="16200000">
            <a:off x="-190080" y="1866600"/>
            <a:ext cx="1143000" cy="152280"/>
          </a:xfrm>
          <a:prstGeom prst="rect">
            <a:avLst/>
          </a:prstGeom>
          <a:solidFill>
            <a:srgbClr val="507f2d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 rot="16200000">
            <a:off x="-166680" y="3976560"/>
            <a:ext cx="609840" cy="276120"/>
          </a:xfrm>
          <a:prstGeom prst="rect">
            <a:avLst/>
          </a:prstGeom>
          <a:solidFill>
            <a:srgbClr val="cc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>
            <a:off x="0" y="25146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7"/>
          <p:cNvSpPr/>
          <p:nvPr/>
        </p:nvSpPr>
        <p:spPr>
          <a:xfrm>
            <a:off x="0" y="1371600"/>
            <a:ext cx="457200" cy="3240"/>
          </a:xfrm>
          <a:custGeom>
            <a:avLst/>
            <a:gdLst>
              <a:gd name="textAreaLeft" fmla="*/ 0 w 457200"/>
              <a:gd name="textAreaRight" fmla="*/ 457560 w 4572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88" h="2">
                <a:moveTo>
                  <a:pt x="0" y="2"/>
                </a:moveTo>
                <a:lnTo>
                  <a:pt x="288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0" y="0"/>
            <a:ext cx="0" cy="68580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9"/>
          <p:cNvSpPr/>
          <p:nvPr/>
        </p:nvSpPr>
        <p:spPr>
          <a:xfrm>
            <a:off x="279360" y="1371600"/>
            <a:ext cx="9720" cy="5486400"/>
          </a:xfrm>
          <a:custGeom>
            <a:avLst/>
            <a:gdLst>
              <a:gd name="textAreaLeft" fmla="*/ 0 w 9720"/>
              <a:gd name="textAreaRight" fmla="*/ 10080 w 9720"/>
              <a:gd name="textAreaTop" fmla="*/ 0 h 5486400"/>
              <a:gd name="textAreaBottom" fmla="*/ 5486760 h 5486400"/>
            </a:gdLst>
            <a:ahLst/>
            <a:rect l="textAreaLeft" t="textAreaTop" r="textAreaRight" b="textAreaBottom"/>
            <a:pathLst>
              <a:path w="6" h="3456">
                <a:moveTo>
                  <a:pt x="0" y="0"/>
                </a:moveTo>
                <a:lnTo>
                  <a:pt x="6" y="3456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0"/>
          <p:cNvSpPr/>
          <p:nvPr/>
        </p:nvSpPr>
        <p:spPr>
          <a:xfrm flipV="1">
            <a:off x="0" y="4417560"/>
            <a:ext cx="457200" cy="180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1"/>
          <p:cNvSpPr/>
          <p:nvPr/>
        </p:nvSpPr>
        <p:spPr>
          <a:xfrm>
            <a:off x="0" y="502920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"/>
          <p:cNvSpPr/>
          <p:nvPr/>
        </p:nvSpPr>
        <p:spPr>
          <a:xfrm>
            <a:off x="-44280" y="22860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3"/>
          <p:cNvSpPr/>
          <p:nvPr/>
        </p:nvSpPr>
        <p:spPr>
          <a:xfrm>
            <a:off x="0" y="0"/>
            <a:ext cx="8064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8"/>
          <p:cNvSpPr/>
          <p:nvPr/>
        </p:nvSpPr>
        <p:spPr>
          <a:xfrm>
            <a:off x="304920" y="5638680"/>
            <a:ext cx="15228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9"/>
          <p:cNvSpPr/>
          <p:nvPr/>
        </p:nvSpPr>
        <p:spPr>
          <a:xfrm>
            <a:off x="0" y="3809880"/>
            <a:ext cx="30492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1"/>
          <p:cNvSpPr/>
          <p:nvPr/>
        </p:nvSpPr>
        <p:spPr>
          <a:xfrm>
            <a:off x="453240" y="230040"/>
            <a:ext cx="3240" cy="662796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3"/>
          <p:cNvSpPr/>
          <p:nvPr/>
        </p:nvSpPr>
        <p:spPr>
          <a:xfrm flipV="1">
            <a:off x="304920" y="6553080"/>
            <a:ext cx="8381880" cy="76320"/>
          </a:xfrm>
          <a:custGeom>
            <a:avLst/>
            <a:gdLst>
              <a:gd name="textAreaLeft" fmla="*/ 0 w 8381880"/>
              <a:gd name="textAreaRight" fmla="*/ 8381880 w 8381880"/>
              <a:gd name="textAreaTop" fmla="*/ 360 h 76320"/>
              <a:gd name="textAreaBottom" fmla="*/ 77040 h 76320"/>
            </a:gdLst>
            <a:ahLst/>
            <a:rect l="textAreaLeft" t="textAreaTop" r="textAreaRight" b="textAreaBottom"/>
            <a:pathLst>
              <a:path w="5665" h="1">
                <a:moveTo>
                  <a:pt x="0" y="0"/>
                </a:moveTo>
                <a:lnTo>
                  <a:pt x="5665" y="0"/>
                </a:lnTo>
              </a:path>
            </a:pathLst>
          </a:custGeom>
          <a:noFill/>
          <a:ln w="38160">
            <a:solidFill>
              <a:srgbClr val="dad07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5"/>
          <p:cNvSpPr/>
          <p:nvPr/>
        </p:nvSpPr>
        <p:spPr>
          <a:xfrm rot="16200000">
            <a:off x="8724960" y="6438960"/>
            <a:ext cx="380880" cy="457200"/>
          </a:xfrm>
          <a:prstGeom prst="rect">
            <a:avLst/>
          </a:prstGeom>
          <a:solidFill>
            <a:srgbClr val="507f2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30"/>
          <p:cNvSpPr/>
          <p:nvPr/>
        </p:nvSpPr>
        <p:spPr>
          <a:xfrm>
            <a:off x="8686800" y="6477120"/>
            <a:ext cx="4572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4"/>
          <p:cNvSpPr/>
          <p:nvPr/>
        </p:nvSpPr>
        <p:spPr>
          <a:xfrm>
            <a:off x="8686800" y="6477120"/>
            <a:ext cx="0" cy="38088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36"/>
          <p:cNvSpPr/>
          <p:nvPr/>
        </p:nvSpPr>
        <p:spPr>
          <a:xfrm>
            <a:off x="8914680" y="0"/>
            <a:ext cx="3240" cy="64753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37"/>
          <p:cNvSpPr/>
          <p:nvPr/>
        </p:nvSpPr>
        <p:spPr>
          <a:xfrm>
            <a:off x="762120" y="0"/>
            <a:ext cx="0" cy="24912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0"/>
          <p:cNvSpPr/>
          <p:nvPr/>
        </p:nvSpPr>
        <p:spPr>
          <a:xfrm>
            <a:off x="8915400" y="685800"/>
            <a:ext cx="228600" cy="0"/>
          </a:xfrm>
          <a:prstGeom prst="line">
            <a:avLst/>
          </a:prstGeom>
          <a:ln w="38160">
            <a:solidFill>
              <a:srgbClr val="dad0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990720"/>
            <a:ext cx="8686800" cy="0"/>
          </a:xfrm>
          <a:prstGeom prst="line">
            <a:avLst/>
          </a:prstGeom>
          <a:ln w="38160">
            <a:solidFill>
              <a:srgbClr val="ebd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7010280" y="65530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-</a:t>
            </a:r>
            <a:fld id="{DB8AC05F-E0E7-46DE-81DD-2A74CD5F74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finance.yahoo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finra.org/" TargetMode="External"/><Relationship Id="rId2" Type="http://schemas.openxmlformats.org/officeDocument/2006/relationships/hyperlink" Target="http://www.bearmarketcentral.com/" TargetMode="External"/><Relationship Id="rId3" Type="http://schemas.openxmlformats.org/officeDocument/2006/relationships/hyperlink" Target="http://www.nasdaq.com/" TargetMode="External"/><Relationship Id="rId4" Type="http://schemas.openxmlformats.org/officeDocument/2006/relationships/hyperlink" Target="http://www.moneycentral.msn.com/" TargetMode="External"/><Relationship Id="rId5" Type="http://schemas.openxmlformats.org/officeDocument/2006/relationships/hyperlink" Target="http://www.sharebuilder.com/" TargetMode="External"/><Relationship Id="rId6" Type="http://schemas.openxmlformats.org/officeDocument/2006/relationships/hyperlink" Target="http://www.buyandhold.com/" TargetMode="External"/><Relationship Id="rId7" Type="http://schemas.openxmlformats.org/officeDocument/2006/relationships/hyperlink" Target="http://www.individual.ml.com/" TargetMode="External"/><Relationship Id="rId8" Type="http://schemas.openxmlformats.org/officeDocument/2006/relationships/hyperlink" Target="http://www.money-rates.com/" TargetMode="External"/><Relationship Id="rId9" Type="http://schemas.openxmlformats.org/officeDocument/2006/relationships/hyperlink" Target="http://finance.yahoo.com/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828440"/>
            <a:ext cx="304812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700" spc="-1" strike="noStrike">
                <a:solidFill>
                  <a:srgbClr val="2b2c0e"/>
                </a:solidFill>
                <a:latin typeface="Arial"/>
              </a:rPr>
              <a:t>2</a:t>
            </a:r>
            <a:endParaRPr b="0" lang="en-US" sz="127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Retirement Accounts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Company Sponsored Plans, 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160" y="1057320"/>
            <a:ext cx="83055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b2c0e"/>
                </a:solidFill>
                <a:latin typeface="Arial"/>
              </a:rPr>
              <a:t>The general investing approach applies to your retirement plan. 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2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2c0e"/>
                </a:solidFill>
                <a:latin typeface="Arial"/>
              </a:rPr>
              <a:t>You decide your percentage allocations to asset classes (like stocks, bonds, and T-bills) and then choose particular securities (i.e., mutual funds) in each asset class. </a:t>
            </a:r>
            <a:endParaRPr b="0" lang="en-US" sz="17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2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2c0e"/>
                </a:solidFill>
                <a:latin typeface="Arial"/>
              </a:rPr>
              <a:t>You will also make the decision whether to invest in U.S. securities, securities in other regions of the world, securities in specific countries, large company securities, small company securities, or a combination of these categories. </a:t>
            </a:r>
            <a:endParaRPr b="0" lang="en-US" sz="17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b2c0e"/>
                </a:solidFill>
                <a:latin typeface="Arial"/>
              </a:rPr>
              <a:t>The primary benefit of company-sponsored plans is that money you deposit into the account lowers your taxable income. 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2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2c0e"/>
                </a:solidFill>
                <a:latin typeface="Arial"/>
              </a:rPr>
              <a:t>So, your tax bill is lower, and your net “out of pocket” cost is lower. </a:t>
            </a:r>
            <a:endParaRPr b="0" lang="en-US" sz="17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2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2c0e"/>
                </a:solidFill>
                <a:latin typeface="Arial"/>
              </a:rPr>
              <a:t>For example, if you are in the 25 percent tax bracket and decide to deposit $12,000 next year, your net out of pocket cost is only $9,000. </a:t>
            </a:r>
            <a:endParaRPr b="0" lang="en-US" sz="1700" spc="-1" strike="noStrike">
              <a:solidFill>
                <a:srgbClr val="2b2c0e"/>
              </a:solidFill>
              <a:latin typeface="Arial"/>
            </a:endParaRPr>
          </a:p>
          <a:p>
            <a:pPr lvl="1" marL="698400" indent="-268560">
              <a:spcBef>
                <a:spcPts val="42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2b2c0e"/>
                </a:solidFill>
                <a:latin typeface="Arial"/>
              </a:rPr>
              <a:t>Why? You will pay $3,000 (.25*$12,000) less in taxes than you would if you had not made this deposit. </a:t>
            </a:r>
            <a:br>
              <a:rPr sz="1700"/>
            </a:br>
            <a:r>
              <a:rPr b="0" lang="en-US" sz="17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2b2c0e"/>
              </a:solidFill>
              <a:latin typeface="Arial"/>
            </a:endParaRPr>
          </a:p>
          <a:p>
            <a:pPr marL="322200" indent="-32220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b2c0e"/>
                </a:solidFill>
                <a:latin typeface="Arial"/>
              </a:rPr>
              <a:t>Of course, nothing is free. You must pay taxes on the withdrawals you make during retirement. 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dividual Retirement Accounts, IRA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160" y="1365120"/>
            <a:ext cx="83055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Generally, IRAs are for people who do not have access to a company-sponsored plan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essential difference between IRAs lies in taxes (“Pay me now, or pay me later.”)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Roth Individual Retirement Account (Roth IRA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Today, you invest after-tax money.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Therefore, you pay no taxes when you make withdrawals.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So, capital gains and dividends accumulate tax-free.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ax-Deferred” or Traditional IRA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You do not pay taxes on money you place into this account.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b2c0e"/>
                </a:solidFill>
                <a:latin typeface="Arial"/>
              </a:rPr>
              <a:t>When money is removed from this account, you pay taxes.</a:t>
            </a:r>
            <a:endParaRPr b="0" lang="en-US" sz="1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Roth IRAs benefit younger investors in a low tax bracket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oosing a Broker/Advisor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160" y="1290240"/>
            <a:ext cx="830556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at do you do after carefully crafting your Investment Policy Statement (IPS)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fter setting up your IRA (highly advised), you might decide to invest other money.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f so, you need to choose the type of brokerage account and your broker/advisor from: 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full-service brokers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discount brokers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2b2c0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deep-discount brokers</a:t>
            </a:r>
            <a:br>
              <a:rPr sz="1600"/>
            </a:b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se three groups can be distinguished by the level of service provided, as well as the level of commissions charge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oosing a Broker/Advisor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30556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s the brokerage industry becomes more competitive, the differences among broker types continues to blur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nother important change is the rapid growth of </a:t>
            </a:r>
            <a:r>
              <a:rPr b="0" i="1" lang="en-US" sz="1800" spc="-1" strike="noStrike">
                <a:solidFill>
                  <a:srgbClr val="2b2c0e"/>
                </a:solidFill>
                <a:latin typeface="Arial"/>
              </a:rPr>
              <a:t>online brokers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, also known as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e-brokers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or </a:t>
            </a: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cyberbrokers</a:t>
            </a: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Online investing has really changed the brokerage industry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lashing brokerage commissions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providing investment information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Customers place buy and sell orders over the Internet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01680" indent="-3016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Many full-service brokers offer an advisory-based relationship for clients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Rather than charging commissions on every transaction, the investment advisor charges an annual fee, say 1-2%, based on the account balance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This fee covers all services associated with advice and trading.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n advisory-based relationship can align the interests of the client and the advisor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dvisor-Customer Relation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762120"/>
            <a:ext cx="830556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 are several important things to remember  when you deal with any broker/advisor: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2b2c0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y advice you receive i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guaranteed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2b2c0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r broker works as your agent and has a legal duty to act in your best interest. 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2b2c0e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rokerage firms, however, do make profits from brokerage commissions and/or annual fee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2b2c0e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r account agreement will probably specify that any disputes will be settled by arbitration and that the arbitration is final and binding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Securities Investor Protection Corpor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ecurities Investor Protection Corporation (SIPC)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surance fund covering investors’ brokerage accounts when member firms go bankrupt or experience financial difficultie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Most brokerage firms belong to the SIPC, which insures each account for up to $500,000 in cash and securities, with a $100,000 cash maximum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2c0e"/>
                </a:solidFill>
                <a:latin typeface="Arial"/>
              </a:rPr>
              <a:t>Important: The SIPC does not guarantee the value of any security (unlike FDIC coverage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ather, SIPC protects whatever amount of cash and securities that were in your account, in the event of fraud or other failur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pening Your Brokerage Account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990720" y="1447920"/>
            <a:ext cx="7467480" cy="5029200"/>
            <a:chOff x="990720" y="1447920"/>
            <a:chExt cx="7467480" cy="5029200"/>
          </a:xfrm>
        </p:grpSpPr>
        <p:sp>
          <p:nvSpPr>
            <p:cNvPr id="165" name="Rectangle 5"/>
            <p:cNvSpPr/>
            <p:nvPr/>
          </p:nvSpPr>
          <p:spPr>
            <a:xfrm>
              <a:off x="3657600" y="3276720"/>
              <a:ext cx="24382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c) Buy 100 Share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f Disney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 $33 per sh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6"/>
            <p:cNvSpPr/>
            <p:nvPr/>
          </p:nvSpPr>
          <p:spPr>
            <a:xfrm>
              <a:off x="5943600" y="5410080"/>
              <a:ext cx="2514600" cy="106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e) $6,650 Cas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$3,300 Stock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7"/>
            <p:cNvSpPr/>
            <p:nvPr/>
          </p:nvSpPr>
          <p:spPr>
            <a:xfrm>
              <a:off x="4800600" y="4419720"/>
              <a:ext cx="25146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d) Pay Commission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ay $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8"/>
            <p:cNvSpPr/>
            <p:nvPr/>
          </p:nvSpPr>
          <p:spPr>
            <a:xfrm>
              <a:off x="2362320" y="2286000"/>
              <a:ext cx="259056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b) Deposit $10,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o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1"/>
            <p:cNvSpPr/>
            <p:nvPr/>
          </p:nvSpPr>
          <p:spPr>
            <a:xfrm>
              <a:off x="990720" y="1447920"/>
              <a:ext cx="266688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) Open a broker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 trading accou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70" name="Straight Arrow Connector 19"/>
          <p:cNvCxnSpPr/>
          <p:nvPr/>
        </p:nvCxnSpPr>
        <p:spPr>
          <a:xfrm flipV="1">
            <a:off x="1752120" y="2666160"/>
            <a:ext cx="608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" name="Straight Arrow Connector 21"/>
          <p:cNvCxnSpPr/>
          <p:nvPr/>
        </p:nvCxnSpPr>
        <p:spPr>
          <a:xfrm flipV="1">
            <a:off x="3047760" y="3809160"/>
            <a:ext cx="6087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" name="Straight Arrow Connector 22"/>
          <p:cNvCxnSpPr/>
          <p:nvPr/>
        </p:nvCxnSpPr>
        <p:spPr>
          <a:xfrm flipV="1">
            <a:off x="4190760" y="4800240"/>
            <a:ext cx="608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Straight Arrow Connector 23"/>
          <p:cNvCxnSpPr/>
          <p:nvPr/>
        </p:nvCxnSpPr>
        <p:spPr>
          <a:xfrm flipV="1">
            <a:off x="5333760" y="5943240"/>
            <a:ext cx="608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4" name="Straight Connector 25"/>
          <p:cNvSpPr/>
          <p:nvPr/>
        </p:nvSpPr>
        <p:spPr>
          <a:xfrm>
            <a:off x="17524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26"/>
          <p:cNvSpPr/>
          <p:nvPr/>
        </p:nvSpPr>
        <p:spPr>
          <a:xfrm>
            <a:off x="3048120" y="30481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27"/>
          <p:cNvSpPr/>
          <p:nvPr/>
        </p:nvSpPr>
        <p:spPr>
          <a:xfrm>
            <a:off x="41911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28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wo Types of Brokerage Accoun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ash accou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a brokerage account in which securities are paid for in full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 Margin accoun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a brokerage account in which, subject to limits, securities can be bought and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old short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on credit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5105520" y="4952880"/>
            <a:ext cx="35049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(more on selling short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argin Accoun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a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argin purchase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, the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portion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f the value of an investment that is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not borrowed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s called the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argi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f course, the portion that is borrowed incurs an interest charg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is interest is based on the broker’s </a:t>
            </a:r>
            <a:r>
              <a:rPr b="0" i="1" lang="en-US" sz="2800" spc="-1" strike="noStrike">
                <a:solidFill>
                  <a:srgbClr val="2b2c0e"/>
                </a:solidFill>
                <a:latin typeface="Arial"/>
              </a:rPr>
              <a:t>call money rate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The call money rate is the rate brokers pay to borrow money to lend to customers in their margin accounts.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Margin Accounts,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The Balance Sheet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4051440"/>
          <a:ext cx="8153280" cy="2087280"/>
        </p:xfrm>
        <a:graphic>
          <a:graphicData uri="http://schemas.openxmlformats.org/drawingml/2006/table">
            <a:tbl>
              <a:tblPr/>
              <a:tblGrid>
                <a:gridCol w="2616120"/>
                <a:gridCol w="1228680"/>
                <a:gridCol w="2949840"/>
                <a:gridCol w="1358640"/>
              </a:tblGrid>
              <a:tr h="76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1,000 Shares, P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  6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1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7"/>
          <p:cNvSpPr/>
          <p:nvPr/>
        </p:nvSpPr>
        <p:spPr>
          <a:xfrm>
            <a:off x="762120" y="1219320"/>
            <a:ext cx="792468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buy 1,000 Pfizer (PFE) shares at $24 per shar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put up $18,000 and borrow the rest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mount borrowed = $24,000 – $18,000 = $6,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gin = $18,000 / $24,000 = 7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The Investment Proces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685800" y="1447920"/>
            <a:ext cx="7924680" cy="2110680"/>
            <a:chOff x="685800" y="1447920"/>
            <a:chExt cx="7924680" cy="2110680"/>
          </a:xfrm>
        </p:grpSpPr>
        <p:sp>
          <p:nvSpPr>
            <p:cNvPr id="135" name="Text Box 3"/>
            <p:cNvSpPr/>
            <p:nvPr/>
          </p:nvSpPr>
          <p:spPr>
            <a:xfrm>
              <a:off x="685800" y="1447920"/>
              <a:ext cx="792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“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n’t Gamble! Take all your savings and buy some good stock and hold it till it goes up.  If it don’t go up, don’t buy it.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4"/>
            <p:cNvSpPr/>
            <p:nvPr/>
          </p:nvSpPr>
          <p:spPr>
            <a:xfrm>
              <a:off x="5338080" y="3098880"/>
              <a:ext cx="196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ll Rog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argin Accoun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a margin purchase, the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minimum margi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that must be supplied is </a:t>
            </a:r>
            <a:r>
              <a:rPr b="1" i="1" lang="en-US" sz="2000" spc="-1" strike="noStrike">
                <a:solidFill>
                  <a:srgbClr val="009999"/>
                </a:solidFill>
                <a:latin typeface="Arial"/>
              </a:rPr>
              <a:t>called the initial margi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intenance margi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is the margin amount that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ust be present at all times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in a margin account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When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drops below the maintenance margin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, the broker can demand more funds. This is known as a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rgin call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The Workings of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 Margin Account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08040" y="4051440"/>
          <a:ext cx="7927920" cy="2163600"/>
        </p:xfrm>
        <a:graphic>
          <a:graphicData uri="http://schemas.openxmlformats.org/drawingml/2006/table">
            <a:tbl>
              <a:tblPr/>
              <a:tblGrid>
                <a:gridCol w="2543040"/>
                <a:gridCol w="1195560"/>
                <a:gridCol w="2830320"/>
                <a:gridCol w="1359000"/>
              </a:tblGrid>
              <a:tr h="699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800 Shares of WHOA @ $50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7"/>
          <p:cNvSpPr/>
          <p:nvPr/>
        </p:nvSpPr>
        <p:spPr>
          <a:xfrm>
            <a:off x="533520" y="1143000"/>
            <a:ext cx="830556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r margin account requir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initial margin of 50%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aintenance margin of 30%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hare in Miller Moore Equine Enterprises (WHOA) is selling for $50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have $20,000, and you want to buy as much WHOA as you ca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ou may buy up to $20,000 / 0.5 = $40,000 worth of WHO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The Workings of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 Margin Account, 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62120" y="3735360"/>
          <a:ext cx="7772040" cy="2549160"/>
        </p:xfrm>
        <a:graphic>
          <a:graphicData uri="http://schemas.openxmlformats.org/drawingml/2006/table">
            <a:tbl>
              <a:tblPr/>
              <a:tblGrid>
                <a:gridCol w="2494440"/>
                <a:gridCol w="1171080"/>
                <a:gridCol w="2610000"/>
                <a:gridCol w="1496520"/>
              </a:tblGrid>
              <a:tr h="819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800 Shares of WHOA @ $35/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Margin Lo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  </a:t>
                      </a:r>
                      <a:r>
                        <a:rPr b="1" lang="en-US" sz="1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28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Text Box 36"/>
          <p:cNvSpPr/>
          <p:nvPr/>
        </p:nvSpPr>
        <p:spPr>
          <a:xfrm>
            <a:off x="685800" y="1523880"/>
            <a:ext cx="800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7"/>
          <p:cNvSpPr/>
          <p:nvPr/>
        </p:nvSpPr>
        <p:spPr>
          <a:xfrm>
            <a:off x="228600" y="1295280"/>
            <a:ext cx="891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762120" y="1447920"/>
            <a:ext cx="7696080" cy="20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your purchase, shares of WHOA fall to $35. (Woe!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margin = $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  <a:ea typeface="Arial"/>
              </a:rPr>
              <a:t>8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/ $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28,000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 28.6%  &lt;  30%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refore, you are subject to 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margin c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The Effects of Margin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have $30,000 in a margin account, 60% initial margin required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can buy $50,000 of stock with this account (why?)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r borrowing rate from your broker is 6.00%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uppose you buy 1,000 shares of Coca-Cola (KO), for $50/shar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ssume no dividends, and that your borrowing rate is still 6.00%, what is your return if: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In one year, KO is selling for $60 per share?</a:t>
            </a:r>
            <a:br>
              <a:rPr sz="2400"/>
            </a:b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In one year, KO stock is selling for $60 per share, but you did not borrow money from your broker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The Effects of Margin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KO is selling for $60 per shar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r investment is worth $60,000.</a:t>
            </a:r>
            <a:br>
              <a:rPr sz="2000"/>
            </a:b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 owe 6% on the $20,000 you borrowed: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1,20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br>
              <a:rPr sz="2000"/>
            </a:b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If you pay off the loan with interest, your account balance is: $60,000 – $21,200 = $38,800.</a:t>
            </a:r>
            <a:br>
              <a:rPr sz="2000"/>
            </a:b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 started with $30,000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Therefore, your return is $8,800 / $30,000 = 29.33%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stock was selling for $40 per share instead of $60 per share?  What is your return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The Effects of Margin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Coca-Cola stock is selling for $60 per share, </a:t>
            </a: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but you did not borrow from your broker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 started with $30,000, which means you were able to buy $30,000 / $50 = 600 shares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r investment is now worth $36,000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Therefore, your return is $6,000 / $30,000 = 20.00%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Suppose Coca-Cola is selling for $40 per share instead of $60 per share.  What is your return in this case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How Low Can it Go?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Suppose you want to buy 300 shares of Pepsico, Inc. (PEP) at $55 per shar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Total cost: $16,500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You have only $9,900—so you must borrow $6,600. </a:t>
            </a:r>
            <a:br>
              <a:rPr sz="2800"/>
            </a:br>
            <a:r>
              <a:rPr b="1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Your initial margin is $9,900/$16,500 = 60%.</a:t>
            </a:r>
            <a:br>
              <a:rPr sz="2400"/>
            </a:b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uppose your maintenance margin is 40%. At what price will you receive a margin call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How Low Can it Go? (Answer)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This will happen when the price of Pepsico, Inc. drops to $36.67.  How so? Well,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08" name="Rectangle 3" descr=""/>
          <p:cNvPicPr/>
          <p:nvPr/>
        </p:nvPicPr>
        <p:blipFill>
          <a:blip r:embed="rId1"/>
          <a:stretch/>
        </p:blipFill>
        <p:spPr>
          <a:xfrm>
            <a:off x="1143000" y="2379600"/>
            <a:ext cx="6400800" cy="382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Example: Annualizing Return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on a Margin Purchase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buy 1,000 shares of Costco (COST) at $60 per share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r initial margin is 50%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borrow at the 9 percent call money rate plus 2 percent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sell Costco (COST) 4 months later for $63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There were no dividends paid (and suppose the prices above are net of commissions)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What is your holding period percentage return and your EAR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nnualizing Returns on a Margin Purchase, 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nswer: First, you have to repay the 3-month loan, so t = (3/12 = .25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mount Repaid = Amount Borrowed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 (1 + interest rate per year)</a:t>
            </a:r>
            <a:r>
              <a:rPr b="0" lang="en-US" sz="2000" spc="-1" strike="noStrike" baseline="30000">
                <a:solidFill>
                  <a:srgbClr val="2b2c0e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mount Repaid = $30,000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 (1 + .11)</a:t>
            </a:r>
            <a:r>
              <a:rPr b="0" lang="en-US" sz="2000" spc="-1" strike="noStrike" baseline="30000">
                <a:solidFill>
                  <a:srgbClr val="2b2c0e"/>
                </a:solidFill>
                <a:latin typeface="Arial"/>
                <a:ea typeface="Arial"/>
              </a:rPr>
              <a:t>.25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 $30,000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× 1.02643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 $30,792.9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Your Sale Proceeds = Cash from Sale – Amount Repaid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                                 = $63,000 – 30,792.9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                                    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  <a:ea typeface="Arial"/>
              </a:rPr>
              <a:t>= $32,207.1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r Profit = Your Sale Proceeds – Your Investment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 $32,207.10 - $30,000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= $2,207.10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Learning Objectiv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  </a:t>
            </a:r>
            <a:br>
              <a:rPr sz="28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on’t sell yourself short. Instead, learn about these key investment subjects: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1. The importance of an investment policy statement.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2. The various types of securities brokers and brokerage accounts.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3. How to calculate initial and maintenance margin.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4. The workings of short sales.</a:t>
            </a:r>
            <a:br>
              <a:rPr sz="2000"/>
            </a:b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Annualizing Returns on a Margin Purchase, II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grpSp>
        <p:nvGrpSpPr>
          <p:cNvPr id="214" name="Group 8"/>
          <p:cNvGrpSpPr/>
          <p:nvPr/>
        </p:nvGrpSpPr>
        <p:grpSpPr>
          <a:xfrm>
            <a:off x="838080" y="1676520"/>
            <a:ext cx="7696440" cy="4557600"/>
            <a:chOff x="838080" y="1676520"/>
            <a:chExt cx="7696440" cy="4557600"/>
          </a:xfrm>
        </p:grpSpPr>
        <p:pic>
          <p:nvPicPr>
            <p:cNvPr id="215" name="" descr=""/>
            <p:cNvPicPr/>
            <p:nvPr/>
          </p:nvPicPr>
          <p:blipFill>
            <a:blip r:embed="rId1"/>
            <a:stretch/>
          </p:blipFill>
          <p:spPr>
            <a:xfrm>
              <a:off x="838080" y="1676520"/>
              <a:ext cx="7696440" cy="32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 Box 7"/>
            <p:cNvSpPr/>
            <p:nvPr/>
          </p:nvSpPr>
          <p:spPr>
            <a:xfrm>
              <a:off x="5105520" y="5410080"/>
              <a:ext cx="335268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Note that there are 12/3 = 4 three-month holding periods in a year. Therefore, m = 4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Hypothecation and Street Name Registration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Hypothecation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is the act of pledging securities as a collateral against a loa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his pledge is needed so that the securities can be sold by the broker if the customer is unwilling or unable to meet a margin call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reet name registra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s an arrangement under which a broker is the registered owner of a security. (You, as the account holder are the “beneficial owner.”)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ther Account Issu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160" y="761760"/>
            <a:ext cx="830556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12120" indent="-312120">
              <a:lnSpc>
                <a:spcPct val="95000"/>
              </a:lnSpc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rading accounts can also be differentiated by the ways they are managed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lnSpc>
                <a:spcPct val="95000"/>
              </a:lnSpc>
              <a:spcBef>
                <a:spcPts val="550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99"/>
                </a:solidFill>
                <a:latin typeface="Arial"/>
              </a:rPr>
              <a:t>Advisory account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- You </a:t>
            </a:r>
            <a:r>
              <a:rPr b="1" lang="en-US" sz="2200" spc="-1" strike="noStrike">
                <a:solidFill>
                  <a:srgbClr val="2b2c0e"/>
                </a:solidFill>
                <a:latin typeface="Arial"/>
              </a:rPr>
              <a:t>pay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someone else to make buy and sell decisions on your behalf.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lnSpc>
                <a:spcPct val="95000"/>
              </a:lnSpc>
              <a:spcBef>
                <a:spcPts val="550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99"/>
                </a:solidFill>
                <a:latin typeface="Arial"/>
              </a:rPr>
              <a:t>Wrap account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- All the expenses associated with your account are “wrapped” into a single fee.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lnSpc>
                <a:spcPct val="95000"/>
              </a:lnSpc>
              <a:spcBef>
                <a:spcPts val="550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99"/>
                </a:solidFill>
                <a:latin typeface="Arial"/>
              </a:rPr>
              <a:t>Discretionary account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- You </a:t>
            </a:r>
            <a:r>
              <a:rPr b="1" lang="en-US" sz="2200" spc="-1" strike="noStrike">
                <a:solidFill>
                  <a:srgbClr val="2b2c0e"/>
                </a:solidFill>
                <a:latin typeface="Arial"/>
              </a:rPr>
              <a:t>authorize 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your broker to trade for you.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lnSpc>
                <a:spcPct val="95000"/>
              </a:lnSpc>
              <a:spcBef>
                <a:spcPts val="550"/>
              </a:spcBef>
              <a:buClr>
                <a:srgbClr val="560d1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99"/>
                </a:solidFill>
                <a:latin typeface="Arial"/>
              </a:rPr>
              <a:t>Asset management account</a:t>
            </a: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- Provide for complete money management, including check-writing privileges, credit cards, and margin loans.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ther Account Issu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o invest in financial securities, you do not need an account with a broker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One alternative is to buy securities directly from the issuer.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nother alternative is to invest in </a:t>
            </a:r>
            <a:r>
              <a:rPr b="1" i="1" lang="en-US" sz="2400" spc="-1" strike="noStrike">
                <a:solidFill>
                  <a:srgbClr val="009999"/>
                </a:solidFill>
                <a:latin typeface="Arial"/>
              </a:rPr>
              <a:t>mutual funds</a:t>
            </a: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hort Sal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3000" y="5291280"/>
            <a:ext cx="7391520" cy="7048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indent="0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Note that an investor who buys and owns shares of stock is said to be “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long the stock</a:t>
            </a:r>
            <a:r>
              <a:rPr b="1" i="1" lang="en-US" sz="2000" spc="-1" strike="noStrike">
                <a:solidFill>
                  <a:srgbClr val="2b2c0e"/>
                </a:solidFill>
                <a:latin typeface="Arial"/>
              </a:rPr>
              <a:t>”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or to have a “</a:t>
            </a: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long position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.”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25" name="Rectangle 12"/>
          <p:cNvSpPr/>
          <p:nvPr/>
        </p:nvSpPr>
        <p:spPr>
          <a:xfrm>
            <a:off x="838080" y="121932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hort S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ale in which the seller does not actually own the security that is so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16"/>
          <p:cNvGrpSpPr/>
          <p:nvPr/>
        </p:nvGrpSpPr>
        <p:grpSpPr>
          <a:xfrm>
            <a:off x="914400" y="2590920"/>
            <a:ext cx="7543800" cy="2197080"/>
            <a:chOff x="914400" y="2590920"/>
            <a:chExt cx="7543800" cy="2197080"/>
          </a:xfrm>
        </p:grpSpPr>
        <p:grpSp>
          <p:nvGrpSpPr>
            <p:cNvPr id="227" name="Group 15"/>
            <p:cNvGrpSpPr/>
            <p:nvPr/>
          </p:nvGrpSpPr>
          <p:grpSpPr>
            <a:xfrm>
              <a:off x="914400" y="2590920"/>
              <a:ext cx="7543800" cy="1714320"/>
              <a:chOff x="914400" y="2590920"/>
              <a:chExt cx="7543800" cy="1714320"/>
            </a:xfrm>
          </p:grpSpPr>
          <p:sp>
            <p:nvSpPr>
              <p:cNvPr id="228" name="Rectangle 5"/>
              <p:cNvSpPr/>
              <p:nvPr/>
            </p:nvSpPr>
            <p:spPr>
              <a:xfrm>
                <a:off x="9144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orro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meon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6"/>
              <p:cNvSpPr/>
              <p:nvPr/>
            </p:nvSpPr>
            <p:spPr>
              <a:xfrm>
                <a:off x="2986200" y="2590920"/>
                <a:ext cx="143352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ll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 the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7"/>
              <p:cNvSpPr/>
              <p:nvPr/>
            </p:nvSpPr>
            <p:spPr>
              <a:xfrm>
                <a:off x="2427120" y="3448080"/>
                <a:ext cx="559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9"/>
              <p:cNvSpPr/>
              <p:nvPr/>
            </p:nvSpPr>
            <p:spPr>
              <a:xfrm>
                <a:off x="510552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Bu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om 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arke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0"/>
              <p:cNvSpPr/>
              <p:nvPr/>
            </p:nvSpPr>
            <p:spPr>
              <a:xfrm>
                <a:off x="7086600" y="2590920"/>
                <a:ext cx="1371600" cy="1714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336600"/>
                </a:solidFill>
                <a:miter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etur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h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har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11"/>
              <p:cNvSpPr/>
              <p:nvPr/>
            </p:nvSpPr>
            <p:spPr>
              <a:xfrm>
                <a:off x="6477120" y="3448080"/>
                <a:ext cx="60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Text Box 13"/>
            <p:cNvSpPr/>
            <p:nvPr/>
          </p:nvSpPr>
          <p:spPr>
            <a:xfrm>
              <a:off x="1523880" y="4419720"/>
              <a:ext cx="24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od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5410080" y="441972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the Futu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Short Sal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79977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n investor with a long position benefits from price increas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Easy to understan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 buy today at $34, and sell later at $57, you profit!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uy low, sell high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An investor with a short position benefits from price decrease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Also easy to understand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 sell today at $83, and buy later at $27, you profit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ll high, buy low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Short Sales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81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You short 100 shares of Verizon Communications (VZ) at $30 per share.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Your broker has a 50% initial margin and a 40% maintenance margin on short sales. 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The value of stock borrowed that will be sold short is: </a:t>
            </a:r>
            <a:br>
              <a:rPr sz="1800"/>
            </a:br>
            <a:r>
              <a:rPr b="1" lang="en-US" sz="1800" spc="-1" strike="noStrike">
                <a:solidFill>
                  <a:srgbClr val="2b2c0e"/>
                </a:solidFill>
                <a:latin typeface="Arial"/>
              </a:rPr>
              <a:t>$30 × $100 = $3,000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762120" y="3660840"/>
          <a:ext cx="7695720" cy="2331720"/>
        </p:xfrm>
        <a:graphic>
          <a:graphicData uri="http://schemas.openxmlformats.org/drawingml/2006/table">
            <a:tbl>
              <a:tblPr/>
              <a:tblGrid>
                <a:gridCol w="2613240"/>
                <a:gridCol w="1269000"/>
                <a:gridCol w="2471040"/>
                <a:gridCol w="1342440"/>
              </a:tblGrid>
              <a:tr h="896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Short Sales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217160"/>
            <a:ext cx="8153280" cy="17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Verizon Communications stock price falls to $20 per shar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Sold at $30, value today is $20, so you are "ahead" by $10 per share, or $1,000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Also, new margin: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,50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,00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= 125%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685800" y="3735360"/>
          <a:ext cx="8000640" cy="2468160"/>
        </p:xfrm>
        <a:graphic>
          <a:graphicData uri="http://schemas.openxmlformats.org/drawingml/2006/table">
            <a:tbl>
              <a:tblPr/>
              <a:tblGrid>
                <a:gridCol w="2715120"/>
                <a:gridCol w="1248480"/>
                <a:gridCol w="2716920"/>
                <a:gridCol w="1320120"/>
              </a:tblGrid>
              <a:tr h="88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Initial Margin Deposit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2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Example: Short Sales, I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22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Verizon Communications stock price rises to $40 per shar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You sold short at $30, stock price is now $40, you are "behind" by $10 per share, or $1,000. 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(“He who sells what isn’t his’n, must buy it back—or go to prison.”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Also: new margin = $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50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/ $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,000</a:t>
            </a:r>
            <a:r>
              <a:rPr b="1" lang="en-US" sz="2000" spc="-1" strike="noStrike">
                <a:solidFill>
                  <a:srgbClr val="2b2c0e"/>
                </a:solidFill>
                <a:latin typeface="Arial"/>
              </a:rPr>
              <a:t> = 12.5%  &lt;  40% Therefore, you are subject to a margin call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62120" y="3660840"/>
          <a:ext cx="7848000" cy="2469600"/>
        </p:xfrm>
        <a:graphic>
          <a:graphicData uri="http://schemas.openxmlformats.org/drawingml/2006/table">
            <a:tbl>
              <a:tblPr/>
              <a:tblGrid>
                <a:gridCol w="2662920"/>
                <a:gridCol w="1224360"/>
                <a:gridCol w="2520360"/>
                <a:gridCol w="1440360"/>
              </a:tblGrid>
              <a:tr h="896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ss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Liabilities a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ale Proceed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3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Short Pos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381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9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Initial Margin Depos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1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Account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   </a:t>
                      </a: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2b2c0e"/>
                          </a:solidFill>
                          <a:latin typeface="Arial"/>
                        </a:rPr>
                        <a:t>$ 4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More on Short Sal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hort interest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s the amount of common stock held in short position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In practice, short selling is quite common and a substantial volume of stock sales are initiated by short sellers.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Note that with a short position, you may lose more than your total investment, as there is no theoretical limit to how high the stock price may rise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Short Sellers face Constraints.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From government intervention (i.e., the SEC)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lso, there might not be enough shares available to borrow to short sell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Constraints reduce liquidity, increase volatility, and lead to inefficient pricing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vesting Overview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831600"/>
            <a:ext cx="83055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undamental Question: Why invest at all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We invest today to have more tomorrow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Investment is simply deferred consumptio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b2c0e"/>
                </a:solidFill>
                <a:latin typeface="Arial"/>
              </a:rPr>
              <a:t>We choose to wait because we want more to spend later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Investors have their own investment objectives and strategies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08520" indent="-30852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The Investment Policy Statement (IPS)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Designed to reflect your objectives and strategi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wo part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2" marL="1028520" indent="-20556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Objectives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2" marL="1028520" indent="-205560">
              <a:spcBef>
                <a:spcPts val="4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b2c0e"/>
                </a:solidFill>
                <a:latin typeface="Arial"/>
              </a:rPr>
              <a:t>Constraints</a:t>
            </a:r>
            <a:endParaRPr b="0" lang="en-US" sz="16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Finding Actual Short Positions 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(from </a:t>
            </a:r>
            <a:r>
              <a:rPr b="0" lang="en-US" sz="3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inance.yahoo.com</a:t>
            </a:r>
            <a:r>
              <a:rPr b="0" i="1" lang="en-US" sz="3400" spc="-1" strike="noStrike">
                <a:solidFill>
                  <a:srgbClr val="2b2c0e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50" name="Picture 9" descr="C:\Users\Tom Miller\Documents\Godzilla_VI\Sixth_Edition\Tom_Update_Files\Chap_02\WWW_Yahoo_Short_Interest.jpg"/>
          <p:cNvPicPr/>
          <p:nvPr/>
        </p:nvPicPr>
        <p:blipFill>
          <a:blip r:embed="rId2"/>
          <a:stretch/>
        </p:blipFill>
        <p:spPr>
          <a:xfrm>
            <a:off x="2133720" y="1379520"/>
            <a:ext cx="5181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orming a Real Investment Portfolio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17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Take the Risk Tolerance Quiz in the textbook.</a:t>
            </a:r>
            <a:br>
              <a:rPr sz="2400"/>
            </a:b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hat score did you get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762120" y="2981160"/>
            <a:ext cx="78310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Forming a Real Investment Portfolio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What does your score mean?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77960" y="2286000"/>
            <a:ext cx="783252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Useful Internet Sit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160" y="1301400"/>
            <a:ext cx="83055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inra.org</a:t>
            </a:r>
            <a:r>
              <a:rPr b="0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(a reference for dispute resolution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bearmarketcentral.com</a:t>
            </a:r>
            <a:r>
              <a:rPr b="0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(a reference for short selling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nasdaq.com</a:t>
            </a:r>
            <a:r>
              <a:rPr b="0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(a reference for short interest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moneycentral.msn.com</a:t>
            </a:r>
            <a:r>
              <a:rPr b="0" lang="en-US" sz="20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(a reference for building a portfolio—search the site for “Build your first stock portfolio”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sharebuilder.com</a:t>
            </a:r>
            <a:r>
              <a:rPr b="0" lang="en-US" sz="20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(a reference for opening a brokerage account)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buyandhold.com</a:t>
            </a:r>
            <a:r>
              <a:rPr b="0" lang="en-US" sz="2000" spc="-1" strike="noStrike">
                <a:solidFill>
                  <a:srgbClr val="367d82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(another reference for opening a brokerage account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individual.ml.com</a:t>
            </a:r>
            <a:r>
              <a:rPr b="0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(a risk tolerance questionnaire from Merrill Lynch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money-rates.com</a:t>
            </a:r>
            <a:r>
              <a:rPr b="0" lang="en-US" sz="2000" spc="-1" strike="noStrike">
                <a:solidFill>
                  <a:srgbClr val="367d8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(a reference for current broker call money rate)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finance.yahoo.com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(a reference for short sales on particular stocks)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33160" y="1064880"/>
            <a:ext cx="830556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75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b2c0e"/>
                </a:solidFill>
                <a:latin typeface="Arial"/>
              </a:rPr>
              <a:t>The importance of an investment policy statement (IPS).</a:t>
            </a:r>
            <a:endParaRPr b="0" lang="en-US" sz="23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5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b2c0e"/>
                </a:solidFill>
                <a:latin typeface="Arial"/>
              </a:rPr>
              <a:t>The investment policy statement (IPS) identifies the objectives (risk and return) of an investor, as well as the constraints the investor faces in achieving these objectives.</a:t>
            </a:r>
            <a:endParaRPr b="0" lang="en-US" sz="23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5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b2c0e"/>
                </a:solidFill>
                <a:latin typeface="Arial"/>
              </a:rPr>
              <a:t>The IPS provides an investing “roadmap” and will influence the strategies, type of account, and holdings an investor chooses.</a:t>
            </a:r>
            <a:endParaRPr b="0" lang="en-US" sz="2300" spc="-1" strike="noStrike">
              <a:solidFill>
                <a:srgbClr val="2b2c0e"/>
              </a:solidFill>
              <a:latin typeface="Arial"/>
            </a:endParaRPr>
          </a:p>
          <a:p>
            <a:pPr marL="31212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2b2c0e"/>
              </a:solidFill>
              <a:latin typeface="Arial"/>
            </a:endParaRPr>
          </a:p>
          <a:p>
            <a:pPr marL="312120" indent="-312120">
              <a:spcBef>
                <a:spcPts val="575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b2c0e"/>
                </a:solidFill>
                <a:latin typeface="Arial"/>
              </a:rPr>
              <a:t>The various types of securities brokers</a:t>
            </a:r>
            <a:endParaRPr b="0" lang="en-US" sz="23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5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b2c0e"/>
                </a:solidFill>
                <a:latin typeface="Arial"/>
              </a:rPr>
              <a:t>Choosing a Broker</a:t>
            </a:r>
            <a:endParaRPr b="0" lang="en-US" sz="23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5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b2c0e"/>
                </a:solidFill>
                <a:latin typeface="Arial"/>
              </a:rPr>
              <a:t>Online Brokers</a:t>
            </a:r>
            <a:endParaRPr b="0" lang="en-US" sz="23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5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b2c0e"/>
                </a:solidFill>
                <a:latin typeface="Arial"/>
              </a:rPr>
              <a:t>Security Investors Protection Corporation</a:t>
            </a:r>
            <a:endParaRPr b="0" lang="en-US" sz="2300" spc="-1" strike="noStrike">
              <a:solidFill>
                <a:srgbClr val="2b2c0e"/>
              </a:solidFill>
              <a:latin typeface="Arial"/>
            </a:endParaRPr>
          </a:p>
          <a:p>
            <a:pPr lvl="1" marL="676080" indent="-259920">
              <a:spcBef>
                <a:spcPts val="575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2b2c0e"/>
                </a:solidFill>
                <a:latin typeface="Arial"/>
              </a:rPr>
              <a:t>Broker-Customer Relations</a:t>
            </a:r>
            <a:br>
              <a:rPr sz="2300"/>
            </a:br>
            <a:r>
              <a:rPr b="0" lang="en-US" sz="23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Chapter Review, II.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830556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Brokerage Account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Cash Account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Margin Accounts and how to calculate initial and maintenance margin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A Note on Annualizing Returns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Short Sales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Basics of a Short Sale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Some Details</a:t>
            </a:r>
            <a:br>
              <a:rPr sz="2800"/>
            </a:br>
            <a:r>
              <a:rPr b="0" lang="en-US" sz="2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b2c0e"/>
              </a:solidFill>
              <a:latin typeface="Arial"/>
            </a:endParaRPr>
          </a:p>
          <a:p>
            <a:pPr marL="305280" indent="-305280">
              <a:spcBef>
                <a:spcPts val="11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Forming a Real Investment Portfolio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Objectives: Risk and Return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14264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 formulating investment objectives, the individual must balance return objectives with risk toleranc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vestors must think about risk and return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Investors must think about how much risk they can handle.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r risk tolerance is affected by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r ability to take risk 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c0e"/>
                </a:solidFill>
                <a:latin typeface="Arial"/>
              </a:rPr>
              <a:t>Your willingness to take risk</a:t>
            </a: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vestor Constraint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055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Resources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What is the minimum sum needed? What are the associated costs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Horizon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When do you need the money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Liquidity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How high is the possibility that you need to sell the asset quickly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Taxes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Which tax bracket are you in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pecial circumstances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Does your company provide any incentive? What are your regulatory and legal restrictions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Investment Strategies and Policies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1301760"/>
            <a:ext cx="830556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Investment management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Should you manage your investments yourself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Market timing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Should you try to buy and sell in anticipation of the future direction of the market?</a:t>
            </a:r>
            <a:br>
              <a:rPr sz="2000"/>
            </a:b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Asset allocation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How should you distribute your investment funds across the different classes of assets?</a:t>
            </a: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Security selection.</a:t>
            </a: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  Within each class, which specific securities should you buy?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2b2c0e"/>
                </a:solidFill>
                <a:latin typeface="Arial"/>
              </a:rPr>
              <a:t>Asset Allocation or Security Selection?</a:t>
            </a:r>
            <a:endParaRPr b="0" lang="en-US" sz="35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837720"/>
            <a:ext cx="83055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Is asset allocation or security selection more important to the success of a portfolio? </a:t>
            </a:r>
            <a:br>
              <a:rPr sz="1900"/>
            </a:b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Most people are inclined to think security selection is the more important element for successful investing.</a:t>
            </a:r>
            <a:br>
              <a:rPr sz="1900"/>
            </a:b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Research shows, however, that asset allocation is the more important determinant of portfolio returns. Many experts suggest: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About 90 percent of portfolio performance stems from asset allocation.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So, 10 percent of portfolio performance comes from security selection.</a:t>
            </a:r>
            <a:br>
              <a:rPr sz="1800"/>
            </a:b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How is this result possible? Well, consider the Crash of 2008. 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Bonds outperformed stocks in 2008</a:t>
            </a:r>
            <a:endParaRPr b="0" lang="en-US" sz="1800" spc="-1" strike="noStrike">
              <a:solidFill>
                <a:srgbClr val="2b2c0e"/>
              </a:solidFill>
              <a:latin typeface="Arial"/>
            </a:endParaRPr>
          </a:p>
          <a:p>
            <a:pPr lvl="1" marL="720720" indent="-277200">
              <a:spcBef>
                <a:spcPts val="476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c0e"/>
                </a:solidFill>
                <a:latin typeface="Arial"/>
              </a:rPr>
              <a:t>Even those elusive “skilled stock pickers” might underperform bonds</a:t>
            </a:r>
            <a:r>
              <a:rPr b="0" lang="en-US" sz="19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2b2c0e"/>
              </a:solidFill>
              <a:latin typeface="Arial"/>
            </a:endParaRPr>
          </a:p>
          <a:p>
            <a:pPr lvl="2" marL="1108440" indent="-221400">
              <a:spcBef>
                <a:spcPts val="3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2c0e"/>
                </a:solidFill>
                <a:latin typeface="Arial"/>
              </a:rPr>
              <a:t>Stocks tend to move together</a:t>
            </a:r>
            <a:endParaRPr b="0" lang="en-US" sz="1200" spc="-1" strike="noStrike">
              <a:solidFill>
                <a:srgbClr val="2b2c0e"/>
              </a:solidFill>
              <a:latin typeface="Arial"/>
            </a:endParaRPr>
          </a:p>
          <a:p>
            <a:pPr lvl="2" marL="1108440" indent="-221400">
              <a:spcBef>
                <a:spcPts val="300"/>
              </a:spcBef>
              <a:buClr>
                <a:srgbClr val="2b2c0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2c0e"/>
                </a:solidFill>
                <a:latin typeface="Arial"/>
              </a:rPr>
              <a:t>Even a “skilled stock picker” would have trouble beating bonds if most stock prices are performing poorly relative to bond prices</a:t>
            </a:r>
            <a:endParaRPr b="0" lang="en-US" sz="1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4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Retirement Accounts:</a:t>
            </a:r>
            <a:br>
              <a:rPr sz="3400"/>
            </a:br>
            <a:r>
              <a:rPr b="0" lang="en-US" sz="3400" spc="-1" strike="noStrike">
                <a:solidFill>
                  <a:srgbClr val="2b2c0e"/>
                </a:solidFill>
                <a:latin typeface="Arial"/>
              </a:rPr>
              <a:t> Company Sponsored Plans, I.</a:t>
            </a:r>
            <a:endParaRPr b="0" lang="en-US" sz="3400" spc="-1" strike="noStrike">
              <a:solidFill>
                <a:srgbClr val="2b2c0e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160" y="762120"/>
            <a:ext cx="830556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c0e"/>
                </a:solidFill>
                <a:latin typeface="Arial"/>
              </a:rPr>
              <a:t>You will probably have access to a company-sponsored retirement plan such as a 401(k). </a:t>
            </a: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In a typical plan, you (the employee) decides how much money to contribute to the plan through payroll deductions.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Generally, your employer also makes contributions to the plan.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For example, your company could make dollar-for-dollar matching contributions up to a certain percentage of your salary.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Even after your contributions hit the maximum amount your employer will match, you can still contribute additional funds.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lvl="1" marL="683280" indent="-262800">
              <a:spcBef>
                <a:spcPts val="550"/>
              </a:spcBef>
              <a:buClr>
                <a:srgbClr val="2b2c0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The amount of your total contribution is limited by the Internal Revenue Service (IRS). </a:t>
            </a:r>
            <a:br>
              <a:rPr sz="2200"/>
            </a:br>
            <a:r>
              <a:rPr b="0" lang="en-US" sz="2200" spc="-1" strike="noStrike">
                <a:solidFill>
                  <a:srgbClr val="2b2c0e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2b2c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2c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4T22:58:03Z</dcterms:created>
  <dc:creator>MHE</dc:creator>
  <dc:description/>
  <dc:language>en-US</dc:language>
  <cp:lastModifiedBy>gunveen.kaur</cp:lastModifiedBy>
  <dcterms:modified xsi:type="dcterms:W3CDTF">2011-02-23T08:17:41Z</dcterms:modified>
  <cp:revision>82</cp:revision>
  <dc:subject/>
  <dc:title>Slide 1</dc:title>
</cp:coreProperties>
</file>