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B1A5-5C03-437E-915A-09E8AFF6C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B36D-9E2B-4503-B433-FDE454CC7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0893-4D43-45D0-BCF7-C811C53B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8FD-6E1B-4386-9DD1-60D5A655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3EE2-00CE-4382-862E-14D4D1DBF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5F91-537F-4E38-982F-26643CCC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52FE-55BF-43F0-BC83-F03AACF03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0194-7467-4479-B160-3695A805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01E0-7DC0-43E2-BB8B-C4F26774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298A-8CF9-4DE1-B483-1584007A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DD30-2D5A-4AD7-8C17-276C5B607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245F-C68F-4352-88DC-539D8491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FE71-E45B-47F6-B68A-68EFA67AA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A3A3-6BBE-4C3D-814A-6E08F52F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6428-373B-40E6-92E6-0D522E62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A1D2-54A8-4B53-A029-2D2CF6208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923F-1198-4266-B4F9-2E489EFFA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DB0B-E235-43ED-A278-1525618BA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1C37-A9A3-44B9-A4A8-DCEA1BB4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7893-61AB-41C1-8764-07C0238AF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B306-2E88-4AB6-B0CA-E249DD545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E693-7062-4411-BD72-CC96D537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C50-8045-4DEB-8F84-A3FFE263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BF7B-B008-4950-BB7D-9C8D69A1E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DA9D-FFBC-45BF-9D18-B8B450E6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AE9B-DD93-4C75-AC2D-004538B49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DACE-C564-405B-B3D0-96D7BE73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9093-AE2C-44DE-9AB1-F9773B68C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50C5-4C30-4DE2-A79D-12E36AE0F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3274-5B63-4F80-9350-01CD8F99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A630-997E-4F9E-9304-51E513F8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F706-D4E5-4098-B0A8-39CCCA97B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4423-F30B-46D4-A962-24A72DC4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66B7-A3D0-4CDA-8D60-5EBCCDCD9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F2AC-6B2E-45A3-B516-1258A0134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E3C7-FB2B-4C66-A495-F6B8B1FB0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B884-6CFB-4A83-869D-C0D57F7C4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9AB-5E5A-4900-95D1-8CC5CAD3C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B53B-FE62-45BC-90E0-341BB6BC3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AF64-5196-4EA7-9014-FAB758C35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27016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The Investment Proce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3A152F33-254B-46C2-BB06-5F81D56D74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inance.yahoo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finra.org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Retirement Account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Company Sponsored Plans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160" y="1057320"/>
            <a:ext cx="83055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2c0e"/>
                </a:solidFill>
                <a:latin typeface="Arial"/>
              </a:rPr>
              <a:t>The general investing approach applies to your retirement plan.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You decide your percentage allocations to asset classes (like stocks, bonds, and T-bills) and then choose particular securities (i.e., mutual funds) in each asset class.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You will also make the decision whether to invest in U.S. securities, securities in other regions of the world, securities in specific countries, large company securities, small company securities, or a combination of these categories.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2c0e"/>
                </a:solidFill>
                <a:latin typeface="Arial"/>
              </a:rPr>
              <a:t>The primary benefit of company-sponsored plans is that money you deposit into the account lowers your taxable income.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So, your tax bill is lower, and your net “out of pocket” cost is lower.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For example, if you are in the 25 percent tax bracket and decide to deposit $12,000 next year, your net out of pocket cost is only $9,000.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Why? You will pay $3,000 (.25*$12,000) less in taxes than you would if you had not made this deposit. </a:t>
            </a:r>
            <a:br>
              <a:rPr sz="1700"/>
            </a:b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2c0e"/>
                </a:solidFill>
                <a:latin typeface="Arial"/>
              </a:rPr>
              <a:t>Of course, nothing is free. You must pay taxes on the withdrawals you make during retirement.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dividual Retirement Accounts, IRA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365120"/>
            <a:ext cx="83055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Generally, IRAs are for people who do not have access to a company-sponsored pla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essential difference between IRAs lies in taxes (“Pay me now, or pay me later.”)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oth Individual Retirement Account (Roth IRA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day, you invest after-tax money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herefore, you pay no taxes when you make withdrawals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So, capital gains and dividends accumulate tax-free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ax-Deferred” or Traditional IRA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You do not pay taxes on money you place into this account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When money is removed from this account, you pay taxes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oth IRAs benefit younger investors in a low tax bracke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oosing a Broker/Advisor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160" y="1290240"/>
            <a:ext cx="830556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do you do after carefully crafting your Investment Policy Statement (IPS)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fter setting up your IRA (highly advised), you might decide to invest other money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so, you need to choose the type of brokerage account and your broker/advisor from: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full-service broker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iscount broker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eep-discount brokers</a:t>
            </a:r>
            <a:br>
              <a:rPr sz="1600"/>
            </a:b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oosing a Broker/Advisor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other important change is the rapid growth of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online 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, also known as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Online investing has really changed the brokerage industry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lashing brokerage commission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oviding investment information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ustomers place buy and sell orders over the Interne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Many full-service brokers offer an advisory-based relationship for client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ather than charging commissions on every transaction, the investment advisor charges an annual fee, say 1-2%, based on the account balance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is fee covers all services associated with advice and trading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 advisory-based relationship can align the interests of the client and the advisor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dvisor-Customer Relatio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several important things to remember  when you deal with any broker/advisor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y advice you receive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guaranteed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broker works as your agent and has a legal duty to act in your best interest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rokerage firms, however, do make profits from brokerage commissions and/or annual fe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b2c0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ecurities Investor Protection Corpo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ening Your Brokerage Accoun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990720" y="1447920"/>
            <a:ext cx="7467480" cy="5029200"/>
            <a:chOff x="990720" y="1447920"/>
            <a:chExt cx="7467480" cy="5029200"/>
          </a:xfrm>
        </p:grpSpPr>
        <p:sp>
          <p:nvSpPr>
            <p:cNvPr id="165" name="Rectangle 5"/>
            <p:cNvSpPr/>
            <p:nvPr/>
          </p:nvSpPr>
          <p:spPr>
            <a:xfrm>
              <a:off x="3657600" y="327672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5943600" y="5410080"/>
              <a:ext cx="25146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800600" y="4419720"/>
              <a:ext cx="25146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2362320" y="2286000"/>
              <a:ext cx="2590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1"/>
            <p:cNvSpPr/>
            <p:nvPr/>
          </p:nvSpPr>
          <p:spPr>
            <a:xfrm>
              <a:off x="990720" y="144792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0" name="Straight Arrow Connector 19"/>
          <p:cNvCxnSpPr/>
          <p:nvPr/>
        </p:nvCxnSpPr>
        <p:spPr>
          <a:xfrm flipV="1">
            <a:off x="1752120" y="2666160"/>
            <a:ext cx="608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Straight Arrow Connector 21"/>
          <p:cNvCxnSpPr/>
          <p:nvPr/>
        </p:nvCxnSpPr>
        <p:spPr>
          <a:xfrm flipV="1">
            <a:off x="3047760" y="3809160"/>
            <a:ext cx="608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Straight Arrow Connector 22"/>
          <p:cNvCxnSpPr/>
          <p:nvPr/>
        </p:nvCxnSpPr>
        <p:spPr>
          <a:xfrm flipV="1">
            <a:off x="4190760" y="4800240"/>
            <a:ext cx="608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Straight Arrow Connector 23"/>
          <p:cNvCxnSpPr/>
          <p:nvPr/>
        </p:nvCxnSpPr>
        <p:spPr>
          <a:xfrm flipV="1">
            <a:off x="5333760" y="5943240"/>
            <a:ext cx="608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Straight Connector 25"/>
          <p:cNvSpPr/>
          <p:nvPr/>
        </p:nvSpPr>
        <p:spPr>
          <a:xfrm>
            <a:off x="1752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6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27"/>
          <p:cNvSpPr/>
          <p:nvPr/>
        </p:nvSpPr>
        <p:spPr>
          <a:xfrm>
            <a:off x="4191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wo Types of Brokerage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rgin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a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the value of an investment that is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called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course, the portion that is borrowed incurs an interest charg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is interest is based on the broker’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call money rate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Margin Accounts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Balance Shee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4051440"/>
          <a:ext cx="8153280" cy="2087280"/>
        </p:xfrm>
        <a:graphic>
          <a:graphicData uri="http://schemas.openxmlformats.org/drawingml/2006/table">
            <a:tbl>
              <a:tblPr/>
              <a:tblGrid>
                <a:gridCol w="2616120"/>
                <a:gridCol w="1228680"/>
                <a:gridCol w="2949840"/>
                <a:gridCol w="1358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(PFE)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Investment Proces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35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rgin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Workings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Margin Account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8040" y="4051440"/>
          <a:ext cx="7927920" cy="2163600"/>
        </p:xfrm>
        <a:graphic>
          <a:graphicData uri="http://schemas.openxmlformats.org/drawingml/2006/table">
            <a:tbl>
              <a:tblPr/>
              <a:tblGrid>
                <a:gridCol w="2543040"/>
                <a:gridCol w="1195560"/>
                <a:gridCol w="2830320"/>
                <a:gridCol w="13590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Workings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Margin Account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3735360"/>
          <a:ext cx="7772040" cy="2549160"/>
        </p:xfrm>
        <a:graphic>
          <a:graphicData uri="http://schemas.openxmlformats.org/drawingml/2006/table">
            <a:tbl>
              <a:tblPr/>
              <a:tblGrid>
                <a:gridCol w="2494440"/>
                <a:gridCol w="1171080"/>
                <a:gridCol w="2610000"/>
                <a:gridCol w="1496520"/>
              </a:tblGrid>
              <a:tr h="819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 one year, KO is selling for $60 per share?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How Low Can it Go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Suppose you want to buy 300 shares of Pepsico, Inc. (PEP) at $55 per shar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Total cost: $16,500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You have only $9,900—so you must borrow $6,600. 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Your initial margin is $9,900/$16,500 = 60%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How Low Can it Go? (Answer)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8" name="Rectangle 3" descr=""/>
          <p:cNvPicPr/>
          <p:nvPr/>
        </p:nvPicPr>
        <p:blipFill>
          <a:blip r:embed="rId1"/>
          <a:stretch/>
        </p:blipFill>
        <p:spPr>
          <a:xfrm>
            <a:off x="1143000" y="2379600"/>
            <a:ext cx="6400800" cy="38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Annualizing Return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n a Margin Purchase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sell Costco (COST) 4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nualizing Returns on a Margin Purchase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swer: First, you have to repay the 3-month loan, so t = (3/12 = .25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mount Repaid = Amount Borrowed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mount Repaid = $30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1 + .11)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  <a:ea typeface="Arial"/>
              </a:rPr>
              <a:t>.2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0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1.02643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0,792.9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= $32,207.1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Profit = Your Sale Proceeds – Your Investmen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2,207.10 - $30,0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1. The importance of an investment policy statement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2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4. The workings of short sales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nualizing Returns on a Margin Purchase, I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214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838080" y="1676520"/>
              <a:ext cx="769644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ypothecation and Street Name Regist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act of pledging securities as a collateral against a loa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ther Account Issu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lnSpc>
                <a:spcPct val="95000"/>
              </a:lnSpc>
              <a:spcBef>
                <a:spcPts val="550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- You </a:t>
            </a:r>
            <a:r>
              <a:rPr b="1" lang="en-US" sz="2200" spc="-1" strike="noStrike">
                <a:solidFill>
                  <a:srgbClr val="2b2c0e"/>
                </a:solidFill>
                <a:latin typeface="Arial"/>
              </a:rPr>
              <a:t>pay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someone else to make buy and sell decisions on your behalf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lnSpc>
                <a:spcPct val="95000"/>
              </a:lnSpc>
              <a:spcBef>
                <a:spcPts val="550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- All the expenses associated with your account are “wrapped” into a single fee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lnSpc>
                <a:spcPct val="95000"/>
              </a:lnSpc>
              <a:spcBef>
                <a:spcPts val="550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- You </a:t>
            </a:r>
            <a:r>
              <a:rPr b="1" lang="en-US" sz="2200" spc="-1" strike="noStrike">
                <a:solidFill>
                  <a:srgbClr val="2b2c0e"/>
                </a:solidFill>
                <a:latin typeface="Arial"/>
              </a:rPr>
              <a:t>authorize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your broker to trade for you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lnSpc>
                <a:spcPct val="95000"/>
              </a:lnSpc>
              <a:spcBef>
                <a:spcPts val="550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ther Account Issu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hort Sal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5291280"/>
            <a:ext cx="7391520" cy="7048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or to have a “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27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hort Sal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997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sy to underst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buy today at $34, and sell later at $57, you profit!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so easy to underst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sell today at $83, and buy later at $27, you profi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You short 100 shares of Verizon Communications (VZ) at $30 per share.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62120" y="3660840"/>
          <a:ext cx="7695720" cy="2331720"/>
        </p:xfrm>
        <a:graphic>
          <a:graphicData uri="http://schemas.openxmlformats.org/drawingml/2006/table">
            <a:tbl>
              <a:tblPr/>
              <a:tblGrid>
                <a:gridCol w="2613240"/>
                <a:gridCol w="1269000"/>
                <a:gridCol w="2471040"/>
                <a:gridCol w="1342440"/>
              </a:tblGrid>
              <a:tr h="896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17160"/>
            <a:ext cx="815328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rizon Communications stock price falls to $2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3735360"/>
          <a:ext cx="8000640" cy="2468160"/>
        </p:xfrm>
        <a:graphic>
          <a:graphicData uri="http://schemas.openxmlformats.org/drawingml/2006/table">
            <a:tbl>
              <a:tblPr/>
              <a:tblGrid>
                <a:gridCol w="2715120"/>
                <a:gridCol w="1248480"/>
                <a:gridCol w="2716920"/>
                <a:gridCol w="1320120"/>
              </a:tblGrid>
              <a:tr h="88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rizon Communications stock price rises to $4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“He who sells what isn’t his’n, must buy it back—or go to prison.”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3660840"/>
          <a:ext cx="7848000" cy="2469600"/>
        </p:xfrm>
        <a:graphic>
          <a:graphicData uri="http://schemas.openxmlformats.org/drawingml/2006/table">
            <a:tbl>
              <a:tblPr/>
              <a:tblGrid>
                <a:gridCol w="2662920"/>
                <a:gridCol w="1224360"/>
                <a:gridCol w="2520360"/>
                <a:gridCol w="1440360"/>
              </a:tblGrid>
              <a:tr h="896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re on Short Sal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hort Sellers face Constraint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rom government intervention (i.e., the SEC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lso, there might not be enough shares available to borrow to short sell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Constraints reduce liquidity, increase volatility, and lead to inefficient pricing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ing Overview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831600"/>
            <a:ext cx="8305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We invest today to have more tomorrow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vestment is simply deferred consump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We choose to wait because we want more to spend later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vestors have their own investment objectives and strategies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 Investment Policy Statement (IPS)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signed to reflect your objectives and strateg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wo par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inding Actual Short Position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from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nance.yahoo.com</a:t>
            </a:r>
            <a:r>
              <a:rPr b="0" i="1" lang="en-US" sz="34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0" name="Picture 9" descr="C:\Users\Tom Miller\Documents\Godzilla_VI\Sixth_Edition\Tom_Update_Files\Chap_02\WWW_Yahoo_Short_Interest.jpg"/>
          <p:cNvPicPr/>
          <p:nvPr/>
        </p:nvPicPr>
        <p:blipFill>
          <a:blip r:embed="rId2"/>
          <a:stretch/>
        </p:blipFill>
        <p:spPr>
          <a:xfrm>
            <a:off x="2133720" y="1379520"/>
            <a:ext cx="5181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orming a Real Investment Portfolio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2981160"/>
            <a:ext cx="78310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orming a Real Investment Portfolio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77960" y="2286000"/>
            <a:ext cx="78325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30140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eference for dispute resolution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eference for short selling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eference for short interes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(a reference for opening a brokerage account)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(another reference for opening a brokerage accoun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isk tolerance questionnaire from Merrill Lynch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eference for current broker call money rate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a reference for short sales on particular stocks)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1064880"/>
            <a:ext cx="83055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The importance of an investment policy statement (IPS).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The investment policy statement (IPS) identifies the objectives (risk and return) of an investor, as well as the constraints the investor faces in achieving these objectives.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The IPS provides an investing “roadmap” and will influence the strategies, type of account, and holdings an investor chooses.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The various types of securities brokers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Choosing a Broker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Online Brokers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Security Investors Protection Corporation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Broker-Customer Relations</a:t>
            </a:r>
            <a:br>
              <a:rPr sz="2300"/>
            </a:b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ash Account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rgin Accounts and how to calculate initial and maintenance margin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 Note on Annualizing Return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sics of a Short Sal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ome Details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ming a Real Investment Portfolio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bjectives: 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ors must think about risk and retur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ors must think about how much risk they can handl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risk tolerance is affected by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ability to take risk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willingness to take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or Constrai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ment Strategies and Polic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30176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sset Allocation or Security Selection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Is asset allocation or security selection more important to the success of a portfolio? </a:t>
            </a:r>
            <a:br>
              <a:rPr sz="1900"/>
            </a:b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Most people are inclined to think security selection is the more important element for successful investing.</a:t>
            </a:r>
            <a:br>
              <a:rPr sz="1900"/>
            </a:b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Research shows, however, that asset allocation is the more important determinant of portfolio returns. Many experts suggest: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bout 90 percent of portfolio performance stems from asset allocat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o, 10 percent of portfolio performance comes from security selection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How is this result possible? Well, consider the Crash of 2008.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onds outperformed stocks in 2008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ven those elusive “skilled stock pickers” might underperform bonds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2c0e"/>
                </a:solidFill>
                <a:latin typeface="Arial"/>
              </a:rPr>
              <a:t>Stocks tend to move together</a:t>
            </a: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2c0e"/>
                </a:solidFill>
                <a:latin typeface="Arial"/>
              </a:rPr>
              <a:t>Even a “skilled stock picker” would have trouble beating bonds if most stock prices are performing poorly relative to bond prices</a:t>
            </a: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Retirement Account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Company Sponsored Plan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probably have access to a company-sponsored retirement plan such as a 401(k)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 a typical plan, you (the employee) decides how much money to contribute to the plan through payroll deductions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Generally, your employer also makes contributions to the plan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For example, your company could make dollar-for-dollar matching contributions up to a certain percentage of your salary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ven after your contributions hit the maximum amount your employer will match, you can still contribute additional funds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amount of your total contribution is limited by the Internal Revenue Service (IRS). 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17:41Z</dcterms:modified>
  <cp:revision>82</cp:revision>
  <dc:subject/>
  <dc:title>Slide 1</dc:title>
</cp:coreProperties>
</file>