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3.png" ContentType="image/png"/>
  <Override PartName="/ppt/media/image11.wmf" ContentType="image/x-wmf"/>
  <Override PartName="/ppt/media/image13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4BBF-5A31-44D8-8A1A-34A9C1C4A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1271-C376-492E-9B65-51070975A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F305-D307-4797-83EB-39BFA4030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Market: “New-car with sticker still in window”; Secondary Market: “Used car marke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B8BE-54E1-4897-99A1-149E9FF01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67AB-E498-4244-AC04-559E3BA1C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FCA3-D344-41BC-853C-7C8495AEA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9BCE-0063-4103-B7BC-E0D9AFDF1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9E03-30DD-4A7B-9F85-B95119A7D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C858-F502-4569-ACC6-243A9A199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EDA7-0381-4D86-A340-126085C1B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39E3-5CA9-43FE-BADA-041B8D138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87F3C-3C3D-45BA-9163-BA46D306C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21E7-86A1-4A37-9054-22AF8B31A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0D90-F6A7-4FCA-BE1B-8D17DE813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6187-958A-46D7-8DF5-4E6E1D33C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AD53-93AF-4D74-A703-ADEC41051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8CD5-4D37-4263-8022-EFFE7622A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389C-3379-46E9-9B61-E66AD14AE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BE55-9C2D-4629-8F21-1009E8DB9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595C-AFE5-4481-8839-DACDD77E8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5F02-5C26-4DF2-B0E1-85E5D82DA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B411B-7143-4EF5-8A68-48408FABD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B299-20C9-4DD4-AF9D-540581AE5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7AF0-862B-4EA1-831C-3C7BAFD17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B07D-5E2A-4D4B-9B90-CFBC7B56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454B-915B-47FF-847E-6DEECEE99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67E1A-FF59-4CE3-ACDF-96B0633CD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04CB5-931B-4625-B841-2BE87B86A5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3D51-0783-4FB3-B897-9AAA63C3E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8314-3D62-454E-B0A5-4AC7E60DD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932B-B0DF-439E-BEEF-85DB3D86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7C4B-E929-4E07-9D3F-C21AD1211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6DE9-3F10-40FB-8D47-CB53F722B8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8BFF-89A6-4957-8F57-8D49737AB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8048-6823-4AA8-A3B8-6E5B3DD29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2463-914A-4099-885C-2024A7634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E207-3C4D-4CE9-9CC5-1C80DB50D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453B-9530-4E60-863D-DC8EEF037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B6A1-1DDB-4B3B-AAEA-62A866754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809880" y="242244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The Stock Marke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5-</a:t>
            </a:r>
            <a:fld id="{3052A448-1FC1-4A22-841B-CEAF3DDE87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hoovers.com/" TargetMode="External"/><Relationship Id="rId2" Type="http://schemas.openxmlformats.org/officeDocument/2006/relationships/hyperlink" Target="http://www.nyse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averages.dowjones.com/" TargetMode="External"/><Relationship Id="rId5" Type="http://schemas.openxmlformats.org/officeDocument/2006/relationships/hyperlink" Target="http://www.russell.com/" TargetMode="External"/><Relationship Id="rId6" Type="http://schemas.openxmlformats.org/officeDocument/2006/relationships/hyperlink" Target="http://www.barra.com/" TargetMode="External"/><Relationship Id="rId7" Type="http://schemas.openxmlformats.org/officeDocument/2006/relationships/hyperlink" Target="http://www.djindexes.com/" TargetMode="External"/><Relationship Id="rId8" Type="http://schemas.openxmlformats.org/officeDocument/2006/relationships/hyperlink" Target="http://www.standardandpoors.com/" TargetMode="External"/><Relationship Id="rId9" Type="http://schemas.openxmlformats.org/officeDocument/2006/relationships/hyperlink" Target="http://www.nni.nikkei.co.jp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5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elling Securities to the Public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marke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s the market where investors purchase newly issued securiti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Initial public offering (IPO):  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n IPO occurs when a company offers stock for sale to the public for the first time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Seasoned equity offering (SEO): 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f a company already has public shares,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n SEO occurs when a company raises more equity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lnSpc>
                <a:spcPct val="9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secondary market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market where investors trade previously issued securities. An investor can trad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irectly with other investor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ndirectly through a broker who arranges transactions for other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irectly with a dealer who buys and sells securities from inventory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Primary Market for Common Stock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IPO (and an SEO) involves several step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ompany appoints an 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investment banking firm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to arrange financing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nvestment banker designs the stock issue and arranges for 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fixed commitment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best effort underwriting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ompany prepares a 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prospectus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(usually with outside help) and submits it to the 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Securities and Exchange Commission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(SEC) for approval. Investment banker circulates preliminary prospectus (</a:t>
            </a:r>
            <a:r>
              <a:rPr b="0" i="1" lang="en-US" sz="2200" spc="-1" strike="noStrike">
                <a:solidFill>
                  <a:srgbClr val="2b2c0e"/>
                </a:solidFill>
                <a:latin typeface="Arial"/>
              </a:rPr>
              <a:t>red herring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)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pon obtaining SEC approval, company finalizes prospectus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nderwriters place announcements (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tombstone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) in newspapers and begin selling shar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PO Tombston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76520" y="1117440"/>
            <a:ext cx="629604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Secondary Market for Common Stock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oal of a secondary market is to match investors wishing to buy stocks with investors wishing to sell stock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mmon stock trading typically occurs on either an organized stock exchange or a trading network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mportant concept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id pric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2" marL="948600" indent="-189720">
              <a:spcBef>
                <a:spcPts val="2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b2c0e"/>
                </a:solidFill>
                <a:latin typeface="Arial"/>
              </a:rPr>
              <a:t>The price dealers pay investors.</a:t>
            </a: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lvl="2" marL="948600" indent="-18972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b2c0e"/>
                </a:solidFill>
                <a:latin typeface="Arial"/>
              </a:rPr>
              <a:t>The price investors receive from dealers. </a:t>
            </a:r>
            <a:br>
              <a:rPr sz="1400"/>
            </a:b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sk pric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2" marL="948600" indent="-189720">
              <a:spcBef>
                <a:spcPts val="2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b2c0e"/>
                </a:solidFill>
                <a:latin typeface="Arial"/>
              </a:rPr>
              <a:t>The price dealers receive from investors.</a:t>
            </a:r>
            <a:endParaRPr b="0" lang="en-US" sz="1000" spc="-1" strike="noStrike">
              <a:solidFill>
                <a:srgbClr val="2b2c0e"/>
              </a:solidFill>
              <a:latin typeface="Arial"/>
            </a:endParaRPr>
          </a:p>
          <a:p>
            <a:pPr lvl="2" marL="948600" indent="-18972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b2c0e"/>
                </a:solidFill>
                <a:latin typeface="Arial"/>
              </a:rPr>
              <a:t>The price investors pay dealers. </a:t>
            </a:r>
            <a:br>
              <a:rPr sz="1400"/>
            </a:b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ifference between the bid and ask prices is called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bid-ask spread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r simply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spread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84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New York Stock Exchang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990360"/>
            <a:ext cx="83055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New York Stock Exchange (NYSE), popularly known as th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Big Board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, celebrated its bicentennial in 1992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NYSE has occupied its current building on Wall Street since the early 1900’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For 200 years, the NYSE was a not-for-profit New York State corporation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NYSE went public in 2006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YSE Group, Inc., ticker: NYX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aturally, NYX stock is listed on the NYS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 2007, NYSE Group merged with Euronext to form NYSE Euronext, the world’s largest exchange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YSE Seats and Trading Licens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istorically, the NYSE had 1,366 exchange members. These member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re said to own “seats” on the exchang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llectively owned the exchange, although professionals managed the exchang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gularly bought and sold seats (Record seat price: $3 million in 2005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eat holders could buy and sell securities on the exchange floor without paying commission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 2006, all of this changed when the NYSE went public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stead of purchasing seats, exchange members purchase trading license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2" marL="1062720" indent="-212400"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2c0e"/>
                </a:solidFill>
                <a:latin typeface="Arial"/>
              </a:rPr>
              <a:t>number limited to 1,500</a:t>
            </a: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lvl="2" marL="1062720" indent="-212400"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2c0e"/>
                </a:solidFill>
                <a:latin typeface="Arial"/>
              </a:rPr>
              <a:t>In 2010, a license would set you back a cool $40,000—per year. </a:t>
            </a: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Having a license entitles the holder to buy and sell securities on the floor of the exchang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arewell, Specialis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For a long time, most securities listed at the NYSE were divided among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specialists—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 exclusive dealer, or intermediary, for a set of securitie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pecialist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posted bid prices and ask prices for each security assigned to them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ere obligated to make and maintain a fair, orderly market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pecialists stood ready to buy at bid prices and sell at ask prices when outside sell and buy order flows were unequal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pecialists had an exclusive, advance look at incoming orders flowing to the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display book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ecause of  this advance look, specialists had an information advantage when they were making quotes and matching order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nder this system, specialists, however, could “work” orders, that is, try to improve trading prices for customer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esignated Market Maker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275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2009, aiming to stay competitive, the NYSE replaced the role of specialists with two classes of market make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designated market makers (DMMs)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2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d supplemental liquidity providers (SLPs).</a:t>
            </a:r>
            <a:br>
              <a:rPr sz="800"/>
            </a:br>
            <a:r>
              <a:rPr b="1" lang="en-US" sz="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were specialists are now the DMM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DMMs are assigned a set of securities and are 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obligated to maintain a fair and orderly market in these stocks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ifferences between the Specialist Role and the DMM Rol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DDMs can compete against other exchange members for trade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pecialists had to step back from a trade if a floor broker order had the same price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nlike the former specialist system, however, DMMs do not receive an advance look at incoming order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374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MMs do not have an exclusive right to make markets in their assigned securitie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MMs and Supplemental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Liquidity Providers (SLP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75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A newly created class of market maker is called the supplemental liquidity provider (SLP).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SLPs can trade the same stocks as the DMMs.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LP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can trade only from office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utside the exchang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MM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are locate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n the floor of the exchang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Quoting Requirement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76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DMMs must quote bid </a:t>
            </a: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and 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ask prices for at least 5% of the trading day. 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76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SLPs are required to quote bid 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ask prices for at least 5% of the trading day.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centives. For 100 shares traded, the NYSE pay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DMMs 30 cent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LPs 15 cents (lower quoting requirements)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Floor brokers 4 cents (no quoting requirements)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ther NYSE Participa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largest number of NYSE members are registered as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commission broker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mmission brokers execute customer orders to buy and sell stock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en commission brokers are too busy, they may delegate some orders to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loor broker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wo-dollar brokers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or execu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small number of NYSE members ar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floor trader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who independently trade for their own accoun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ake stock in yourself. Make sure you 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ave a good understanding of: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difference between private and public equity and primary and secondary stock market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workings of the New York Stock Exchange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ow NASDAQ operate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ow to calculate index return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uper Display Book System (SDBK)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6091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 substitute for floor brokers: the efficient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Super Display Book system (SDBK)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SDBK has recently replaced the well-known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SuperDOT system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(the DOT stands for designated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order turnaround)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ased on the NYSE’s electronic trading engine, </a:t>
            </a: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Arca,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NYSE SDBK is a server-based system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rading via the SDBK is remarkably fast. NYSE customers can have their trades executed within 5 milliseconds (down from a relatively sluggish 350 milliseconds in 2007)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ow fast is this trading? For comparison, when Danica Patrick is running her Number 7 JR Motorsports Go Daddy Chevrolet at 200 miles per hour, she races only about 1.5 feet in 5 millisecond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1" name="Picture 1" descr="C:\Users\Tom Miller\Pictures\Danica_Patrick_JR_Motorsports.jpg"/>
          <p:cNvPicPr/>
          <p:nvPr/>
        </p:nvPicPr>
        <p:blipFill>
          <a:blip r:embed="rId1"/>
          <a:stretch/>
        </p:blipFill>
        <p:spPr>
          <a:xfrm>
            <a:off x="6705720" y="5486400"/>
            <a:ext cx="158436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NYSE Hybrid Marke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NYSE rolled out a faster automated execution system called the Hybrid platform beginning in late 2006 and continues to refine the system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ybrid trading combines the exchange’s automated technology with the advantages of an auction market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 the Hybrid market, DMMs, SLPs, and floor brokers have the choice to interact with the market electronically as well as in person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ybrid trading has evolved because human judgment is valuable: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less liquid stock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uring the opening and closing of trading session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uring times of market duress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 normal times, for the average stock, the automated platform is an efficient trading option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YSE-Listed Stock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2008, the total number of companies listed on the NYSE represented a total global market value of about $16.7 trillion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itial and annual listing fees are charged based on the number of shar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apply for listing, companies have to meet certain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requirements with respect to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number of shareholder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rading activ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number and value of shares held in public ha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nual earning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peration of the New York Stock Exchang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05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undamental business of the NYSE is to attract and process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order flow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2010, the average trading volume on the NYSE was over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2 billion shares a day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Volume breakdown: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bout one-third from individual investo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most half from institutional investor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mainder represents NYSE-member trading, mostly from specialists acting as market mak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YSE Floor Activity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a number of DDM posts, each with a roughly figure-eight shape, on the floor of the exchange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t the telephone booths, commission broke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ceive customer ord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alk out to DMM posts where the orders can be executed,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urn to confirm order executions and receive new customer order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at colors indicate the person’s job or posi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tock Market Order Typ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822960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rading on the Web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25400" y="1219320"/>
            <a:ext cx="4800600" cy="1981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925800" y="3282840"/>
            <a:ext cx="4684680" cy="300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ASDAQ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name “NASDAQ” is derived from the acronym NASDAQ, which stands for National Association of Securities Dealers Automated Quotations system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ASDAQ is now a proper name in its own righ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troduced in 1971, the NASDAQ market is a computer network of securities dealers who disseminate timely security price quotes to NASDAQ subscriber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NASDAQ has more companies listed than the NYS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On most days, volume on the NASDAQ exceeds the NYSE volum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ASDAQ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ASDAQ trading is almost exclusively done through dealers who buy and sell securities for their own inventori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ike NYSE specialists, NASDAQ dealers use their inventory as a buffer to absorb buy and sell order imbalanc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ASDAQ is actually made up of three separate market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lobal Select Marke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lobal Marke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Capital Marke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e late 1990s, the NASDAQ system opened to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electronic communications networks (ECN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CNs are basically websites that allow investors to trade directly with one anothe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ASDAQ Quo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NASDAQ network provides bid and ask prices as well as recent transaction inform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id and ask prices for the NASDAQ represent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side quo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highest bi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lowest ask</a:t>
            </a:r>
            <a:br>
              <a:rPr sz="2800"/>
            </a:b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a small fee, you can have access to “Level II” quo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Displays all bids and ask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Frequently displays the market maker identit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Stock Marke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provide a “big picture” overview of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Who owns stocks,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a stock exchange works, an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to read and understand the stock market information reported in the financial pres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YSE and NASDAQ Competitor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hird market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n off-exchange market for securities listed on an organized exchang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urth market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for exchange-listed securities in which investors trade directly with one another, usually through a computer network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or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ually listed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tocks, regional exchanges also attract substantial trading volum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tock Market Inform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most widely followed barometer of day-to-day stock market activity is 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Dow Jones Industrial Averag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DJIA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, or “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Dow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” for shor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JIA is an index of the stock prices of 30 large companies representative of American industr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Dow Jones Industrial Averag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095880" cy="43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Yields on DJIA Component Stock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447920" y="1087560"/>
            <a:ext cx="6324480" cy="53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tock Market Index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dexes can be distinguished in four way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market covered,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types of stocks included,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many stocks are included, an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How the index is calculated (</a:t>
            </a:r>
            <a:r>
              <a:rPr b="1" i="1" lang="en-US" sz="2800" spc="-1" strike="noStrike">
                <a:solidFill>
                  <a:srgbClr val="0033cc"/>
                </a:solidFill>
                <a:latin typeface="Arial"/>
              </a:rPr>
              <a:t>price-weighted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, e.g. DJIA, versus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value-weighted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, e.g. S&amp;P 500)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ocks that do not trade during a time period caus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index staleness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ver that time perio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at is, we do not know the "true" index level if all the stock prices are not updated, i.e., fresh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tock Market Index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-weighte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dex (i.e., the S&amp;P 500), companies with larger market values have higher weight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a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ice-weighte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dex (i.e., the DJIA), higher priced stocks receive higher weigh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is means stock splits cause issu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ut, stock splits can be addressed by adjusting the index divisor.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ote: As of April 12, 2010, the DJIA divisor was a nice “round” 0.132319125!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tock Market Indexe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6201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: $1,000,000 to Invest,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ice-Weighted Portfolio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633920" cy="311796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2209680" y="51055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Shares = $1,000,000 / 131.130 = 7,62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 II: Changing the Divisor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54640" cy="3745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"/>
          <p:cNvSpPr/>
          <p:nvPr/>
        </p:nvSpPr>
        <p:spPr>
          <a:xfrm>
            <a:off x="1219320" y="5486400"/>
            <a:ext cx="655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have happened to the divisor if Home Depot shares were selling at $65.72 per share instead of $32.9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I: $1,000,000 to Invest,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Value-Weighted Portfolio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920960" y="1676520"/>
            <a:ext cx="6080040" cy="33271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5"/>
          <p:cNvSpPr/>
          <p:nvPr/>
        </p:nvSpPr>
        <p:spPr>
          <a:xfrm>
            <a:off x="1981080" y="525780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te: Shares to Buy = $1,000,000*Weight / Pric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vate Equity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Private Equity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used in the rapidly growing area of equity financing for nonpublic compani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anks are generally not interested in making loans to start-up companies, especially ones 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ith no assets (other than an idea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un by fledgling entrepreneurs with no track recor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rms with this profile search for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venture capital (VC)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an important part of the private equity market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rms other than start-ups might also need financing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ivate equity also include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iddle-market firms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arge leveraged buyou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381880" cy="63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V: How Does th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Value-Weighted Index Change?</a:t>
            </a:r>
            <a:r>
              <a:rPr b="0" lang="en-US" sz="31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510160" cy="33271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1508040" y="955800"/>
            <a:ext cx="176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219320" y="144792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Portfolio from Example II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5760"/>
            <a:ext cx="83818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ay 3 Index Can be Calculated in Two Ways:</a:t>
            </a: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64640" y="1378080"/>
            <a:ext cx="7842600" cy="46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070000" y="1362240"/>
            <a:ext cx="5321520" cy="30924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797200" y="4876920"/>
            <a:ext cx="360360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over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information on Initial Public Offerings, or IPO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yse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website for the New York Stock Exchange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website for the NASDAQ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verages.dowjone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The Dow Jones Industrial Average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russell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the Russell Index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arra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reference for “value” and “growth” index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djindexe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reference for current divisor for the DIJA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standardandpoor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website for S&amp;P 500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nni.nikkei.co.jp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website for Japan’s Nikkei 225 index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6091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vate and Public Equ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Private Equity Fund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298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imary and Secondary Stock Marke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Primary Market for Common Stock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Secondary Market for Common Stock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Dealers and Brokers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New York Stock Exchang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Designated Market Makers, DDM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ypes of Member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NYSE-Listed Stock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peration of the New York Stock Exchang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YSE Floor Activit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pecial Order Types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ASDAQ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ASDAQ Operation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ASDAQ Participant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NASDAQ System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YSE and NASDAQ Competitor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ock Market Informati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Dow Jones Industrial Averag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tock Market Index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ore on Price-Weighted Index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Value-Weighted Index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Structure of Private Equity Fun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ivate equity funds and hedge funds are two types of investment companies. Both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re set up as limited partnership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ool money from investor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vest this money on behalf of these investo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se, typically, a 2/20 fee structure (i.e., a 2 percent annual management fee and 20 percent of profits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ave built-in constraints to prevent managers from taking excessive compens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ivate equity funds generally hav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high-water-mark provisio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“clawback” provision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39000" indent="-24552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ypes of Private Equity Funds: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Venture Capita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Venture Capital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fers to financing new, often high-risk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start-up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Individual venture capitalist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nvest their own money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Venture capital firm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pool funds from various sources, lik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dividual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ension fu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surance compani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arge corporatio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niversity endowmen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Venture capitalists know that many new companies will fail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companies that succeed can provide enormous profit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Venture Capital, II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limit their risk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Venture capitalists generally provide financing in stag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Venture capitalists actively help run the company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t each stage, enough money is invested to reach the next stag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Ground-floor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nancing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Mezzanine Leve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financing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t each stage of financing, the value of the founder’s stake grows and the probability of success rises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goals are not met, the venture capitalists withhold further financing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a start-up succeed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big payoff frequently comes when the company is sold to another company or goes public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ither way, investment bankers are often involved in the proces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ypes of Private Equity Fund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Middle Marke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ny small, regional private equity funds concentrate their investments in 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ddle marke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” companie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ongoing concerns (i.e., not start-ups)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known performance history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ypically, small and family owned and operated.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asons middle market companies seek more capita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Expansion beyond their existing region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Founder wants to “cash out”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private equity fund might purchase a portion of the business so that others can now manage the compan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ypes of Private Equity Fund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Leveraged Buyout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Suppose a company (or someone else) purchases all the shares of the company held by the public at large?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This process is called “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taking the company private</a:t>
            </a: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.” </a:t>
            </a:r>
            <a:br>
              <a:rPr sz="2100"/>
            </a:b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The cost of going private is often high.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A manager or investor who wants to take a company private probably needs to borrow a significant amount of money.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Taking a company private is called a leveraged buyout (LBO).</a:t>
            </a:r>
            <a:br>
              <a:rPr sz="2100"/>
            </a:b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524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LBO market activity levels depend on credit markets.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Around 2005, the LBO market was quite active. 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524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b2c0e"/>
                </a:solidFill>
                <a:latin typeface="Arial"/>
              </a:rPr>
              <a:t>Activity in the LBO market came to a standstill after the crash of 2008.</a:t>
            </a:r>
            <a:endParaRPr b="0" lang="en-US" sz="21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8:18:30Z</dcterms:modified>
  <cp:revision>96</cp:revision>
  <dc:subject/>
  <dc:title>Slide 1</dc:title>
</cp:coreProperties>
</file>