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3.png" ContentType="image/png"/>
  <Override PartName="/ppt/media/image11.wmf" ContentType="image/x-wmf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E35-B755-4A03-A5AE-649DAFEC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6C76-82D7-48CA-A213-71A40F63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51B6-CF5A-4681-892B-10DC1EA9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Market: “New-car with sticker still in window”; Secondary Market: “Used car marke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E375-668F-4B4E-8B8D-FD5084A6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02B-4C11-4F5C-BBAA-D28FC2B8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3637-3B56-4859-A102-4B63A303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BA8-2104-4CB2-9E59-CB671F79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A142-275C-427A-95EC-2B34BEB8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895-6895-4F3E-97E6-4E8D3FA6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224-2BAF-483D-AC4C-27D6ED22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739D-3847-45F5-B9B0-4ED019DF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8A4-91E2-456B-97D8-3671A31EE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19D4-50FE-43F9-BB95-D86B5A50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60B-3F22-4AD0-964D-90B94763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F7F4-D2C0-4867-9C9F-4509E6AF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7626-963F-4BE9-AF40-BEA1EA09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970-90AB-478D-8DFA-4A54FA89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E59D-8444-4CF9-A933-12E9AD81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E118-F9C1-4959-9454-862CABEC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F52-9AF5-42D6-A1E7-94365EFB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D57B-6371-477B-8645-409EDEC8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C75-2604-4DC8-BC53-E389D392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DD58-3462-42E5-9BC3-A2A62016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0018-F895-4D98-A032-94854CB7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6D75-DC09-48D5-AB43-217DD53D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7143-734C-4151-87C5-FFFDCFCDA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AC6-5D08-43C2-AE2E-2DCA72957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646-3128-4A3C-A16B-4515FE204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B886-71B3-41E3-A965-4E429C28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5598-E332-438B-A580-102F0FE5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A0D-11E7-4DF1-9510-90D4B93B5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452F-A9F0-43BD-AE2B-3E8356464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FFA-ED64-4CB5-9C6A-69B63EA3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CFDD-F5C5-4BF2-BBBF-B777DD69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6692-8AA4-46E9-8894-F390FB98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A1AD-182F-4CB0-908C-BE982BD5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B0BF-ECC5-448E-B2FE-043C9AEC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2D33-493F-49C9-A918-7E5EC97F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74EF-037F-4237-8425-2F2DF1F2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42244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The Stock Marke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5-</a:t>
            </a:r>
            <a:fld id="{595B4B93-300C-4FE9-AB20-A2A141C3A7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hoovers.com/" TargetMode="External"/><Relationship Id="rId2" Type="http://schemas.openxmlformats.org/officeDocument/2006/relationships/hyperlink" Target="http://www.nyse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averages.dowjones.com/" TargetMode="External"/><Relationship Id="rId5" Type="http://schemas.openxmlformats.org/officeDocument/2006/relationships/hyperlink" Target="http://www.russell.com/" TargetMode="External"/><Relationship Id="rId6" Type="http://schemas.openxmlformats.org/officeDocument/2006/relationships/hyperlink" Target="http://www.barra.com/" TargetMode="External"/><Relationship Id="rId7" Type="http://schemas.openxmlformats.org/officeDocument/2006/relationships/hyperlink" Target="http://www.djindexes.com/" TargetMode="External"/><Relationship Id="rId8" Type="http://schemas.openxmlformats.org/officeDocument/2006/relationships/hyperlink" Target="http://www.standardandpoors.com/" TargetMode="External"/><Relationship Id="rId9" Type="http://schemas.openxmlformats.org/officeDocument/2006/relationships/hyperlink" Target="http://www.nni.nikkei.co.jp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5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elling Securities to the Public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marke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the market where investors purchase newly issued securiti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itial public offering (IPO): 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IPO occurs when a company offers stock for sale to the public for the first tim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easoned equity offering (SEO):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f a company already has public shares,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SEO occurs when a company raises more equity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econdary marke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market where investors trade previously issued securities. An investor can trad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irectly with other investor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directly through a broker who arranges transactions for other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irectly with a dealer who buys and sells securities from inventory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Primary Market for Common Stoc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IPO (and an SEO) involves several step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mpany appoints an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investment banking firm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to arrange financing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vestment banker designs the stock issue and arranges for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fixed commitme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best effort underwriting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mpany prepares a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prospectus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(usually with outside help) and submits it to the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Securities and Exchange Commission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(SEC) for approval. Investment banker circulates preliminary prospectus (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red herring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pon obtaining SEC approval, company finalizes prospectu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nderwriters place announcements (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tombston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 in newspapers and begin selling shar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PO Tombston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1117440"/>
            <a:ext cx="629604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Secondary Market for Common Stock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oal of a secondary market is to match investors wishing to buy stocks with investors wishing to sell stock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mmon stock trading typically occurs on either an organized stock exchange or a trading network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mportant concep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id pric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dealers pay investors.</a:t>
            </a: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investors receive from dealers. 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sk pric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dealers receive from investors.</a:t>
            </a: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investors pay dealers. 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ifference between the bid and ask prices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bid-ask spread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r simply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spread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New York Stock Exchang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ew York Stock Exchange (NYSE), popularly known as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ig Board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, celebrated its bicentennial in 1992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has occupied its current building on Wall Street since the early 1900’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or 200 years, the NYSE was a not-for-profit New York State corpora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went public in 2006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YSE Group, Inc., ticker: NYX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aturally, NYX stock is listed on the NYS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2007, NYSE Group merged with Euronext to form NYSE Euronext, the world’s largest exchange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 Seats and Trading Licens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istorically, the NYSE had 1,366 exchange members. These member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re said to own “seats” on the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llectively owned the exchange, although professionals managed the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gularly bought and sold seats (Record seat price: $3 million in 2005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eat holders could buy and sell securities on the exchange floor without paying commissi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2006, all of this changed when the NYSE went public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stead of purchasing seats, exchange members purchase trading licens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062720" indent="-212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number limited to 1,500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2" marL="1062720" indent="-212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In 2010, a license would set you back a cool $40,000—per year. 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aving a license entitles the holder to buy and sell securities on the floor of the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arewell, Specialis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or a long time, most securities listed at the NYSE were divided among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pecialists—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 exclusive dealer, or intermediary, for a set of securiti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posted bid prices and ask prices for each security assigned to them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ere obligated to make and maintain a fair, orderly market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 stood ready to buy at bid prices and sell at ask prices when outside sell and buy order flows were unequal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 had an exclusive, advance look at incoming orders flowing to the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display book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ecause of  this advance look, specialists had an information advantage when they were making quotes and matching order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nder this system, specialists, however, could “work” orders, that is, try to improve trading prices for customer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esignated Market Make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9, aiming to stay competitive, the NYSE replaced the role of specialists with two classes of market mak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esignated market makers (DMMs)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2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d supplemental liquidity providers (SLPs).</a:t>
            </a:r>
            <a:br>
              <a:rPr sz="800"/>
            </a:br>
            <a:r>
              <a:rPr b="1" lang="en-US" sz="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were specialists are now the DMM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DMMs are assigned a set of securities and are 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bligated to maintain a fair and orderly market in these stock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ifferences between the Specialist Role and the DMM Rol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DMs can compete against other exchange members for trade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 had to step back from a trade if a floor broker order had the same price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nlike the former specialist system, however, DMMs do not receive an advance look at incoming order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37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MMs do not have an exclusive right to make markets in their assigned securitie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MMs and Supplemental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iquidity Providers (SLP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A newly created class of market maker is called the supplemental liquidity provider (SLP).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SLPs can trade the same stocks as the DMMs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P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can trade only from offic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side the exchang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MM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are locate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 the floor of the exchang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Quoting Requiremen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DMMs must quote bi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ask prices for at least 5% of the trading day. 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SLPs are required to quote bid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ask prices for at least 5% of the trading day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centives. For 100 shares traded, the NYSE pay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MMs 30 cent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LPs 15 cents (lower quoting requirements)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loor brokers 4 cents (no quoting requirements)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NYSE Participa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largest number of NYSE members are registered as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mmission broker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mmission brokers execute customer orders to buy and sell stock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en commission brokers are too busy, they may delegate some orders to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loor broker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wo-dollar brokers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execu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small number of NYSE members ar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loor trader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who independently trade for their own accoun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ake stock in yourself. Make sure you 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ave a good understanding of: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difference between private and public equity and primary and secondary stock market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workings of the New York Stock Exchange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NASDAQ operate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to calculate index return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uper Display Book System (SDBK)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substitute for floor brokers: the efficient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er Display Book system (SDBK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SDBK has recently replaced the well-known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erDOT system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(the DOT stands for designated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rder turnaround)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ased on the NYSE’s electronic trading engine,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Arca,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SDBK is a server-based system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rading via the SDBK is remarkably fast. NYSE customers can have their trades executed within 5 milliseconds (down from a relatively sluggish 350 milliseconds in 2007)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fast is this trading? For comparison, when Danica Patrick is running her Number 7 JR Motorsports Go Daddy Chevrolet at 200 miles per hour, she races only about 1.5 feet in 5 millisecond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1" name="Picture 1" descr="C:\Users\Tom Miller\Pictures\Danica_Patrick_JR_Motorsports.jpg"/>
          <p:cNvPicPr/>
          <p:nvPr/>
        </p:nvPicPr>
        <p:blipFill>
          <a:blip r:embed="rId1"/>
          <a:stretch/>
        </p:blipFill>
        <p:spPr>
          <a:xfrm>
            <a:off x="6705720" y="5486400"/>
            <a:ext cx="158436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NYSE Hybrid Marke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rolled out a faster automated execution system called the Hybrid platform beginning in late 2006 and continues to refine the system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ybrid trading combines the exchange’s automated technology with the advantages of an auction market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the Hybrid market, DMMs, SLPs, and floor brokers have the choice to interact with the market electronically as well as in person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ybrid trading has evolved because human judgment is valuable: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less liquid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ring the opening and closing of trading sessi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ring times of market duress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normal times, for the average stock, the automated platform is an efficient trading op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-Listed Stoc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8, the total number of companies listed on the NYSE represented a total global market value of about $16.7 trill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itial and annual listing fees are charged based on the number of shar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apply for listing, companies have to meet certain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requirements with respect to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umber of shareholde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ng activ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umber and value of shares held in public ha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nual earning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peration of the New York Stock Exchang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undamental business of the NYSE is to attract and process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order flow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10, the average trading volume on the NYSE was over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 billion shares a day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Volume breakdown: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bout one-third from individual investo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most half from institutional investor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mainder represents NYSE-member trading, mostly from specialists acting as market mak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 Floor Activ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a number of DDM posts, each with a roughly figure-eight shape, on the floor of the exchang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the telephone booths, commission brok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ceive customer or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alk out to DMM posts where the orders can be executed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 to confirm order executions and receive new customer order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at colors indicate the person’s job or posi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Order Typ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296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rading on the Web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5400" y="1219320"/>
            <a:ext cx="480060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25800" y="3282840"/>
            <a:ext cx="468468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ASDAQ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name “NASDAQ” is derived from the acronym NASDAQ, which stands for National Association of Securities Dealers Automated Quotations system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ASDAQ is now a proper name in its own righ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troduced in 1971, the NASDAQ market is a computer network of securities dealers who disseminate timely security price quotes to NASDAQ subscribe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NASDAQ has more companies listed than the NYS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n most days, volume on the NASDAQ exceeds the NYSE volum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ASDAQ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ASDAQ trading is almost exclusively done through dealers who buy and sell securities for their own inventor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ike NYSE specialists, NASDAQ dealers use their inventory as a buffer to absorb buy and sell order imbalanc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ASDAQ is actually made up of three separate marke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lobal Select Marke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lobal Marke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apital Marke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late 1990s, the NASDAQ system opened to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electronic communications networks (ECN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CNs are basically websites that allow investors to trade directly with one anothe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ASDAQ Quo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ASDAQ network provides bid and ask prices as well as recent transaction inform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id and ask prices for the NASDAQ represen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ide quo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highest bi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lowest ask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small fee, you can have access to “Level II” quo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splays all bids and ask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requently displays the market maker identit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tock Marke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provide a “big picture” overview of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o owns stocks,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a stock exchange works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o read and understand the stock market information reported in the financial pres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 and NASDAQ Competito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rd marke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n off-exchange market for securities listed on an organized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urth marke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for exchange-listed securities in which investors trade directly with one another, usually through a computer networ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ually listed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tocks, regional exchanges also attract substantial trading volum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form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most widely followed barometer of day-to-day stock market activity is 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Dow Jones Industrial Averag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DJIA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, or “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Dow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for shor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JIA is an index of the stock prices of 30 large companies representative of American industr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Dow Jones Industrial Averag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09588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ields on DJIA Component Stoc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47920" y="1087560"/>
            <a:ext cx="6324480" cy="53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dex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dexes can be distinguished in four way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market covered,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types of stocks included,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many stocks are included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he index is calculated (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rice-weighted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, e.g. DJIA, versu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ue-weighted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, e.g. S&amp;P 500)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ocks that do not trade during a time period caus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index stalenes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ver that time perio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at is, we do not know the "true" index level if all the stock prices are not updated, i.e., fresh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dex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-weight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dex (i.e., the S&amp;P 500), companies with larger market values have higher weight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ice-weight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dex (i.e., the DJIA), higher priced stocks receive higher weigh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is means stock splits cause issu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ut, stock splits can be addressed by adjusting the index divisor.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ote: As of April 12, 2010, the DJIA divisor was a nice “round” 0.132319125!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dexe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$1,000,000 to Invest,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ice-Weighted Portfolio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633920" cy="3117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209680" y="5105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Shares = $1,000,000 / 131.130 = 7,6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 II: Changing the Divisor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54640" cy="3745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19320" y="5486400"/>
            <a:ext cx="655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ve happened to the divisor if Home Depot shares were selling at $65.72 per share instead of $32.9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I: $1,000,000 to Invest,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Value-Weighted Portfolio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20960" y="1676520"/>
            <a:ext cx="6080040" cy="3327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981080" y="52578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Shares to Buy = $1,000,000*Weight / Pric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vate Equ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Private Equity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used in the rapidly growing area of equity financing for nonpublic compan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anks are generally not interested in making loans to start-up companies, especially ones 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ith no assets (other than an idea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un by fledgling entrepreneurs with no track recor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rms with this profile search for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venture capital (VC)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an important part of the private equity marke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ms other than start-ups might also need financing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vate equity also includ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iddle-market firms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arge leveraged buyou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381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V: How Does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Value-Weighted Index Change?</a:t>
            </a:r>
            <a:r>
              <a:rPr b="0" lang="en-US" sz="31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10160" cy="3327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1508040" y="955800"/>
            <a:ext cx="176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219320" y="144792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ortfolio from Example II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8381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ay 3 Index Can be Calculated in Two Ways:</a:t>
            </a: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4640" y="1378080"/>
            <a:ext cx="7842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070000" y="1362240"/>
            <a:ext cx="5321520" cy="3092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797200" y="4876920"/>
            <a:ext cx="36036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over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information on Initial Public Offerings, or IPO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yse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the New York Stock Exchang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the NASDAQ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verages.dowjone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The Dow Jones Industrial Averag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ussell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the Russell Index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arra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reference for “value” and “growth” index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djindexe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reference for current divisor for the DIJA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standardandpoor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S&amp;P 500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nni.nikkei.co.jp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Japan’s Nikkei 225 index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vate and Public Equ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Private Equity Fund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imary and Secondary Stock Marke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Primary Market for Common Stock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Secondary Market for Common Stock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Dealers and Broker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ew York Stock Exchang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Designated Market Makers, DDM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ypes of Member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NYSE-Listed Stock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eration of the New York Stock Exchang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YSE Floor Activit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pecial Order Type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ASDAQ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ASDAQ Operation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ASDAQ Participant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NASDAQ System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YSE and NASDAQ Competito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ock Market Informat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Dow Jones Industrial Averag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ock Market Index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re on Price-Weighted Index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Value-Weighted Index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tructure of Private Equity Fun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vate equity funds and hedge funds are two types of investment companies. Both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e set up as limited partnership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ool money from investor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 this money on behalf of these investo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e, typically, a 2/20 fee structure (i.e., a 2 percent annual management fee and 20 percent of profits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ave built-in constraints to prevent managers from taking excessive compens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vate equity funds generally hav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high-water-mark provis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“clawback” provision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ypes of Private Equity Funds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Venture Capita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nture Capital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fers to financing new, often high-risk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tart-up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dividual venture capitalist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vest their own money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Venture capital firm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pool funds from various sources, lik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ension fu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surance compan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arge corporati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iversity endowm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Venture capitalists know that many new companies will fai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ompanies that succeed can provide enormous profi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enture Capital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limit their risk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Venture capitalists generally provide financing in stag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Venture capitalists actively help run the compan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each stage, enough money is invested to reach the next sta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Ground-floor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nancing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zzanine Leve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financing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each stage of financing, the value of the founder’s stake grows and the probability of success rise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goals are not met, the venture capitalists withhold further financing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a start-up succeed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big payoff frequently comes when the company is sold to another company or goes public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ither way, investment bankers are often involved in the proces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ypes of Private Equity Fund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iddle Mark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ny small, regional private equity funds concentrate their investments in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ddle marke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companie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ongoing concerns (i.e., not start-ups)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known performance history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ypically, small and family owned and operated.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sons middle market companies seek more capita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Expansion beyond their existing region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Founder wants to “cash out”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private equity fund might purchase a portion of the business so that others can now manage the compan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ypes of Private Equity Fund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everaged Buyout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Suppose a company (or someone else) purchases all the shares of the company held by the public at large?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This process is called “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aking the company private</a:t>
            </a: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.” </a:t>
            </a:r>
            <a:br>
              <a:rPr sz="2100"/>
            </a:b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The cost of going private is often high.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A manager or investor who wants to take a company private probably needs to borrow a significant amount of money.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Taking a company private is called a leveraged buyout (LBO).</a:t>
            </a:r>
            <a:br>
              <a:rPr sz="2100"/>
            </a:b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LBO market activity levels depend on credit markets.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Around 2005, the LBO market was quite active.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Activity in the LBO market came to a standstill after the crash of 2008.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8:30Z</dcterms:modified>
  <cp:revision>96</cp:revision>
  <dc:subject/>
  <dc:title>Slide 1</dc:title>
</cp:coreProperties>
</file>