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5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5243-3958-4C1A-A939-C6279C6B0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B1A4-9B3B-48BE-A093-3754A7B8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521E-9C55-4726-8A5C-29EA4707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5.75% comes from a rule of thumb for the electric utility industry of adding 2% to the current 20-year U.S. T-bond yield.  At the time of this writing, that yield was about 3.75%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DE6C8-DD0E-4D18-882A-A58D54EE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2B2F-6F28-4614-82F2-065E81C87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BC8E-1A47-4E84-8FF5-89784E04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219C5-BD59-4482-91E5-C6E89A3D7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F82B5-AC88-4140-AE1E-C045EA5D4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02DD-482B-42F2-BED4-42A4E71FF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FB34-6AF3-49DB-8709-AD82381D8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842B-8435-4B0A-A48E-D16594E0D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EC5B-9073-4ADB-A09F-8622507F4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6B52-63E4-4EB0-ACCD-1D1DEB8CF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2AEE-C839-4691-9852-F94F2B92F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3B15F-A294-4885-A7D4-36D706E82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96DFC-E9E0-4D79-A90F-6D3A0978E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0BD49-65C9-4EB4-A2D4-D4CDE1D7A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28F3F-CFE5-4B01-9076-DC91090EB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4D7-3E7A-4092-9F15-6E0721B22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2B98-0685-4B0D-9D07-34548550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E96E-663B-4442-98B0-B2D9DD6B8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167E-3086-47B0-BDE1-4AED11E2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A787-DBF4-4F94-9D2B-816C3A4B0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B0E-8622-4EFF-B219-625DF8CBA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4476-41F2-42D4-81E6-F215DACE3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CB082-E88A-48C0-81C8-53A3ED45D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A1C3-72F6-4952-B783-5C903FF34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3170E-BD26-4C85-843F-E0F69CAC1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FEF8-0E19-4CFA-9214-A4B7534BC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CEA8-A7A2-4B4C-99F1-39B7B3CEF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BEF-CE63-461D-967B-5503CB1FC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FB973-2CAC-4F8E-88DD-A44143F58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499-6611-4228-A7F9-DC2567ECE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0459-471D-4E36-9FBD-77825F84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6A0E-AD23-44E1-A71F-4D5D994B4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3DFC-9A41-4240-A980-C1B430F3E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2DB9-4DD2-4D35-B139-C4243C5A4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6502-47D0-4FF9-A2BB-7E0120D48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CBAC-9B35-4B8A-9B33-E92424970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1FA-8575-4C04-9879-5AB508B9C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3878-AAF0-4E43-A992-14E889F82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8A04-96A9-4A83-BAF1-762866D93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0C3-F62E-4895-86D9-C17210B86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7786-2276-4873-80CD-71A4E2CA2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E90E-947A-430E-934A-0AFFE10E1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679-F516-4604-89C4-32DABB72B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4987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6-</a:t>
            </a:r>
            <a:fld id="{E90E02A1-5BE3-4A24-9380-53EAEDAD57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issmolly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nyssa.org/" TargetMode="External"/><Relationship Id="rId2" Type="http://schemas.openxmlformats.org/officeDocument/2006/relationships/hyperlink" Target="http://www.aaii.com/" TargetMode="External"/><Relationship Id="rId3" Type="http://schemas.openxmlformats.org/officeDocument/2006/relationships/hyperlink" Target="http://www.valueline.com/" TargetMode="External"/><Relationship Id="rId4" Type="http://schemas.openxmlformats.org/officeDocument/2006/relationships/hyperlink" Target="http://www.aep.com/" TargetMode="External"/><Relationship Id="rId5" Type="http://schemas.openxmlformats.org/officeDocument/2006/relationships/hyperlink" Target="http://www.intel.com/" TargetMode="External"/><Relationship Id="rId6" Type="http://schemas.openxmlformats.org/officeDocument/2006/relationships/hyperlink" Target="http://www.mcgraw-hill.com/" TargetMode="External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6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ink about the electric utility industry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2009, the dividend paid by the utility company, DTE Energy Co. (DTE), was $2.12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$2.12, k = 5.75%, and g = 2%, calculate an estimated value for D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e: the actual mid-2009 stock price of DTE was $40.29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What are the possible explanations for the differenc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733840" y="3505320"/>
            <a:ext cx="314136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stimating th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n dividends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 can be estimated in a number of ways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company’s historical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an industry median or average growth rate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istorical Averag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Suppose the Broadway Joe Company paid the following dividends: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5: $1.5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8: $1.8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6: $1.7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9: $2.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07: $1.75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2010: $2.20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spreadsheet below shows how to estimate historical average growth rates, using arithmetic and geometric averag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2" name="Rectangle 3" descr=""/>
          <p:cNvPicPr/>
          <p:nvPr/>
        </p:nvPicPr>
        <p:blipFill>
          <a:blip r:embed="rId1"/>
          <a:stretch/>
        </p:blipFill>
        <p:spPr>
          <a:xfrm>
            <a:off x="1809720" y="3757680"/>
            <a:ext cx="586584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urn on Equity (ROE) = Net Income / Equit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out Ratio = Proportion of earnings paid out as dividend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etention Ratio = Proportion of earnings retained fo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1981080"/>
            <a:ext cx="59436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2009, American Electric Power (AEP) had an ROE of 10%, projected earnings per share of $2.90, and a per-share dividend of $1.64.  What was AEP’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Retention rate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Sustainable growth rate?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yout ratio = $1.64 / $2.90 = .566 or 56.6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retention ratio = 1 – .566 = .434 or 43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EP’s sustainable growth rate = .10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.434 = .0434, or 4.34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nd Using th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ustainable Growth Rate, Cont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AEP stock using the perpetual growth model and a discount rate of 5.75%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actual late-2009 stock price of AEP was $31.8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is case, using the sustainable growth rate to value the stock gives a reasonably poor estimat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 about g and k in this exampl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916360" y="2438280"/>
            <a:ext cx="3543120" cy="7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nalyzing RO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estimate a sustainable growth rate, you need the (relatively stable) dividend payout ratio and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nges in sustainable growth rate likely stem from changes in ROE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uPont formula separates ROE into three parts (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profit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asset turnov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ff"/>
                </a:solidFill>
                <a:latin typeface="Arial"/>
              </a:rPr>
              <a:t>equity multiplier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anagers can increase the sustainable growth rate by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reasing the dividend payout rat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profitability (</a:t>
            </a:r>
            <a:r>
              <a:rPr b="1" lang="en-US" sz="2400" spc="-1" strike="noStrike">
                <a:solidFill>
                  <a:srgbClr val="6600cc"/>
                </a:solidFill>
                <a:latin typeface="Arial"/>
              </a:rPr>
              <a:t>Net Income / Sale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asset efficiency (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ales / Asset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ing debt (</a:t>
            </a:r>
            <a:r>
              <a:rPr b="1" lang="en-US" sz="2400" spc="-1" strike="noStrike">
                <a:solidFill>
                  <a:srgbClr val="00ccff"/>
                </a:solidFill>
                <a:latin typeface="Arial"/>
              </a:rPr>
              <a:t>Assets / Equity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95280" y="3276720"/>
            <a:ext cx="61977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assumes that a firm will initially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, and thereafter, it will grow at a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800" spc="-1" strike="noStrike" baseline="-25000">
                <a:solidFill>
                  <a:srgbClr val="2b2c0e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l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uring a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erpetual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stage of growth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7440" y="4343400"/>
            <a:ext cx="5253120" cy="8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68400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though the formula looks complicated, think of it as two part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1 is the present value of the first T dividends (it is the same formula we used for the constant growth mode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art 2 is the present value of all subsequent dividend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suppos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issMolly.co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has a current dividend of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$5, which is expected t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hrin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10%, for 5 years bu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grow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the rate, g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4%, forev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ith a discount rate of k = 10%, what is the present value of the stock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the Two-Stag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Dividend Growth Model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total value of $46.03 is the sum of a $14.25 present value of the first five dividends, plus a $31.78 present value of all subsequent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003400" y="1468440"/>
            <a:ext cx="60516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parate yourself from the commoners by having a goo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nderstanding of these security valuation methods: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The basic dividend discount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The two-stage dividend growth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he residual income model and free cash flow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    mode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Price ratio analysi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hain Reaction, Inc., has been growing at a phenomenal rate of 3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elieve that this rate will last for only three more yea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n, you think the rate will drop to 10% per year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tal dividends just paid were $5 million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required rate of return is 2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total value of Chain Reaction, Inc.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rst, calculate the total dividends over the “supernormal” growth perio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long run growth rate, g, the value of all the shares at Time 3 can be calculated as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D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x (1 + g)] / (k – g)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2b2c0e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= [$10.985 x 1.10] / (0.20 – 0.10) = $120.83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676520" y="2286000"/>
          <a:ext cx="6019560" cy="1584360"/>
        </p:xfrm>
        <a:graphic>
          <a:graphicData uri="http://schemas.openxmlformats.org/drawingml/2006/table">
            <a:tbl>
              <a:tblPr/>
              <a:tblGrid>
                <a:gridCol w="2332080"/>
                <a:gridCol w="3687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 Dividend: (in $mill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5.00 x 1.30 = $6.5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6.50 x 1.30 = $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8.45 x 1.30 = $10.9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Using the DDM to Value a Firm Experiencing “Supernormal” Growth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o determine the present value of the firm today, we need the present value of $120.835 and the present value of the dividends paid in the first 3 yea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4957560" cy="29070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5"/>
          <p:cNvSpPr/>
          <p:nvPr/>
        </p:nvSpPr>
        <p:spPr>
          <a:xfrm>
            <a:off x="838080" y="5943600"/>
            <a:ext cx="76201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f there are 20 million shares outstanding, the price per share is $4.3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hain Reaction, Inc., we assumed a supernormal growth rate of 30 percent per year for three years, and then growth at a perpetual 10 percen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growth rate is more likely to start at a high level and then fall over time until reaching its perpetual leve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ny possible ways to assume how the growth rate decline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popular way is the H-model: which assumes a linear growth rate declin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H-Model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et’s revisit Chain Reaction, Inc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growth rate begins at 30% and reaches 10% in year 4 and beyond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H-model, we would assume that the company’s growth rate would decline by 20% from the end of year 1 to the beginning of year 4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we assume a linear decline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growth rate falls by 6.67% per year (20%/3 years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rowth estimates would be: 30%, 23.33%, 16.66%, and 10%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se growth estimates, you will find that the firm value is $75.93 million, or $3.80 per share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value is lower than before because of the lower growth rates in years 2 and 3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scount Rates for </a:t>
            </a:r>
            <a:br>
              <a:rPr sz="3500"/>
            </a:b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scount rate for a stock can be estimated using 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ital asset pricing model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CAPM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discuss the CAPM in a later chapter. 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owever, we can estimate the discount rate for a stock using this formula: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Discount rate = time value of money + risk premium =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U.S. T-bill Rate + (Stock Beta x Stock Market Risk Premium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752480" y="5197320"/>
          <a:ext cx="7162920" cy="1432080"/>
        </p:xfrm>
        <a:graphic>
          <a:graphicData uri="http://schemas.openxmlformats.org/drawingml/2006/table">
            <a:tbl>
              <a:tblPr/>
              <a:tblGrid>
                <a:gridCol w="3273480"/>
                <a:gridCol w="388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-bill Rat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eturn on 90-day U.S. T-b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Beta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relative to an average st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tock Market Risk Premium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risk premium for an average stock</a:t>
                      </a:r>
                      <a:r>
                        <a:rPr b="0" lang="en-US" sz="1800" spc="-1" strike="noStrike" baseline="-25000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838080"/>
            <a:ext cx="83059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stant Perpetual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mple to comput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onstant perpetual growth is often an unrealistic assump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bservations on Dividend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Discount Model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Two-Stage Dividend Growth Model: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re realistic in that it accounts for two stages of growth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able when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the first stage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 usable for firms that do not pay dividend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sensitive to the choice of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may be difficult to estimate accurately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have valued only companies that pay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ut, there are many companies that do not pay dividend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about them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turns out that there is an elegant way to value these companies, to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model is called th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sidual Income Model (RIM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Major Assumption (known as the Clean Surplus Relationship, or CSR):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change in book value per share is equal to earnings per share minus dividend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sidual Income Model (RIM)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puts needed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per share at time 0, 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ok value per share at time 0, 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growth rate, g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, 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9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two equivalent formulas for the Residual Income Model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6" name="Rectangle 3" descr=""/>
          <p:cNvPicPr/>
          <p:nvPr/>
        </p:nvPicPr>
        <p:blipFill>
          <a:blip r:embed="rId1"/>
          <a:stretch/>
        </p:blipFill>
        <p:spPr>
          <a:xfrm>
            <a:off x="1447920" y="4343400"/>
            <a:ext cx="2705040" cy="21193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8"/>
          <p:cNvSpPr/>
          <p:nvPr/>
        </p:nvSpPr>
        <p:spPr>
          <a:xfrm>
            <a:off x="5715000" y="4572000"/>
            <a:ext cx="2819520" cy="119124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TW, it turns out that the RIM is mathematically the same as the constant perpetual growth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mmon Stock Valuatio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examine the methods commonly used by financial analysts to assess the economic value of common stock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se methods are grouped into four categori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vidend discount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esidual Income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ice ratio model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ing the Residual Income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0769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uckwall—Alco Stores, Inc. (DUCK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 is July 1, 2010—shares are selling in the market for $10.94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RIM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PS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1.2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V = 0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= $5.886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g = 0.09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k = .13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can we say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bout the market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ice of DUCK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0" name="Rectangle 3" descr=""/>
          <p:cNvPicPr/>
          <p:nvPr/>
        </p:nvPicPr>
        <p:blipFill>
          <a:blip r:embed="rId1"/>
          <a:stretch/>
        </p:blipFill>
        <p:spPr>
          <a:xfrm>
            <a:off x="3890880" y="3505320"/>
            <a:ext cx="42958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Growth of DUCK 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Using the information from the previous slide, what growth rate results in a DUCK price of $10.94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3" name="Rectangle 3" descr=""/>
          <p:cNvPicPr/>
          <p:nvPr/>
        </p:nvPicPr>
        <p:blipFill>
          <a:blip r:embed="rId1"/>
          <a:stretch/>
        </p:blipFill>
        <p:spPr>
          <a:xfrm>
            <a:off x="2743200" y="2550960"/>
            <a:ext cx="40766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value companies that do not pay dividends using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: We assume positive earnings when we use the residual income model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But, there are companies that do not pay dividends and have negative earnings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egative earnings = little valu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lculate earnings based on accounting rules and tax cod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possible that a company ha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negative earning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positive cash flows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a positive value.  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ree Cash Flo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—the key to understand how a company can have negative earnings and positive cash flows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reduces earnings because it is counted as an expense (more expenses = lower taxes paid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stock analysts, however, use a relatively simple formula to calculate Free Cash Flow, FCF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CF = Net Income + Depreciation – Capital Spending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see that it is possible for: Net Income &lt; 0 and FCF &gt; 0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Depreciation and Capital Spending matter in FCF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DDMs Versus FCF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33160" y="6091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DMs calculate a value of the equity onl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dividends, a cash flow only to equity holder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the CAPM to estimate required return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s use an equity beta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Using the FCF model, we calculate a value for the fir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can be paid to debt holders and to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can still calculate the value of equity using FCF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lculate the value of the entire firm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Subtract out the value of debt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need a beta for assets, not the equity, to account for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Bet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sset betas measure the risk of the company’s indust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rms in an industry should have about the same asset beta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ir equity betas, however, could be quite differ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Investors can increase portfolio risk by using margin (i.e., borrowing money to buy stock).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A business can increase risk by using debt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So, to value the company, we must “convert” reported equity betas into asset betas by adjusting for leverage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following conversion formula is widely used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What happens when a firm has no debt?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6"/>
          <p:cNvGrpSpPr/>
          <p:nvPr/>
        </p:nvGrpSpPr>
        <p:grpSpPr>
          <a:xfrm>
            <a:off x="2666880" y="4800600"/>
            <a:ext cx="5867640" cy="1359000"/>
            <a:chOff x="2666880" y="4800600"/>
            <a:chExt cx="5867640" cy="1359000"/>
          </a:xfrm>
        </p:grpSpPr>
        <p:pic>
          <p:nvPicPr>
            <p:cNvPr id="224" name="" descr=""/>
            <p:cNvPicPr/>
            <p:nvPr/>
          </p:nvPicPr>
          <p:blipFill>
            <a:blip r:embed="rId1"/>
            <a:stretch/>
          </p:blipFill>
          <p:spPr>
            <a:xfrm>
              <a:off x="2666880" y="4800600"/>
              <a:ext cx="4359960" cy="91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" name="Group 15"/>
            <p:cNvGrpSpPr/>
            <p:nvPr/>
          </p:nvGrpSpPr>
          <p:grpSpPr>
            <a:xfrm>
              <a:off x="6781320" y="5410080"/>
              <a:ext cx="1753200" cy="749520"/>
              <a:chOff x="6781320" y="5410080"/>
              <a:chExt cx="1753200" cy="749520"/>
            </a:xfrm>
          </p:grpSpPr>
          <p:sp>
            <p:nvSpPr>
              <p:cNvPr id="226" name="TextBox 6"/>
              <p:cNvSpPr/>
              <p:nvPr/>
            </p:nvSpPr>
            <p:spPr>
              <a:xfrm>
                <a:off x="7467840" y="5791320"/>
                <a:ext cx="1066680" cy="368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x ra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7" name="Straight Arrow Connector 14"/>
              <p:cNvCxnSpPr>
                <a:stCxn id="226" idx="1"/>
              </p:cNvCxnSpPr>
              <p:nvPr/>
            </p:nvCxnSpPr>
            <p:spPr>
              <a:xfrm flipH="1" flipV="1">
                <a:off x="6781320" y="5410080"/>
                <a:ext cx="686520" cy="56664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FCF Approach, Exampl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160" y="10663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pu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An estimate of FCF: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Net Income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preciation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apital Expenditur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growth rate of FCF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proper discount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alculate value using a “DDM” formula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DM” because we are using FCF, not divide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Valuing Landon Air: A New Airlin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 estimate of FC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Net Income: $25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preciation: $10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Capital Expenditures: $3 million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rowth rate of FCF: 3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ax rate: 35%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Debt/Equity ratio: .40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quity beta: 1.2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sset Beta: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[1+.4 x (1-.35)]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1.2 = 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x 1.26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400" spc="-1" strike="noStrike" baseline="-25000">
                <a:solidFill>
                  <a:srgbClr val="2b2c0e"/>
                </a:solidFill>
                <a:latin typeface="Arial"/>
              </a:rPr>
              <a:t>Asset</a:t>
            </a: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 = 0.95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he proper discount rate: k = 4.00 + (7.00 × 0.95) = 10.65%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502600" y="1371600"/>
            <a:ext cx="3160080" cy="1191240"/>
          </a:xfrm>
          <a:prstGeom prst="rect">
            <a:avLst/>
          </a:prstGeom>
          <a:solidFill>
            <a:srgbClr val="f5ea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-free rate =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risk premium = 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362480" y="3492360"/>
            <a:ext cx="447660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earnings ratio (P/E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annual earnings per share (EPS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Earnings yiel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verse of the P/E ratio: earnings divided by price (E/P)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High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rowth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while low-P/E stocks are often referred to as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value stock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cash flow ratio (P/CF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urrent stock price divided by current cash flow per shar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 this context, cash flow is usually taken to be net income plu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depreciation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st analysts agree that in examining a company’s financial performance, cash flow can be more informative than net income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nings and cash flows that are far from each other may be a signal of poor quality earning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damental analysi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 term for studying a company’s accounting statements and other financial and economic information to estimate the economic value of a company’s stoc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asic idea is to identify “undervalued” stocks to buy and “overvalued” stocks to sell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practice however, such stocks may in fact be correctly priced for reasons not immediately apparent to the analys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 Ratio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sales ratio (P/S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urrent stock price divided by annual sales per sha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high P/S ratio suggests high sales growth, while a low P/S ratio suggests sluggish sales growth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Price-book ratio (P/B ratio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arket value of a company’s common stock divided  by its book (accounting) value of equit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ratio bigger than 1.0 indicates that the firm is creating value for its stockholder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Earning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609480" y="12952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Earnings (P/E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E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EP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.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8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historical P/E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jected E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20.9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$.9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8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ctr" pos="5715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Cash Flow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523880"/>
            <a:ext cx="815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Cash Flow (P/CF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CF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.8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CF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1.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F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7.5%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  historical P/CF rati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ojected CFP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0.2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= 10.85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1.7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ct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66680" y="3962520"/>
            <a:ext cx="75438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ice/Sales Analysis, Intel Corp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685800" y="1371600"/>
            <a:ext cx="80773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499"/>
              </a:spcAft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el Corp (INT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- Sales (P/S) Analysi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5-year average P/S rat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3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urrent 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$6.7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S growth 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Expected stock pri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historical P/S rati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projected S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  <a:ea typeface="Arial"/>
              </a:rPr>
              <a:t>$22.7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 3.1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($6.7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1.0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14440"/>
                <a:tab algn="ctr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Late-2009 stock price = $19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143000" y="3809880"/>
            <a:ext cx="7543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057400"/>
                <a:tab algn="l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 Analysis of the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McGraw-Hill Company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676520" y="16765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few slides contain a financial analysis of the McGraw-Hill Company, using data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lue Line Investment Surve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959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353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McGraw-Hill Company Analysi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83808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ased on the CAPM,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4.0% + (1.2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7%) = 12.4%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tention ratio = 1 – $.90/$2.55 = .65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stainabl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.65 </a:t>
            </a:r>
            <a:r>
              <a:rPr b="0" lang="en-US" sz="2400" spc="-1" strike="noStrike">
                <a:solidFill>
                  <a:srgbClr val="2b2c0e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36.5% = 23.73%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Value Lin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reports a projected ROE of 36.5%)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ecaus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&gt;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constant growth rate model cannot be used. (We would get a value of -$9.83 per share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1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Let’s assume that “today” is January 1, 2010, g = 8.5%, and k = 12.4%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 Investment Survey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(VL), we can fill in column two (VL) of the table below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We use column one and our growth assumption for column three (CSR) of the table below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3505320"/>
          <a:ext cx="7467480" cy="2045880"/>
        </p:xfrm>
        <a:graphic>
          <a:graphicData uri="http://schemas.openxmlformats.org/drawingml/2006/table">
            <a:tbl>
              <a:tblPr/>
              <a:tblGrid>
                <a:gridCol w="2446560"/>
                <a:gridCol w="1830960"/>
                <a:gridCol w="1724040"/>
                <a:gridCol w="1465920"/>
              </a:tblGrid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nd of 200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V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10 (CS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67d82"/>
                    </a:solidFill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Beginn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2.49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D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.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1.98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Ending BV per sh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735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5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dec" pos="568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7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dec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b2c0e"/>
                          </a:solidFill>
                          <a:latin typeface="Arial"/>
                          <a:ea typeface="Times New Roman"/>
                        </a:rPr>
                        <a:t>$6.45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Text Box 140"/>
          <p:cNvSpPr/>
          <p:nvPr/>
        </p:nvSpPr>
        <p:spPr>
          <a:xfrm>
            <a:off x="533520" y="5715000"/>
            <a:ext cx="228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157"/>
          <p:cNvGrpSpPr/>
          <p:nvPr/>
        </p:nvGrpSpPr>
        <p:grpSpPr>
          <a:xfrm>
            <a:off x="4903920" y="4419360"/>
            <a:ext cx="3935160" cy="2003760"/>
            <a:chOff x="4903920" y="4419360"/>
            <a:chExt cx="3935160" cy="2003760"/>
          </a:xfrm>
        </p:grpSpPr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5486400" y="5514840"/>
              <a:ext cx="1279440" cy="27648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pic>
          <p:nvPicPr>
            <p:cNvPr id="262" name="" descr=""/>
            <p:cNvPicPr/>
            <p:nvPr/>
          </p:nvPicPr>
          <p:blipFill>
            <a:blip r:embed="rId2"/>
            <a:stretch/>
          </p:blipFill>
          <p:spPr>
            <a:xfrm>
              <a:off x="6858000" y="5514840"/>
              <a:ext cx="1268280" cy="27648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pic>
          <p:nvPicPr>
            <p:cNvPr id="263" name="" descr=""/>
            <p:cNvPicPr/>
            <p:nvPr/>
          </p:nvPicPr>
          <p:blipFill>
            <a:blip r:embed="rId3"/>
            <a:stretch/>
          </p:blipFill>
          <p:spPr>
            <a:xfrm>
              <a:off x="4903920" y="6095880"/>
              <a:ext cx="3114720" cy="327240"/>
            </a:xfrm>
            <a:prstGeom prst="rect">
              <a:avLst/>
            </a:prstGeom>
            <a:ln w="9360">
              <a:solidFill>
                <a:srgbClr val="367d82"/>
              </a:solidFill>
              <a:miter/>
            </a:ln>
          </p:spPr>
        </p:pic>
        <p:sp>
          <p:nvSpPr>
            <p:cNvPr id="264" name="Line 152"/>
            <p:cNvSpPr/>
            <p:nvPr/>
          </p:nvSpPr>
          <p:spPr>
            <a:xfrm flipV="1">
              <a:off x="7696080" y="5105520"/>
              <a:ext cx="0" cy="3808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53"/>
            <p:cNvSpPr/>
            <p:nvPr/>
          </p:nvSpPr>
          <p:spPr>
            <a:xfrm flipV="1">
              <a:off x="6324480" y="4419360"/>
              <a:ext cx="838440" cy="106668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54"/>
            <p:cNvSpPr/>
            <p:nvPr/>
          </p:nvSpPr>
          <p:spPr>
            <a:xfrm>
              <a:off x="8229600" y="6248520"/>
              <a:ext cx="609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5"/>
            <p:cNvSpPr/>
            <p:nvPr/>
          </p:nvSpPr>
          <p:spPr>
            <a:xfrm flipH="1" flipV="1">
              <a:off x="7924680" y="4647960"/>
              <a:ext cx="914400" cy="160020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Using the Residual Income Model, II.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4077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the CSR assumption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Using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Value Lin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numbers for EPS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2.55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7.05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=$5.95; and using the actual change in book value instead of an estimate of the new book value, (i.e.,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= B</a:t>
            </a:r>
            <a:r>
              <a:rPr b="0" lang="en-US" sz="1800" spc="-1" strike="noStrike" baseline="-25000">
                <a:solidFill>
                  <a:srgbClr val="2b2c0e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x k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0" name="Rectangle 3" descr=""/>
          <p:cNvPicPr/>
          <p:nvPr/>
        </p:nvPicPr>
        <p:blipFill>
          <a:blip r:embed="rId1"/>
          <a:stretch/>
        </p:blipFill>
        <p:spPr>
          <a:xfrm>
            <a:off x="5145120" y="1353960"/>
            <a:ext cx="3525840" cy="2014560"/>
          </a:xfrm>
          <a:prstGeom prst="rect">
            <a:avLst/>
          </a:prstGeom>
          <a:ln w="0">
            <a:noFill/>
          </a:ln>
        </p:spPr>
      </p:pic>
      <p:pic>
        <p:nvPicPr>
          <p:cNvPr id="271" name="Rectangle 3" descr=""/>
          <p:cNvPicPr/>
          <p:nvPr/>
        </p:nvPicPr>
        <p:blipFill>
          <a:blip r:embed="rId2"/>
          <a:stretch/>
        </p:blipFill>
        <p:spPr>
          <a:xfrm>
            <a:off x="5248440" y="4032360"/>
            <a:ext cx="3103560" cy="22986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8"/>
          <p:cNvSpPr/>
          <p:nvPr/>
        </p:nvSpPr>
        <p:spPr>
          <a:xfrm>
            <a:off x="914400" y="2743200"/>
            <a:ext cx="3276720" cy="580680"/>
          </a:xfrm>
          <a:prstGeom prst="rect">
            <a:avLst/>
          </a:prstGeom>
          <a:solidFill>
            <a:srgbClr val="367d82"/>
          </a:solidFill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ock price at the time = $28.73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 can we sa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762120" y="3657600"/>
            <a:ext cx="7848360" cy="0"/>
          </a:xfrm>
          <a:prstGeom prst="line">
            <a:avLst/>
          </a:prstGeom>
          <a:ln w="572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vidend Discount Model (DDM)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method to estimate the value of a share of stock by discounting all expected future dividend payments.  The basic DDM equation i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the DDM equation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present value of all future dividend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</a:t>
            </a:r>
            <a:r>
              <a:rPr b="0" lang="en-US" sz="2400" spc="-1" strike="noStrike" baseline="-25000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= the dividend to be paid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years from n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= the appropriate risk-adjusted discount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59000" y="2806560"/>
            <a:ext cx="548640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McGraw-Hill Company Analysis, IV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733320" y="2590920"/>
            <a:ext cx="79534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160" y="1220400"/>
            <a:ext cx="83055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yssa.org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 (The New York Society of Security Analyst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aaii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American Association of Individual Investor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valueline.com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 (the home of the Value Line Investment Survey)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ebsites for some companies analyzed in this chapter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aep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inte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857160" indent="-28548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mcgraw-hill.com</a:t>
            </a: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urity Analysis: Be Careful Out The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Dividend Discount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Dividend Growth Rate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nstant Perpetual Growt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the Constant Perpetual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Sustainable Growth Rat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wo-Stage Dividend Growth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iscount Rates for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bservations on Dividend Discount Model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sidual Income Model (RIM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ree Cash Flow Mod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 Ratio Analysi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Earning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Cash Flow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Sales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-Book Ratio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pplications of Price Ratio Analysis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nalysis of the McGraw-Hill Company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Dividend Discount Model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that a stock will pay three annual dividends of $200 per year, and the appropriate risk-adjusted discount rate, k, is 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case, what is the value of the stock today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174760" y="3876840"/>
            <a:ext cx="5632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that the dividends will grow at a constant growth rate 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g.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dividend in the next period, (t + 1), is: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or constant dividend growth for “T” years, the DDM formula become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3120" y="4638600"/>
            <a:ext cx="3821040" cy="15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09680" y="2286000"/>
            <a:ext cx="442296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Constant Growth Rate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the current dividend is $10, the dividend growth rate is 10%, there will be 20 yearly dividends, and the appropriate discount rate is 8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is the value of the stock, based on the constant growth rate model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479680" y="3581280"/>
            <a:ext cx="4716360" cy="21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Dividend Discount Model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Constant Perpetual Growth Model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ssuming that the dividends will grow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forever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t a constant growth rat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g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constant perpetual dividend growth, the DDM formula become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492200" y="4255920"/>
            <a:ext cx="5951520" cy="78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8:47Z</dcterms:modified>
  <cp:revision>103</cp:revision>
  <dc:subject/>
  <dc:title>Slide 1</dc:title>
</cp:coreProperties>
</file>