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13F-CB5D-47AE-AF0C-2E6253A2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1432-A402-4992-9CA6-0F691EF2B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8A9-323F-4882-9651-820953B6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5.75% comes from a rule of thumb for the electric utility industry of adding 2% to the current 20-year U.S. T-bond yield.  At the time of this writing, that yield was about 3.75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6FDD-2489-474C-95F4-6BC5AA168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61CA-EF5F-4723-BDDE-F5E3C2260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7DAC-8483-4CEA-9295-D66A93D8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AD9-2E63-44F2-990A-DDF8BA98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308-D158-41F5-A79B-36E8F2071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B8D-F7A8-4EA1-9900-FD9B433D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1A6-F20D-4D28-96BD-0D366584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518A-746F-4F09-B70E-C5858892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1F4-140B-4C22-AD11-EF4CB24D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5D4-D4AC-4CDC-AF98-92B5719E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9F3-5815-4C48-A9D0-1B9ADAA6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EC2D-8759-47CD-944E-C96F3F30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0ED-AF5C-4EF2-9CE6-38BC837F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60A5-30B1-4A3F-BC10-7513B061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A86C-2E67-46DE-BC47-1C759701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167-5EF1-4B7E-BF67-BA8DF44F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B2B-D2FE-447C-AF6B-8B67D2D3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1D5-4E2E-41B1-B777-42AD3DE7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54F3-E77C-4F02-B00F-F8EB8294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624-D618-49F2-B787-58342284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41B8-4F96-45F5-93BB-0337B3EC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EAC-79DF-4D2D-A713-374A53AA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C68-3446-4B9F-9633-82134202E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083E-EB65-4C65-BFD9-3D1DC76B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0C97-4004-42C3-B65C-C546B790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F399-8E99-4D6B-97D7-03606C50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997-F91C-4080-983C-835ABB58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0A89-8CE1-41FE-953B-615E2C85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9E77-B726-4DF6-B973-7C32BC5D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BB06-F162-40AD-9DD1-E38757E1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B96-188A-4539-ABD5-F233C74D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4C00-476E-48C3-B9CD-FF92EC8C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5D68-7927-4EAA-ADDA-FFCD23A2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473-BF67-458A-87F0-45419913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2B78-2FD4-42D5-BE2D-58858ED25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2C74-472B-4219-8E8F-6B8CE2D4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996-AFB6-4FED-BD28-3B93B963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D3E-F568-45D8-A816-4A66C797C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F877-7700-471E-B8C5-2AC88FD3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142-EC7E-4DEB-B2E3-DDC6476C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EF9-0B3F-4AEA-86B9-B7038A246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115-E519-4987-AE10-FFCD7EEE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C35-8D6D-492F-857A-191393E8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987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4C0AAF16-49C9-48A1-AB2F-EC0C0AADB8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ssmolly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nyssa.org/" TargetMode="External"/><Relationship Id="rId2" Type="http://schemas.openxmlformats.org/officeDocument/2006/relationships/hyperlink" Target="http://www.aaii.com/" TargetMode="External"/><Relationship Id="rId3" Type="http://schemas.openxmlformats.org/officeDocument/2006/relationships/hyperlink" Target="http://www.valueline.com/" TargetMode="External"/><Relationship Id="rId4" Type="http://schemas.openxmlformats.org/officeDocument/2006/relationships/hyperlink" Target="http://www.aep.com/" TargetMode="External"/><Relationship Id="rId5" Type="http://schemas.openxmlformats.org/officeDocument/2006/relationships/hyperlink" Target="http://www.intel.com/" TargetMode="External"/><Relationship Id="rId6" Type="http://schemas.openxmlformats.org/officeDocument/2006/relationships/hyperlink" Target="http://www.mcgraw-hill.com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6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nk about the electric utility industry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the dividend paid by the utility company, DTE Energy Co. (DTE), was $2.12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$2.12, k = 5.75%, and g = 2%, calculate an estimated value for D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e: the actual mid-2009 stock price of DTE was $40.29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at are the possible explanations for the differenc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33840" y="3505320"/>
            <a:ext cx="314136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stimating th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n dividends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can be estimated in a number of ways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company’s historical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an industry median or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Averag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pose the Broadway Joe Company paid the following dividends: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5: $1.5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8: $1.8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6: $1.7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9: $2.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7: $1.75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10: $2.20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spreadsheet below shows how to estimate historical average growth rates, using arithmetic and geometric averag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2" name="Rectangle 3" descr=""/>
          <p:cNvPicPr/>
          <p:nvPr/>
        </p:nvPicPr>
        <p:blipFill>
          <a:blip r:embed="rId1"/>
          <a:stretch/>
        </p:blipFill>
        <p:spPr>
          <a:xfrm>
            <a:off x="1809720" y="3757680"/>
            <a:ext cx="58658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Equity (ROE) = Net Income / Equit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out Ratio = Proportion of earnings paid out as dividend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ention Ratio = Proportion of earnings retained fo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9436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2009, American Electric Power (AEP) had an ROE of 10%, projected earnings per share of $2.90, and a per-share dividend of $1.64.  What was AEP’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Retention rate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Sustainable growth rate?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yout ratio = $1.64 / $2.90 = .566 or 56.6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retention ratio = 1 – .566 = .434 or 43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EP’s sustainable growth rate = .10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.434 = .0434, or 4.34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, Cont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AEP stock using the perpetual growth model and a discount rate of 5.75%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actual late-2009 stock price of AEP was $31.8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is case, using the sustainable growth rate to value the stock gives a reasonably poor estim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 about g and k in this exampl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16360" y="2438280"/>
            <a:ext cx="3543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alyzing RO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stimate a sustainable growth rate, you need the (relatively stable) dividend payout ratio and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nges in sustainable growth rate likely stem from changes in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uPont formula separates ROE into three parts (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profit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sset turnov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quity multiplie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nagers can increase the sustainable growth rate by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reasing the dividend payout rat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profitability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Net Income / Sal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asset efficiency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ales / Asse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debt (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Assets / Equ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197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assumes that a firm will initially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, and thereafter, it will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ing a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erpet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stage of growth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7440" y="4343400"/>
            <a:ext cx="525312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68400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though the formula looks complicated, think of it as two par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1 is the present value of the first T dividends (it is the same formula we used for the constant growth mode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2 is the present value of all subsequent divide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suppos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ssMolly.co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s a current dividend of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$5, which is expe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rin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0%, for 5 years bu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4%, forev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a discount rate of k = 10%, what is the present value of the stock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total value of $46.03 is the sum of a $14.25 present value of the first five dividends, plus a $31.78 present value of all subsequent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3400" y="1468440"/>
            <a:ext cx="6051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parate yourself from the commoners by having a goo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standing of these security valuation methods: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The basic dividend discount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The two-stage dividend growth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he residual income model and free cash flow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Price ratio analy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in Reaction, Inc., has been growing at a phenomenal rate of 3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elieve that this rate will last for only three more yea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n, you think the rate will drop to 1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ividends just paid were $5 m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quired rate of return is 2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total value of Chain Reaction, Inc.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calculate the total dividends over the “supernormal” growth perio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long run growth rate, g, the value of all the shares at Time 3 can be calculated as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x (1 + g)] / (k – g)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$10.985 x 1.10] / (0.20 – 0.10) = $120.83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76520" y="2286000"/>
          <a:ext cx="6019560" cy="1584360"/>
        </p:xfrm>
        <a:graphic>
          <a:graphicData uri="http://schemas.openxmlformats.org/drawingml/2006/table">
            <a:tbl>
              <a:tblPr/>
              <a:tblGrid>
                <a:gridCol w="2332080"/>
                <a:gridCol w="3687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 Dividend: (in $m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.00 x 1.30 = $6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6.50 x 1.30 = $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8.45 x 1.30 = $1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determine the present value of the firm today, we need the present value of $120.835 and the present value of the dividends paid in the first 3 yea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957560" cy="2907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"/>
          <p:cNvSpPr/>
          <p:nvPr/>
        </p:nvSpPr>
        <p:spPr>
          <a:xfrm>
            <a:off x="838080" y="5943600"/>
            <a:ext cx="76201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re are 20 million shares outstanding, the price per share is $4.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hain Reaction, Inc., we assumed a supernormal growth rate of 30 percent per year for three years, and then growth at a perpetual 10 percen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s more likely to start at a high level and then fall over time until reaching its perpetual leve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possible ways to assume how the growth rate decline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opular way is the H-model: which assumes a linear growth rate declin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revisit Chain Reaction, Inc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growth rate begins at 30% and reaches 10% in year 4 and beyond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H-model, we would assume that the company’s growth rate would decline by 20% from the end of year 1 to the beginning of year 4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we assume a linear decli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owth rate falls by 6.67% per year (20%/3 years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rowth estimates would be: 30%, 23.33%, 16.66%, and 10%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se growth estimates, you will find that the firm value is $75.93 million, or $3.80 per share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value is lower than before because of the lower growth rates in years 2 and 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scount Rates for 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scount rate for a stock can be estimated using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ital asset pricing model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M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discuss the CAPM in a later chapter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e can estimate the discount rate for a stock using this formula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Discount rate = time value of money + risk premium =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U.S. T-bill Rate + (Stock Beta x Stock Market Risk Premium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52480" y="5197320"/>
          <a:ext cx="7162920" cy="1432080"/>
        </p:xfrm>
        <a:graphic>
          <a:graphicData uri="http://schemas.openxmlformats.org/drawingml/2006/table">
            <a:tbl>
              <a:tblPr/>
              <a:tblGrid>
                <a:gridCol w="3273480"/>
                <a:gridCol w="38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-bill Ra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90-day U.S. T-b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Be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relative to an average 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Market Risk Premiu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premium for an average stock</a:t>
                      </a:r>
                      <a:r>
                        <a:rPr b="0" lang="en-US" sz="1800" spc="-1" strike="noStrike" baseline="-25000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stant Perpetual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mple to comput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stant perpetual growth is often an unrealistic assump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wo-Stage Dividend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re realistic in that it accounts for two stages of growth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the first stag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have valued only companies that pay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ut, there are many companies that do not pay dividend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about them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turns out that there is an elegant way to value these companies, to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model is called th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sidual Income Model (RIM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ajor Assumption (known as the Clean Surplus Relationship, or CSR):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hange in book value per share is equal to earnings per share minus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puts neede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per share at time 0, 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ok value per share at time 0, 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growth rate, g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, 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equivalent formulas for the Residual Income Mod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2705040" cy="21193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715000" y="4572000"/>
            <a:ext cx="2819520" cy="119124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W, it turns out that the RIM is mathematically the same as the constant perpetual growth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examine the methods commonly used by financial analysts to assess the economic value of common stock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se methods are grouped into four categori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sidual Income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ice ratio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ing the Residual Income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ckwall—Alco Stores, Inc. (DUCK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July 1, 2010—shares are selling in the market for $10.94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RIM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1.2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V = 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5.886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g = 0.09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k = .13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bout the market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ce of DUCK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3890880" y="3505320"/>
            <a:ext cx="4295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Growth of DUCK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information from the previous slide, what growth rate results in a DUCK price of $10.94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2743200" y="2550960"/>
            <a:ext cx="40766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value companies that do not pay dividends using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We assume positive earnings when we use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companies that do not pay dividends and have negative earning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egative earnings = little valu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lculate earnings based on accounting rules and tax cod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hat a company ha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negative earning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positive cash flow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a positive value. 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—the key to understand how a company can have negative earnings and positive cash flow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reduces earnings because it is counted as an expense (more expenses = lower taxes paid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stock analysts, however, use a relatively simple formula to calculate Free Cash Flow, FCF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CF = Net Income + Depreciation – Capital Spend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see that it is possible for: Net Income &lt; 0 and FCF &gt; 0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and Capital Spending matter in FCF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DMs Versus FC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DMs calculate a value of the equity onl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dividends, a cash flow only to equity 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the CAPM to estimate required retur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an equity beta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ing the FCF model, we calculate a value for the fir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can be paid to debt holders and to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still calculate the value of equity using FC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lculate the value of the entire firm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ubtract out the value of debt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need a beta for assets, not the equity,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Bet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sset betas measure the risk of the company’s indust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in an industry should have about the same asset beta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ir equity betas, however, could be quite differ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Investors can increase portfolio risk by using margin (i.e., borrowing money to buy stock).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A business can increase risk by using debt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o, to value the company, we must “convert” reported equity betas into asset betas by adjusting for leverag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following conversion formula is widely used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What happens when a firm has no debt?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2666880" y="4800600"/>
            <a:ext cx="5867640" cy="1359000"/>
            <a:chOff x="2666880" y="4800600"/>
            <a:chExt cx="5867640" cy="13590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666880" y="4800600"/>
              <a:ext cx="4359960" cy="91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Group 15"/>
            <p:cNvGrpSpPr/>
            <p:nvPr/>
          </p:nvGrpSpPr>
          <p:grpSpPr>
            <a:xfrm>
              <a:off x="6781320" y="5410080"/>
              <a:ext cx="1753200" cy="749520"/>
              <a:chOff x="6781320" y="5410080"/>
              <a:chExt cx="1753200" cy="749520"/>
            </a:xfrm>
          </p:grpSpPr>
          <p:sp>
            <p:nvSpPr>
              <p:cNvPr id="226" name="TextBox 6"/>
              <p:cNvSpPr/>
              <p:nvPr/>
            </p:nvSpPr>
            <p:spPr>
              <a:xfrm>
                <a:off x="7467840" y="5791320"/>
                <a:ext cx="10666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x ra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14"/>
              <p:cNvCxnSpPr>
                <a:stCxn id="226" idx="1"/>
              </p:cNvCxnSpPr>
              <p:nvPr/>
            </p:nvCxnSpPr>
            <p:spPr>
              <a:xfrm flipH="1" flipV="1">
                <a:off x="6781320" y="5410080"/>
                <a:ext cx="686520" cy="566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FCF Approach, 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estimate of FCF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Net Income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pital Expenditur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growth rate of FCF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proper discount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e value using a “DDM” formula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” because we are using FCF, not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luing Landon Air: A New Airli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estimate of FC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Net Income: $25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preciation: $10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pital Expenditures: $3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rowth rate of FCF: 3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: 35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: .4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: 1.2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t Beta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[1+.4 x (1-.35)]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1.2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= 0.95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roper discount rate: k = 4.00 + (7.00 × 0.95) = 10.65%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502600" y="1371600"/>
            <a:ext cx="3160080" cy="1191240"/>
          </a:xfrm>
          <a:prstGeom prst="rect">
            <a:avLst/>
          </a:prstGeom>
          <a:solidFill>
            <a:srgbClr val="f5ea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free rate =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isk premium 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362480" y="3492360"/>
            <a:ext cx="44766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earnings ratio (P/E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annual earnings per share (EPS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arnings yiel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verse of the P/E ratio: earnings divided by price (E/P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igh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rowth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ile low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value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cash flow ratio (P/CF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current cash flow per shar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ontext, cash flow is usually taken to be net income plu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depreciation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st analysts agree that in examining a company’s financial performance, cash flow can be more informative than net income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and cash flows that are far from each other may be a signal of poor quality earning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al analysi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term for studying a company’s accounting statements and other financial and economic information to estimate the economic value of a company’s stoc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asic idea is to identify “undervalued” stocks to buy and “overvalued” stocks to sel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practice however, such stocks may in fact be correctly priced for reasons not immediately apparent to the analys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sales ratio (P/S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urrent stock price divided by annual sales per sha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 P/S ratio suggests high sales growth, while a low P/S ratio suggests sluggish sales growth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book ratio (P/B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rket value of a company’s common stock divided  by its book (accounting) value of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ratio bigger than 1.0 indicates that the firm is creating value for its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Earning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09480" y="12952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Earnings (P/E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E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8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historical P/E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ed 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20.9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$.9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8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Cash Flow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5238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Cash Flow (P/CF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CF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8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F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7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  historical P/CF 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jected CFP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10.8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1.7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66680" y="3962520"/>
            <a:ext cx="7543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Sale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371600"/>
            <a:ext cx="8077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Sales (P/S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S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.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historical P/S rat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projected 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2.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3.1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6.7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143000" y="3809880"/>
            <a:ext cx="754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 Analysis of th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cGraw-Hill Compan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676520" y="1676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contain a financial analysis of the McGraw-Hill Company, using data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 Line Investment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95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5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ased on the CAPM,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4.0% + (1.2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7%) = 12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ention ratio = 1 – $.90/$2.55 = .65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stainabl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.65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36.5% = 23.73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 Li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ports a projected ROE of 36.5%)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constant growth rate model cannot be used. (We would get a value of -$9.83 per shar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Let’s assume that “today” is January 1, 2010, g = 8.5%, and k = 12.4%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 Investment Survey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VL), we can fill in column two (VL) of the table below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 use column one and our growth assumption for column three (CSR) of the table below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3505320"/>
          <a:ext cx="7467480" cy="2045880"/>
        </p:xfrm>
        <a:graphic>
          <a:graphicData uri="http://schemas.openxmlformats.org/drawingml/2006/table">
            <a:tbl>
              <a:tblPr/>
              <a:tblGrid>
                <a:gridCol w="2446560"/>
                <a:gridCol w="1830960"/>
                <a:gridCol w="1724040"/>
                <a:gridCol w="146592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of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V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CS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Beginn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4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1.9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nd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6.45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40"/>
          <p:cNvSpPr/>
          <p:nvPr/>
        </p:nvSpPr>
        <p:spPr>
          <a:xfrm>
            <a:off x="533520" y="57150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7"/>
          <p:cNvGrpSpPr/>
          <p:nvPr/>
        </p:nvGrpSpPr>
        <p:grpSpPr>
          <a:xfrm>
            <a:off x="4903920" y="4419360"/>
            <a:ext cx="3935160" cy="2003760"/>
            <a:chOff x="4903920" y="4419360"/>
            <a:chExt cx="3935160" cy="20037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5486400" y="5514840"/>
              <a:ext cx="1279440" cy="27648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6858000" y="5514840"/>
              <a:ext cx="1268280" cy="27648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4903920" y="6095880"/>
              <a:ext cx="3114720" cy="32724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sp>
          <p:nvSpPr>
            <p:cNvPr id="264" name="Line 152"/>
            <p:cNvSpPr/>
            <p:nvPr/>
          </p:nvSpPr>
          <p:spPr>
            <a:xfrm flipV="1">
              <a:off x="7696080" y="5105520"/>
              <a:ext cx="0" cy="3808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3"/>
            <p:cNvSpPr/>
            <p:nvPr/>
          </p:nvSpPr>
          <p:spPr>
            <a:xfrm flipV="1">
              <a:off x="6324480" y="4419360"/>
              <a:ext cx="838440" cy="10666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4"/>
            <p:cNvSpPr/>
            <p:nvPr/>
          </p:nvSpPr>
          <p:spPr>
            <a:xfrm>
              <a:off x="8229600" y="6248520"/>
              <a:ext cx="609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5"/>
            <p:cNvSpPr/>
            <p:nvPr/>
          </p:nvSpPr>
          <p:spPr>
            <a:xfrm flipH="1" flipV="1">
              <a:off x="7924680" y="4647960"/>
              <a:ext cx="914400" cy="160020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4077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CSR assumption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numbers for EPS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2.55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7.05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5.95; and using the actual change in book value instead of an estimate of the new book value, (i.e.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=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x k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0" name="Rectangle 3" descr=""/>
          <p:cNvPicPr/>
          <p:nvPr/>
        </p:nvPicPr>
        <p:blipFill>
          <a:blip r:embed="rId1"/>
          <a:stretch/>
        </p:blipFill>
        <p:spPr>
          <a:xfrm>
            <a:off x="5145120" y="1353960"/>
            <a:ext cx="3525840" cy="201456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" descr=""/>
          <p:cNvPicPr/>
          <p:nvPr/>
        </p:nvPicPr>
        <p:blipFill>
          <a:blip r:embed="rId2"/>
          <a:stretch/>
        </p:blipFill>
        <p:spPr>
          <a:xfrm>
            <a:off x="5248440" y="4032360"/>
            <a:ext cx="3103560" cy="22986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914400" y="2743200"/>
            <a:ext cx="3276720" cy="58068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ck price at the time = $28.7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 we s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762120" y="3657600"/>
            <a:ext cx="7848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vidend Discount Model (DDM)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method to estimate the value of a share of stock by discounting all expected future dividend payments.  The basic DDM equation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DDM equation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present value of all future divide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= the dividend to be paid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 from n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appropriate risk-adjusted discount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59000" y="2806560"/>
            <a:ext cx="54864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, IV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33320" y="2590920"/>
            <a:ext cx="7953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220400"/>
            <a:ext cx="8305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yssa.org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 (The New York Society of Security Analyst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aii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American Association of Individual Investor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alueline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home of the Value Line Investment Survey)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ebsites for some companies analyzed in this chapter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ep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nte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cgraw-hil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Dividend Growth Rate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Perpetual Growt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the Constant Perpetual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s for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bservations on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sidual Income Model (RIM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atio Analysi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Earning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Cash Flow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Sale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Book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Price Ratio Analysi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nalysis of the McGraw-Hill Compan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that a stock will pay three annual dividends of $200 per year, and the appropriate risk-adjusted discount rate, k, is 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case, what is the value of the stock today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74760" y="3876840"/>
            <a:ext cx="5632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that the dividends will grow at a constant growth rate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.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vidend in the next period, (t + 1), is: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constant dividend growth for “T” years, the DDM formula becom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3120" y="4638600"/>
            <a:ext cx="3821040" cy="15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422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current dividend is $10, the dividend growth rate is 10%, there will be 20 yearly dividends, and the appropriate discount rate is 8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the stock, based on the constant growth rate model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79680" y="3581280"/>
            <a:ext cx="471636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ing that the dividends will grow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forever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a constant growth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onstant perpetual dividend growth, the DDM formula becom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92200" y="4255920"/>
            <a:ext cx="5951520" cy="78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8:47Z</dcterms:modified>
  <cp:revision>103</cp:revision>
  <dc:subject/>
  <dc:title>Slide 1</dc:title>
</cp:coreProperties>
</file>