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A02871D-A4DD-46B4-B682-759C0C68C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42B38334-4E8E-4BA2-B203-E55762B0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9250137-329D-482F-AB53-C3F8C5EC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CD91F96B-77AC-4372-9D11-2604DDD46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2445FB17-A47C-4B39-A87D-9F6FB05AF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E3D27F6-B664-4587-8D6B-5D4F26FF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962167C3-9988-45D3-9E80-5288DB4FF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BAD664C-0E6E-4574-B863-8DE504AC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3189E851-04DF-4433-9117-D2448A42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CA10BDD8-BD46-4DDF-A3D9-8957AEA26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30D0BEB3-FE72-4F3A-A71B-B0A9A8E8E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DB29EAAF-F253-490F-A107-AA7DEFAD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DFA11860-B987-49AA-B93E-67A1D980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0ECA0EA-1226-40A9-9A74-3FB3EAE3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5493CB31-0F91-4C01-B4A8-42850A98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0B1E983-0F29-4E75-800B-F7B88C08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C295C92-A84D-43BC-9CD9-165376F4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0D3011CB-67C5-4BC2-909B-153986BE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702E9DF2-E333-4F20-8BEB-C797E6560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021B6367-BE28-44C5-85D5-6B18632A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D73BD7AF-9E1C-44B7-8C0E-DB03DD8D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761EC33-8F1B-4596-90F7-F5ACE65A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1C506972-D09F-4B4B-871A-96FB5200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2B447B46-826B-4EFB-8BC0-7E4F5600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6EA7FB7-D886-41AE-A470-D3E3C9C8D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073B33A0-E3E9-489E-B6BC-DA8F0E93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814-1B4B-45BE-AC55-77E09C51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15520" y="39636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DD0-C647-43CB-8308-A26E94A2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9F4-7C65-4CA7-A225-6A25E39A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96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240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1552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96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240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590-6950-4B85-A82A-D9287DE7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E9F-AC4B-4BAB-AF8E-46B6B75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3FA-D7F3-404F-9FC4-E5C3175B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A14-AE2C-4425-BFD7-15E592C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834-49A3-4B8A-8985-7B4F37A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5520" y="274320"/>
            <a:ext cx="72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115-11D9-4566-852D-E458AAEC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23A-0C1B-4370-8A04-CE9C6EC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958-2880-4A83-84C0-997F6DD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D03-A499-46AB-8DA5-F24DA12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49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3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stinet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bloomberg.com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8"/>
          <p:cNvSpPr/>
          <p:nvPr/>
        </p:nvSpPr>
        <p:spPr>
          <a:xfrm>
            <a:off x="1905120" y="1447920"/>
            <a:ext cx="4884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Stock 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38400" cy="2757600"/>
          </a:xfrm>
          <a:prstGeom prst="rect">
            <a:avLst/>
          </a:prstGeom>
          <a:ln w="9360">
            <a:solidFill>
              <a:srgbClr val="9a6700"/>
            </a:solidFill>
            <a:miter/>
          </a:ln>
        </p:spPr>
      </p:pic>
      <p:sp>
        <p:nvSpPr>
          <p:cNvPr id="51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58128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vidends are expected at regular intervals forever, then this is a perpetuity and the present value of expected future dividends can be found using the perpetuity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tock is expected to pay a $0.50 dividend every quarter and the required return is 10% with quarterly compounding. What is the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.50 / (.1 / 4) = 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6ABF78B-4BD8-41D4-8A79-842C7EB79E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 Growth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486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expected to grow at a constant percent per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/(1+R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little algebra and some series work, this reduce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2743200" y="4648320"/>
                <a:ext cx="39625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-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-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5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724B836-7B88-4BC8-AE5A-9ECE5B0EAE3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M –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Big D, Inc., just paid a dividend of $0.50 per share. It is expected to increase its dividend by 2% per year. If the market requires a return of 15% on assets of this risk, how much should the stock be sell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50(1+.02) / (.15 - .02) = $3.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409064F-0258-4C7A-BD07-F6170E19A3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M –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B Pirates, Inc., is expected to pay a $2 dividend in one year. If the dividend is expected to grow at 5% per year and the required return is 20%, what is the pr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/ (.2 - .05) = $1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n’t the $2 in the numerator multiplied by (1.05) in this ex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6F5F8FD-B430-4F81-9674-0167C10937E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Price Sensitivity to Dividend Growth, 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1430280" y="1905120"/>
            <a:ext cx="7561440" cy="4267080"/>
            <a:chOff x="1430280" y="1905120"/>
            <a:chExt cx="7561440" cy="4267080"/>
          </a:xfrm>
        </p:grpSpPr>
        <p:graphicFrame>
          <p:nvGraphicFramePr>
            <p:cNvPr id="92" name="Object 4"/>
            <p:cNvGraphicFramePr/>
            <p:nvPr/>
          </p:nvGraphicFramePr>
          <p:xfrm>
            <a:off x="1430280" y="1905120"/>
            <a:ext cx="756144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0280" y="1905120"/>
                      <a:ext cx="756144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5"/>
            <p:cNvSpPr/>
            <p:nvPr/>
          </p:nvSpPr>
          <p:spPr>
            <a:xfrm>
              <a:off x="2723400" y="2153160"/>
              <a:ext cx="280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$2; R = 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1F31721-31F9-43FE-AE04-A644A0289F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Price Sensitivity to Required Return,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523880" y="2057400"/>
            <a:ext cx="7310520" cy="4114800"/>
            <a:chOff x="1523880" y="2057400"/>
            <a:chExt cx="7310520" cy="4114800"/>
          </a:xfrm>
        </p:grpSpPr>
        <p:graphicFrame>
          <p:nvGraphicFramePr>
            <p:cNvPr id="98" name="Object 3"/>
            <p:cNvGraphicFramePr/>
            <p:nvPr/>
          </p:nvGraphicFramePr>
          <p:xfrm>
            <a:off x="1523880" y="2057400"/>
            <a:ext cx="731052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57400"/>
                      <a:ext cx="731052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Text Box 4"/>
            <p:cNvSpPr/>
            <p:nvPr/>
          </p:nvSpPr>
          <p:spPr>
            <a:xfrm>
              <a:off x="2724840" y="2296440"/>
              <a:ext cx="27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$2; g = 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B4E5813B-BF13-4AA7-A66D-B121CD5C7C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 8.3 Gordon Growt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ny - 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Growth Company is expected to pay a dividend of $4 next period, and dividends are expected to grow at 6% per year. The required return is 16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urrent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/ (.16 - .06) = 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already have the dividend expected next year, so we don’t multiply the dividend by 1+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56198FCB-59C8-4549-89FC-B3CC2BD16F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 8.3 – Gordon Growt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ny - I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7486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rice expected to be in year 4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 + g) / (R – g) = 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 (R – 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(1+.06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 (.16 - .06) = 50.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implied return given the change in price during the four year peri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.50 = 40(1+return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return = 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V = -40; FV = 50.50; N = 4; CPT I/Y = 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assumed to grow at the same rate as the divid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32594FF5-1311-4AA1-816A-5F9A7925E3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nstant Grow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717560"/>
            <a:ext cx="7236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firm is expected to increase dividends by 20% in one year and by 15% in two years. After that, dividends will increase at a rate of 5% per year indefinitely. If the last dividend was $1 and the required return is 20%, what is the price of the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we have to find the PV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future divid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F116ED54-72ED-4E28-902A-564775178D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nstant Grow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793520"/>
            <a:ext cx="7464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dividends until growth leve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(1.2) = $1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0(1.15) = $1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38(1.05) = $1.4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xpected futur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(R – g) = 1.449 / (.2 - .05) = 9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esent value of the expected future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0 / (1.2) + (1.38 + 9.66) / (1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5792A1DD-16F8-4615-9246-9A23154EE5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an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prices depend on future dividends and divide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compute stock prices using the dividend grow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corporate directors are 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market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prices are qu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F52D4A35-0987-448F-B853-55AA884BEF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 – Pa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a stock that is expected to pay a constant dividend of $2 per year if the required return is 15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company starts increasing dividends by 3% per year, beginning with the next dividend? The required return stays at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082B6F6-D5BC-453C-8547-71BCC90E11D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DGM to Find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e D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057400" y="2590920"/>
                <a:ext cx="5181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- 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-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9FB1A9DA-316B-407E-860D-8E90151A3B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Required Retur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79352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firm’s stock is selling for $10.50. It just paid a $1 dividend, and dividends are expected to grow at 5% per year. What is the required re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[1(1.05)/10.50] + .05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vidend yie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(1.05) / 10.50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apital gains yie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36CBCCAB-76F6-46F3-BEFC-6A6F5FAA67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ble 8.1 - Stock Valuation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ros91585_tb0801"/>
          <p:cNvPicPr/>
          <p:nvPr/>
        </p:nvPicPr>
        <p:blipFill>
          <a:blip r:embed="rId1"/>
          <a:srcRect l="30012" t="0" r="0" b="0"/>
          <a:stretch/>
        </p:blipFill>
        <p:spPr>
          <a:xfrm>
            <a:off x="1981080" y="1420920"/>
            <a:ext cx="586764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E1D208CE-7273-41D2-A41A-4EE5AE7DF2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 of Common St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15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portionally in declared 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portionally in remaining assets during liqu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right – first shot at new stock issue to maintain proportional ownership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E020ECC-B53B-446D-BDC1-CA2B09D869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re not a liability of the firm until a dividend has been declar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a firm cannot go bankrupt for not declaring 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nd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 payments are not considered a business expense; therefore, they are not tax deduct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xation of dividends received by individuals depends on the holding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s received by corporations have a minimum 70% exclusion from taxable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7B1CA3B-2F1F-4411-9057-30ECA6D90DF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 of Preferred St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dividend that must be paid before dividends can be paid to common stock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re not a liability of the firm, and preferred dividends can be deferred indefini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eferred dividends are cumulative – any missed preferred dividends have to be paid before common dividends can be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red stock generally does not carry 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AE3C454C-A718-47CC-982A-3ECC064EA6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s vs. Bro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Stock Exchange (N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stock market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holders (1,3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 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C39D72B3-3774-4F95-9A99-2160F9E47D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D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15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physical exchange – computer-based quot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arket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unication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– median quotes, registered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 – view quotes, brokers &amp; de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 – view and update quotes, deale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ortion of technology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2DC9876D-3128-44C6-9876-803A72B935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he Web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unications Networks provide trading in NASDAQ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eb surfer and visit Inst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Web sur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267080"/>
            <a:ext cx="1049040" cy="106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13AF572-5EDA-463C-BDDC-B9848C1A3D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tock 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eatures of Common and Preferred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ck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9540D57-C525-43FF-88DD-EC55F6F42A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Qu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nformation is provided in the stock quo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on the web surfer to go to Bloomberg for current stock qu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Stock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443640" cy="266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bd09310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5943600"/>
            <a:ext cx="382680" cy="5335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E32F34C3-5AB1-4BB2-A5C7-F3D0E1F22D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 –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bserve a stock price of $18.75. You expect a dividend growth rate of 5%, and the most recent dividend was $1.50. What is the required re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major characteristics of common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major characteristics of preferred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F6CDCA16-7544-4861-B15D-8D29EB6558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pension funding (i.e., over- vs. under-funded) depends heavily on the choice of a discount rate. When actuaries are choosing the appropriate rate, should they give greater priority to future pension recipients, management, or sharehol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increasing availability and use of the internet impacted the ability of stock traders to act uneth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E3163F12-3168-48AA-BEAA-2FAA8E2C7F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siv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Z stock currently sells for $50 per share. The next expected annual dividend is $2, and the growth rate is 6%. What is the expected rate of return on this sto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required rate of return on this stock were 12%, what would the stock price be, and what would the dividend yield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F269E2DC-50CB-4ADA-980D-E5809270D0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524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46E4314C-C983-4253-AE31-46B239BED2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Flows for Stock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y a share of stock, you can receive cash in 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pays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ell your shares, either to another investor in the market or back to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bonds, the price of the stock is the present value of these expected cash 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CE0406AD-FD5F-4C4F-B7AA-ACCFBE5CAD1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are thinking of purchasing the stock of Moore Oil, Inc. You expect it to pay a $2 dividend in one year, and you believe that you can sell the stock for $14 at that time. If you require a return of 20% on investments of this risk, what is the maximum you would be willing to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PV of the expected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= (14 + 2) / (1.2) = $1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V = 16; I/Y = 20; N = 1; CPT PV = -1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77A573E-CCE1-4DE5-BD52-4AAC751063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what if you decide to hold the stock for two years? In addition to the dividend in one year, you expect a dividend of $2.10 in two years and a stock price of $14.70 at the end of year 2. Now how much would you be willing to p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2 / (1.2) + (2.10 + 14.70) / (1.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BE9C95E-55EC-42AB-83A8-D8A1F682C4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18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what if you decide to hold the stock for three years? In addition to the dividends at the end of years 1 and 2, you expect to receive a dividend of $2.205 at the end of year 3 and the stock price is expected to be $15.435. Now how much would you be willing to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V = 2 / 1.2 + 2.10 / (1.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(2.205 + 15.435) / (1.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3.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AEAD4ACE-F5A0-4AD6-8318-4906EFA152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continue to push back the year in which you will sell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find that the price of the stock is really jus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sent value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xpected future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how can we estimate all future dividend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8071564-616D-4B85-8EEF-945A021705D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2400" y="151920"/>
            <a:ext cx="8391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timating Dividends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33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m will pay a constant dividend for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like preferred st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the perpetuity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divide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m will increase the dividend by a constan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ry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the growing perpetuity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orm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 growth is not consistent initially, but settles down to constant growth event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a multistag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914B4FEB-AC66-4261-8590-2E314CCC7F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1:34:34Z</dcterms:created>
  <dc:creator>Kent P. Ragan</dc:creator>
  <dc:description/>
  <dc:language>en-US</dc:language>
  <cp:lastModifiedBy>Rima Al-Sager</cp:lastModifiedBy>
  <dcterms:modified xsi:type="dcterms:W3CDTF">2013-04-07T21:14:42Z</dcterms:modified>
  <cp:revision>43</cp:revision>
  <dc:subject/>
  <dc:title>Stock Valuation</dc:title>
</cp:coreProperties>
</file>