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8A0EDC77-33C0-4A4F-A040-57A0B8AB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B7D25880-7BEB-498F-85D4-D907D069D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C227F3E1-5AE1-483E-997A-7227AAD9E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8BDEF463-458F-44CF-8341-3E443D099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6DE20561-CD78-4BB3-A422-F806E1C24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3C9FC8CE-FB3C-4C7A-B3D2-94F3F07B6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2A46E5E4-D590-4AB5-9176-DC02D695E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DD0A7740-EC90-4D21-BA9D-5FBA1D0D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5EDE811B-21F1-4C69-9CA6-B94D1C9D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08F6EAAA-AC0B-40FF-956D-F6F78232A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157F7DDA-A56C-4B62-9045-734E2117C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FFD74B4B-B703-482F-8545-3A46671AD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91042659-A15B-4E0B-889E-FB8C3045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B095D7B3-B0FB-4868-8459-6586C44A4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32FFAB53-762A-477C-B4E8-B1E8DB3B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987BAF06-1AD0-4DCD-943D-FCD0852B2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F1AA7C78-213C-469A-90CE-BDDD9F46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BA0383D3-A520-4531-B3B3-5362838A5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738CB57B-F5C6-4C55-B4F3-09B13DC34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71EA6025-E47C-498C-B309-FF05347CF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8658F265-EB52-45D6-B5D9-E0304266A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E8350F94-7487-4463-A1B3-24A532948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4A2F080E-7977-46AC-A712-B1A99632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72A9FC34-FE3F-41D6-A7B7-61AE08E6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E80DB432-EF2D-4877-9559-872140766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5559ADDC-5656-463D-A8F1-DDB0D3254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F27-D05E-4DD0-831E-BE74E428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15520" y="3963600"/>
            <a:ext cx="7270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BE8-3B97-4291-B501-21E0D54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15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76E-4F9D-4CB7-B483-25E08A25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3960" y="16002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2400" y="16002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15520" y="39636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3960" y="39636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2400" y="3963600"/>
            <a:ext cx="2341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4C1-D4E3-4F61-BC0C-E2AFDCFF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DE6-24C8-4CF7-9478-5CC5380D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1E9-36C9-4611-9703-C6C1686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FC5-A4A4-493B-99A3-F6927FCE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97D-288D-4BE2-BBB5-3EB72E4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5520" y="274320"/>
            <a:ext cx="72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96E-89DE-4AA5-9501-2678B339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15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46A-1D9E-4E18-8C82-72ACEA6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520" y="39636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079-D150-43C3-A059-D464BC5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520" y="1600200"/>
            <a:ext cx="354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15520" y="3963600"/>
            <a:ext cx="7270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A5D-6418-4543-AF25-CEFD4D7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49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3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nstinet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bloomberg.com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8"/>
          <p:cNvSpPr/>
          <p:nvPr/>
        </p:nvSpPr>
        <p:spPr>
          <a:xfrm>
            <a:off x="1905120" y="1447920"/>
            <a:ext cx="488448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바탕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Stock 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38400" cy="2757600"/>
          </a:xfrm>
          <a:prstGeom prst="rect">
            <a:avLst/>
          </a:prstGeom>
          <a:ln w="9360">
            <a:solidFill>
              <a:srgbClr val="9a6700"/>
            </a:solidFill>
            <a:miter/>
          </a:ln>
        </p:spPr>
      </p:pic>
      <p:sp>
        <p:nvSpPr>
          <p:cNvPr id="51" name="Text Box 13"/>
          <p:cNvSpPr/>
          <p:nvPr/>
        </p:nvSpPr>
        <p:spPr>
          <a:xfrm>
            <a:off x="11160" y="6583320"/>
            <a:ext cx="16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58128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vidends are expected at regular intervals forever, then this is a perpetuity and the present value of expected future dividends can be found using the perpetuity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 /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stock is expected to pay a $0.50 dividend every quarter and the required return is 10% with quarterly compounding. What is the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.50 / (.1 / 4) = 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32680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1EB22F7C-4856-4038-A057-16D117D143C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 Growth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486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expected to grow at a constant percent per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(1+R)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g)/(1+R)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little algebra and some series work, this reduce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2743200" y="4648320"/>
                <a:ext cx="39625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-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-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5"/>
          <p:cNvSpPr/>
          <p:nvPr/>
        </p:nvSpPr>
        <p:spPr>
          <a:xfrm>
            <a:off x="832680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AC75C06E-675A-46D3-897F-0194AF9B049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GM –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Big D, Inc., just paid a dividend of $0.50 per share. It is expected to increase its dividend by 2% per year. If the market requires a return of 15% on assets of this risk, how much should the stock be selling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50(1+.02) / (.15 - .02) = $3.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32680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2B6BFC3A-BAA1-4B62-B926-8EA8819D5B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GM –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B Pirates, Inc., is expected to pay a $2 dividend in one year. If the dividend is expected to grow at 5% per year and the required return is 20%, what is the pr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 / (.2 - .05) = $13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n’t the $2 in the numerator multiplied by (1.05) in this ex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1978864-0CA0-4FF1-A835-E4B05E0D380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k Price Sensitivity to Dividend Growth, 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1430280" y="1905120"/>
            <a:ext cx="7561440" cy="4267080"/>
            <a:chOff x="1430280" y="1905120"/>
            <a:chExt cx="7561440" cy="4267080"/>
          </a:xfrm>
        </p:grpSpPr>
        <p:graphicFrame>
          <p:nvGraphicFramePr>
            <p:cNvPr id="92" name="Object 4"/>
            <p:cNvGraphicFramePr/>
            <p:nvPr/>
          </p:nvGraphicFramePr>
          <p:xfrm>
            <a:off x="1430280" y="1905120"/>
            <a:ext cx="756144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0280" y="1905120"/>
                      <a:ext cx="756144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Text Box 5"/>
            <p:cNvSpPr/>
            <p:nvPr/>
          </p:nvSpPr>
          <p:spPr>
            <a:xfrm>
              <a:off x="2723400" y="2153160"/>
              <a:ext cx="280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$2; R = 2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7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1B8681A4-3069-4C88-A798-C41F6B360B8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k Price Sensitivity to Required Return,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523880" y="2057400"/>
            <a:ext cx="7310520" cy="4114800"/>
            <a:chOff x="1523880" y="2057400"/>
            <a:chExt cx="7310520" cy="4114800"/>
          </a:xfrm>
        </p:grpSpPr>
        <p:graphicFrame>
          <p:nvGraphicFramePr>
            <p:cNvPr id="98" name="Object 3"/>
            <p:cNvGraphicFramePr/>
            <p:nvPr/>
          </p:nvGraphicFramePr>
          <p:xfrm>
            <a:off x="1523880" y="2057400"/>
            <a:ext cx="731052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057400"/>
                      <a:ext cx="731052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Text Box 4"/>
            <p:cNvSpPr/>
            <p:nvPr/>
          </p:nvSpPr>
          <p:spPr>
            <a:xfrm>
              <a:off x="2724840" y="2296440"/>
              <a:ext cx="27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$2; g = 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6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75F277BE-4002-47F1-84B2-F094EE364F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 8.3 Gordon Growt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any - 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 Growth Company is expected to pay a dividend of $4 next period, and dividends are expected to grow at 6% per year. The required return is 16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urrent pr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 / (.16 - .06) = $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we already have the dividend expected next year, so we don’t multiply the dividend by 1+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6B720924-DE31-45E9-8FB0-DE9771345C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ample 8.3 – Gordon Growt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any - I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828440"/>
            <a:ext cx="7486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price expected to be in year 4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 + g) / (R – g) = 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 (R – 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4(1+.06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/ (.16 - .06) = 50.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implied return given the change in price during the four year perio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.50 = 40(1+return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return = 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V = -40; FV = 50.50; N = 4; CPT I/Y = 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assumed to grow at the same rate as the divid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0989B36F-67A0-46EC-97CC-A016BCFAA6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nstant Grow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717560"/>
            <a:ext cx="7236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firm is expected to increase dividends by 20% in one year and by 15% in two years. After that, dividends will increase at a rate of 5% per year indefinitely. If the last dividend was $1 and the required return is 20%, what is the price of the st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we have to find the PV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ected future divid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2D29E5B8-559E-40EE-8E68-5EAC19465A2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nstant Grow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793520"/>
            <a:ext cx="7464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dividends until growth leve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(1.2) = $1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0(1.15) = $1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38(1.05) = $1.4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xpected futur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(R – g) = 1.449 / (.2 - .05) = 9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esent value of the expected future cash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0 / (1.2) + (1.38 + 9.66) / (1.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.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ED0DEA12-77B2-4421-BBA9-6F37293C26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 an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ock prices depend on future dividends and divide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compute stock prices using the dividend grow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corporate directors are 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ock market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stock prices are qu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9238B6D4-8C87-4C96-A96F-27A82ADE3A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Quiz – Part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a stock that is expected to pay a constant dividend of $2 per year if the required return is 15%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 company starts increasing dividends by 3% per year, beginning with the next dividend? The required return stays at 1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3856820F-335A-4616-8613-FC9EE634F2A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DGM to Find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the DG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057400" y="2590920"/>
                <a:ext cx="5181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- 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-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B44FE1EA-2735-4056-9CFD-8F7639E81C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Required Retur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793520"/>
            <a:ext cx="738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firm’s stock is selling for $10.50. It just paid a $1 dividend, and dividends are expected to grow at 5% per year. What is the required re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[1(1.05)/10.50] + .05 =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vidend yie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(1.05) / 10.50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apital gains yie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13D4C79F-3835-45AF-A36D-9C160A9306C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ble 8.1 - Stock Valuation 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ros91585_tb0801"/>
          <p:cNvPicPr/>
          <p:nvPr/>
        </p:nvPicPr>
        <p:blipFill>
          <a:blip r:embed="rId1"/>
          <a:srcRect l="30012" t="0" r="0" b="0"/>
          <a:stretch/>
        </p:blipFill>
        <p:spPr>
          <a:xfrm>
            <a:off x="1981080" y="1420920"/>
            <a:ext cx="586764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5CA15E99-5222-4B1E-8882-58E6769FD9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 of Common St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715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of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proportionally in declared divid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proportionally in remaining assets during liqu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right – first shot at new stock issue to maintain proportional ownership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2E28F83D-F101-40DD-8252-5EC201A1A7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n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38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are not a liability of the firm until a dividend has been declared by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a firm cannot go bankrupt for not declaring divid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and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nd payments are not considered a business expense; therefore, they are not tax deduct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xation of dividends received by individuals depends on the holding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nds received by corporations have a minimum 70% exclusion from taxable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2383B418-0646-4AE9-BFE0-CFA6BD55CC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 of Preferred St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dividend that must be paid before dividends can be paid to common stock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are not a liability of the firm, and preferred dividends can be deferred indefini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eferred dividends are cumulative – any missed preferred dividends have to be paid before common dividends can be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red stock generally does not carry 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9124964E-208D-466D-9D61-119A30898F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k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38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ers vs. Bro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Stock Exchange (N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stock market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holders (1,3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 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0F7E49E9-CD72-4EB8-91DF-4A2323A0C4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D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15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physical exchange – computer-based quot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arket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mmunication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1 – median quotes, registered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 – view quotes, brokers &amp; dea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3 – view and update quotes, deale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ortion of technology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8E8C0E1F-4910-41C3-90EA-F55B34D409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he Web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mmunications Networks provide trading in NASDAQ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web surfer and visit Inst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Web surf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4267080"/>
            <a:ext cx="1049040" cy="106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3DBC8E22-54E1-48BE-895E-955C1D1BD38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tock 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eatures of Common and Preferred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ck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F1DEAC93-7EC5-4269-83AC-253DA9649B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99840" y="16002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Qu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nformation is provided in the stock quo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on the web surfer to go to Bloomberg for current stock qu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Stock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443640" cy="266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bd09310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5943600"/>
            <a:ext cx="382680" cy="5335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D2368C6F-38B3-4B5F-99A2-74A86F2C95B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Quiz –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observe a stock price of $18.75. You expect a dividend growth rate of 5%, and the most recent dividend was $1.50. What is the required re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f the major characteristics of common st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f the major characteristics of preferred st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A4692C67-0FC0-4574-B087-7C7A5A0700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us of pension funding (i.e., over- vs. under-funded) depends heavily on the choice of a discount rate. When actuaries are choosing the appropriate rate, should they give greater priority to future pension recipients, management, or sharehol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increasing availability and use of the internet impacted the ability of stock traders to act uneth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8D12E0BA-EBA7-4C66-AB14-8083D872E1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ehensiv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YZ stock currently sells for $50 per share. The next expected annual dividend is $2, and the growth rate is 6%. What is the expected rate of return on this sto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required rate of return on this stock were 12%, what would the stock price be, and what would the dividend yield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DDD45CF3-D90C-4B4D-B4D7-CC9A9B83DB4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7524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EF169C15-826E-4207-B6A1-D5694298AB8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h Flows for Stock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uy a share of stock, you can receive cash in 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any pays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ell your shares, either to another investor in the market or back to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bonds, the price of the stock is the present value of these expected cash fl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CA22EB57-9137-4AD7-BBFA-EB6508E731C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Perio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725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are thinking of purchasing the stock of Moore Oil, Inc. You expect it to pay a $2 dividend in one year, and you believe that you can sell the stock for $14 at that time. If you require a return of 20% on investments of this risk, what is the maximum you would be willing to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PV of the expected cash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= (14 + 2) / (1.2) = $1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V = 16; I/Y = 20; N = 1; CPT PV = -1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AB85EF3E-8598-46A4-B946-52C2999D61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erio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what if you decide to hold the stock for two years? In addition to the dividend in one year, you expect a dividend of $2.10 in two years and a stock price of $14.70 at the end of year 2. Now how much would you be willing to p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 = 2 / (1.2) + (2.10 + 14.70) / (1.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3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7CF58D9C-57AA-4CEC-9A3D-F656B3BB228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-Perio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718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what if you decide to hold the stock for three years? In addition to the dividends at the end of years 1 and 2, you expect to receive a dividend of $2.205 at the end of year 3 and the stock price is expected to be $15.435. Now how much would you be willing to p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V = 2 / 1.2 + 2.10 / (1.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(2.205 + 15.435) / (1.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3.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1AFFCA28-5824-4EF5-B5DF-AA136A87C4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5520" y="27432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15520" y="1600200"/>
            <a:ext cx="7270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continue to push back the year in which you will sell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find that the price of the stock is really jus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sent value of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expected future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how can we estimate all future dividend pay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5012C664-D1CA-426E-9F60-017E475EC6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2400" y="151920"/>
            <a:ext cx="8391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timating Dividends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33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m will pay a constant dividend for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like preferred st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computed using the perpetuity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dividen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m will increase the dividend by a constan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ry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computed using the growing perpetuity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orm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nd growth is not consistent initially, but settles down to constant growth event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ce is computed using a multistage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326080" y="64450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-</a:t>
            </a:r>
            <a:fld id="{9C78461A-FAE7-479C-8E3A-D57D300357E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1:34:34Z</dcterms:created>
  <dc:creator>Kent P. Ragan</dc:creator>
  <dc:description/>
  <dc:language>en-US</dc:language>
  <cp:lastModifiedBy>Rima Al-Sager</cp:lastModifiedBy>
  <dcterms:modified xsi:type="dcterms:W3CDTF">2013-04-07T21:14:42Z</dcterms:modified>
  <cp:revision>43</cp:revision>
  <dc:subject/>
  <dc:title>Stock Valuation</dc:title>
</cp:coreProperties>
</file>