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24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80B-FE9E-4C4C-A7F6-169BD424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13C5-CC4A-44E3-90B9-5D9931AC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83E1-292C-4355-86D0-C009BAA29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B8E2-1176-4813-829B-4714F315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2C9-7749-4A5D-A717-80EA3903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54F2-8770-45DF-A6DE-54EC2E8C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C07E-1F31-4194-8159-886C57D5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26C-E851-4427-94F8-0DEEB29F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71CD-7865-4C73-8C04-CFA403EE1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E213-5407-4341-ACA8-23FAADC3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F8B-9B5E-48AD-8923-20546780C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50A2-31B2-4883-A41F-2B8A1C0AE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7F40-FB3C-4D74-8F05-A4836972D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B41A-0FE5-411C-A69F-782D0CB4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EB0-622E-453F-9C87-F174AF93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B84-632F-4099-8E86-325D8C91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F63-28FF-47C2-9C3D-4FBD7284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22FE-663B-463F-8E22-35A1CF38E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4D7C-30E9-43E3-93B1-799809CF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BD6-5E9A-4294-98C8-BA91691B6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BDF6-058A-4C0B-99FA-AE8CDD64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FB3-4C8B-4A4B-88B1-D62487D4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733-A3D7-443B-B25D-3DBDBA60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8BA8-E0B0-4338-B7E2-6C962D03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CFC4-9EF9-4073-8187-A69FE5E4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A1E-9C96-4816-8526-4A82C85A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F5A-51AC-446C-BA40-09D79731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CEF-0763-415C-AAA8-E13557FD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FD8-147D-4846-825A-3BA049C6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B5E-73CF-4B97-811E-18E6FD41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091-9677-4A03-B5D8-3A6FE98A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C6B1-6F58-44E3-9A4C-CF3C6908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DA22-C2D7-4378-A90E-9F3714EE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D40-E24E-4A0E-BFA4-9DF47F3A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FF4-EAC4-497F-94BF-40B622E1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3CA8-6A1A-4504-8428-188B7F60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EFA-124B-447B-AE47-2A85908B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E3E6-2E7E-42C6-83A4-63977F77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C277-4542-4070-8C2C-81B26D39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69F1-8940-4C18-B1CD-8BE48376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CA4-D418-4580-86B4-A222465D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3488-68EC-4AF4-81A0-E0DA00DAE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92A0-BE88-4D0B-A2CA-6ADCE5A9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607A-7D1B-4E43-BF17-7C0EE0DB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746-C626-4E6D-9042-571D9893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E27-DB2E-4082-8DC9-F59113B0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16E-7972-4E13-9928-2E40C16C4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65104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19D4F33B-FFA7-404C-952C-E1519B1195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money-rates.com/" TargetMode="External"/><Relationship Id="rId2" Type="http://schemas.openxmlformats.org/officeDocument/2006/relationships/hyperlink" Target="http://www.bbalibor.com/" TargetMode="External"/><Relationship Id="rId3" Type="http://schemas.openxmlformats.org/officeDocument/2006/relationships/hyperlink" Target="http://www.sifma.org/" TargetMode="External"/><Relationship Id="rId4" Type="http://schemas.openxmlformats.org/officeDocument/2006/relationships/hyperlink" Target="http://www.bloomberg.com/" TargetMode="External"/><Relationship Id="rId5" Type="http://schemas.openxmlformats.org/officeDocument/2006/relationships/hyperlink" Target="http://www.smartmoney.com/bonds" TargetMode="External"/><Relationship Id="rId6" Type="http://schemas.openxmlformats.org/officeDocument/2006/relationships/hyperlink" Target="http://www.smartmoney.com/bonds" TargetMode="External"/><Relationship Id="rId7" Type="http://schemas.openxmlformats.org/officeDocument/2006/relationships/hyperlink" Target="http://www.ginniemae.gov/" TargetMode="External"/><Relationship Id="rId8" Type="http://schemas.openxmlformats.org/officeDocument/2006/relationships/hyperlink" Target="http://www.freddiemac.com/" TargetMode="External"/><Relationship Id="rId9" Type="http://schemas.openxmlformats.org/officeDocument/2006/relationships/hyperlink" Target="http://www.publicdebt.treas.gov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9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Pri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a Bank Discount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a banker’s acceptance that will be paid in 71 days has a face value of $100,00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discount yield is 4%, what is the current price of the banker’s acceptanc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0480" y="3429000"/>
            <a:ext cx="587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Quot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onlin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77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Price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November 24, 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1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discount is .028% (you use this to calculate the bid price, i.e., the price you will receive for the T-bil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s are quoted for $1,000,000 face valu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46440" y="3962520"/>
            <a:ext cx="59846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Verify that the ask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ice is $999,95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Equivalent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Equivalent Yields (BEY) are another way to quote an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convert a bank discount yield to a bond equivalent yield using this formula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Note that this formula is correct only for maturities of six months or less. Moreover, if February 29 occurs within the next 12 months, use 366 day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96960" y="3186000"/>
            <a:ext cx="60231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: Bond Equivalent Yiel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i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iscount is 0.02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Bond Equivalent (bid) Yiel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not much difference at this low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, the bid discount w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00%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this 79-day T-bill. What is the BEY in this case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1600200" y="2971800"/>
            <a:ext cx="5548320" cy="1911240"/>
            <a:chOff x="1600200" y="2971800"/>
            <a:chExt cx="5548320" cy="19112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600200" y="2971800"/>
              <a:ext cx="366876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6"/>
            <p:cNvSpPr/>
            <p:nvPr/>
          </p:nvSpPr>
          <p:spPr>
            <a:xfrm>
              <a:off x="5492880" y="3657600"/>
              <a:ext cx="1655640" cy="824040"/>
            </a:xfrm>
            <a:prstGeom prst="rect">
              <a:avLst/>
            </a:prstGeom>
            <a:noFill/>
            <a:ln w="93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67d82"/>
                  </a:solidFill>
                  <a:latin typeface="Arial"/>
                </a:rPr>
                <a:t>Remember to multiply before you subtrac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 flipH="1">
              <a:off x="3740040" y="4191120"/>
              <a:ext cx="1752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alculating T-bill Pric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Bond Equivalent Yield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calculate a Treasury bill asking price using the “asked” yield, which is a bond equivalent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ook at Figure 9.3 for the T-bill that expires on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ported ask yield is 0.020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1"/>
          <a:stretch/>
        </p:blipFill>
        <p:spPr>
          <a:xfrm>
            <a:off x="984240" y="3811680"/>
            <a:ext cx="4748400" cy="2520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724280" y="4572000"/>
            <a:ext cx="3429000" cy="169704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67d82"/>
                </a:solidFill>
                <a:latin typeface="Arial"/>
              </a:rPr>
              <a:t>Note: The bill’s ask price differs from a previous slide by about $0.60 due to rounding of the reported asked yield. The ask yield is really 0.0203% </a:t>
            </a:r>
            <a:br>
              <a:rPr sz="1400"/>
            </a:br>
            <a:r>
              <a:rPr b="1" lang="en-US" sz="1400" spc="-1" strike="noStrike">
                <a:solidFill>
                  <a:srgbClr val="367d82"/>
                </a:solidFill>
                <a:latin typeface="Arial"/>
              </a:rPr>
              <a:t>(verify using the BEY formu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 error is bigger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or higher interest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Ways to Quote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imple” interes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Another method to quote interest rat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ed just lik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annual percentage rates (APRs)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ed for C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bond equivalent yield on a T-bill with less than six months to maturity is also an APR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PR understate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terest rate, which is usually called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ffective annual rate (EAR)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BEY on a T-bil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s Really Just an AP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arlier, using the bid discount rate, we calculated a bid price for an 79-day T-bill to be $999,938.56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maturity, this T-bill will be worth $1,00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earn $61.44 of interest on an investment of $999,938.56 over 79 days, a return of 0.0061444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365-day year, there are 365/79 = 4.62025 periods of 79 days in length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0.0061444% times 4.62025 is 0.2839%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is the bond equivalent (bid) yield that we calculated before (that we rounded to 0.28%).</a:t>
            </a:r>
            <a:br>
              <a:rPr sz="1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367d82"/>
                </a:solidFill>
                <a:latin typeface="Arial"/>
              </a:rPr>
              <a:t>The Wall Street Journal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rounds bid and ask yields to 2 decimal place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nverting APRs to EA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if we let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 the number of periods in a year, an APR can be converted to an EAR as follow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s are sometimes called effective annual yields, effective yields, or annualize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52680" y="2817720"/>
            <a:ext cx="359748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at is the EAR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T-bill’s BEY (aka APR)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2897280" y="1708200"/>
            <a:ext cx="3485880" cy="3592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 the lower the interest rates, the closer is the APR to the 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will be worth your time to increase your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ate of interest in these topics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Money market prices and rat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Rates and yields on fixed-income securiti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reasury STRIPS and the term structure of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interest rat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Nominal versus real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onverting Credit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rd APRs to EAR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Credit Cards quote an APR of 1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18% is used because 18 = 12 times 1.5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the monthly rate is really 1.50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at is the EAR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75160" y="3124080"/>
            <a:ext cx="209088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781680" y="6019920"/>
            <a:ext cx="91440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Excel to Calculate T-bill Prices and Yiel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Rectangle 3" descr=""/>
          <p:cNvPicPr/>
          <p:nvPr/>
        </p:nvPicPr>
        <p:blipFill>
          <a:blip r:embed="rId1"/>
          <a:stretch/>
        </p:blipFill>
        <p:spPr>
          <a:xfrm>
            <a:off x="1293840" y="1535040"/>
            <a:ext cx="67309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xed-income securities includ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long-ter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ebt contracts from a wide variety of issu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U.S. government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 estate purchases (mortgage debt)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rporations, 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nicipal govern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fixed-income securities have a maturity of greater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money market securities have a maturity of less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reasury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a plot of Treasury yields against mat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fundamental to bond market analysis, because it represents the interest rates for default-free lending across the maturity spectru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rm structure of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relationship between time to maturity and the interest rates for default-free,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ure discoun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strume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is sometimes called the 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zero-coupon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to distinguish it from the Treasury yield curve, which is based on coupon bo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can be seen by examining yields on U.S. Treasury STRI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S are pure discount instruments created by “stripping” the coupons and principal payments of U.S. Treasury notes and bonds into separate parts,which are then sold separatel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IPS stands for Separate Trading of Registered Interest and Principal of Sec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sked yield for a U.S. Treasury STRIP is an APR, calculated as two times the true semiannual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STRIP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855960" cy="86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4043520" cy="1005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990720" y="5715000"/>
            <a:ext cx="441936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M is the number of years to mat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gure 9.5: 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Picture 1" descr="C:\Users\Tom Miller\Documents\Godzilla_VI\Sixth_Edition\Tom_Update_Files\Chap_09\Figure_9.5a.jpg"/>
          <p:cNvPicPr/>
          <p:nvPr/>
        </p:nvPicPr>
        <p:blipFill>
          <a:blip r:embed="rId1"/>
          <a:stretch/>
        </p:blipFill>
        <p:spPr>
          <a:xfrm>
            <a:off x="4724280" y="1143000"/>
            <a:ext cx="3962520" cy="252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Tom Miller\Documents\Godzilla_VI\Sixth_Edition\Tom_Update_Files\Chap_09\Figure_9.5b.jpg"/>
          <p:cNvPicPr/>
          <p:nvPr/>
        </p:nvPicPr>
        <p:blipFill>
          <a:blip r:embed="rId2"/>
          <a:stretch/>
        </p:blipFill>
        <p:spPr>
          <a:xfrm>
            <a:off x="2590920" y="3809880"/>
            <a:ext cx="4438440" cy="2371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Tom Miller\Documents\Godzilla_VI\Sixth_Edition\Tom_Update_Files\Chap_09\Figure_9.5c.jpg"/>
          <p:cNvPicPr/>
          <p:nvPr/>
        </p:nvPicPr>
        <p:blipFill>
          <a:blip r:embed="rId3"/>
          <a:stretch/>
        </p:blipFill>
        <p:spPr>
          <a:xfrm>
            <a:off x="685800" y="1143000"/>
            <a:ext cx="3970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Pricing U.S. Treasury STRIP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’s verify the price of the November 2016 Strip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quote is 80.975, or $80.975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YTM is 3.05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es in about 7 years from the time of the quo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ose (considering the two-decimal rounding of the ask YTM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39760" y="3429000"/>
            <a:ext cx="4910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discuss the many different interest rates that are commonly reported in the financial pres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als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ind out how different interest rates are calculated and quot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cuss theories of what determines interest rat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: Pricing U.S. Treasury STRIPS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’s calculate the YTM from the quoted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ose again (reported ask YTM was 3.05%--using the actual days to maturity. We used “about 7 years.”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01920" y="2590920"/>
            <a:ext cx="605124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minal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re interest rates as they are  observed and quoted, with no adjustment for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al interest rate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adjusted for inflation effec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143000" y="3886200"/>
            <a:ext cx="7620120" cy="3988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eal interest rate = nominal interest rate – infl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al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520" y="123984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isher Hypothe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sserts that the general level of nominal interest rates follows the general level of inflation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cording to the Fisher hypothesis, interest rates are, on average, higher than the rate of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 Rates and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cently, the U.S. Treasury has issued securities that guarantee a fixed rate of return in excess of realized inflation r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se inflation-indexed Treasury securitie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 a fixed coupon rate on their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urr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rincipal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ir principal semiannually according to the most recent inflation rate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: Suppose an inflation-indexed note is issued with a coupon rate of 3.5% and an initial principal of $1,000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will pay a coupon of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5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ing 2 percent inflation over the six months since issuance, the note’s principal is then increased to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102% = $1,02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pays $1,02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85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s principal is again adjusted to compensate for recent infl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5" name="Picture 2" descr="C:\Users\Tom Miller\Documents\Godzilla_VI\Sixth_Edition\Tom_Update_Files\Chap_09\Figure_9.8.jpg"/>
          <p:cNvPicPr/>
          <p:nvPr/>
        </p:nvPicPr>
        <p:blipFill>
          <a:blip r:embed="rId1"/>
          <a:stretch/>
        </p:blipFill>
        <p:spPr>
          <a:xfrm>
            <a:off x="3581280" y="1066680"/>
            <a:ext cx="24386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 reflects financial market beliefs about futur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bt markets are segmented by maturity, so interest rates for various maturities are determined separately in each seg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interest rates contain a maturity premium necessary to induce lenders into making longer term loa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term structure is almost always upward sloping, but interest rates have not always risen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t is often the case that the term structure turns down at very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U.S. government borrows much more heavily short-term than long-term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ny of the biggest buyers of fixed-income securities, such as pension funds, have a strong preference for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U.S. government borrows at all maturiti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ny institutional investors, such as mutual funds, are more than willing to move maturities to obtain more favorable rat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re are bond trading operations that exist just to exploit perceived premiums, even very small on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Interest Rate History, 1800-2009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0773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bond prices are much more sensitive to interest rate changes than short-term bonds. This is calle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terest rate risk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the modern view of the term structure suggests tha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I = Nomin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I = Re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P = Inflation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P = Interest rate risk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35" name="Picture 7" descr="jor82353_f0909"/>
          <p:cNvPicPr/>
          <p:nvPr/>
        </p:nvPicPr>
        <p:blipFill>
          <a:blip r:embed="rId1"/>
          <a:stretch/>
        </p:blipFill>
        <p:spPr>
          <a:xfrm>
            <a:off x="2743200" y="1219320"/>
            <a:ext cx="3868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evious equation showed the components of interest rates on default-free bonds that trade in a liquid mark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 all bonds d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iquidity premium (LP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efault premium (DP)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st be added to the previou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 + LP + D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ney-rat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for the latest money market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balibor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learn more about LIBOR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ifma.or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fixed income securiti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bloomberg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current U.S. Treasury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martmoney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bon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view a “living yield curve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anniemae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ginniemae.gov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ddiemac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publicdebt.treas.gov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STRIPS; other U.S. deb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History and Money Marke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Hist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ney Market Rat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Rate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reasury Bill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Yields versus Bond Equivalent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, APRs, and EAR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ates on Other Fixed-Income Investment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reasury STRIP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Yields for U.S. Treasury STRIP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eal Interest Rat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Fisher Hypothesi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Inflation-Indexed Treasury Securiti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xpectations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ity Preferenc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ket Segmentation Theory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terminants of Nominal Interest Rates: A Modern Perspectiv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dern Term Structur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Liquidity and Default Risk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179360"/>
            <a:ext cx="7238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basic interest rate on short-term loans that the largest commercial banks charge to their most creditworthy corporate custome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that the Fed offers to commercial banks for overnight reserve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ederal funds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banks charge each other for overnight loans of $1 million or mor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anker’s acceptanc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postdated check on which a bank has guaranteed payment. Commonly used to finance international trade transaction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ll money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brokerage firms pay for call money loans from banks. This rate is used as the basis for customer rates on margin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mercial pape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Short-term, unsecured debt issued by the largest corporatio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Ds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The interest rate on certificates of deposit, which are large-denomination deposits of $100,000 or more at commercial bank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.S. Treasury bill (T-bill)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short-term U.S. government debt instrument issued by the U.S. Treasury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ondon Interbank Offered Rate (LIBOR)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international banks charge one another for overnight Eurodollar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o LIBO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refers to deposits denominated in euros—the common currency of 16 European Union countri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IBOR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an interest rate that also refers to deposits denominated in euros. However, EURIBOR is based largely on interest rates from the interbank market for banks in the European Un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HIBO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an interest rate based on Hong Kong dollars. Hibor is the interest rate among banks in the Hong Kong interbank marke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odolla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U.S. dollar denominated deposits in banks outside the United St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ure Discount Security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nterest-bearing asse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of face value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t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payments before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are several different ways market participants quot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 (BEY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nnual Percentage Rates (AP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ffective Annual Rates (EA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ank Discount Ba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is a method of quoting interest rates on money market instrumen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is commonly used for T-bills and banker’s acceptanc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ote that we use 360 days in a year in this (and many other) money market formula.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erm “discount yield” here simply refers to the quoted interest rate.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3552840"/>
            <a:ext cx="7631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9:47Z</dcterms:modified>
  <cp:revision>83</cp:revision>
  <dc:subject/>
  <dc:title>Slide 1</dc:title>
</cp:coreProperties>
</file>