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5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9.wmf" ContentType="image/x-wmf"/>
  <Override PartName="/ppt/media/image24.jpeg" ContentType="image/jpeg"/>
  <Override PartName="/ppt/media/image4.wmf" ContentType="image/x-wmf"/>
  <Override PartName="/ppt/media/image21.wmf" ContentType="image/x-wmf"/>
  <Override PartName="/ppt/media/image18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5FE6-66E6-46DD-8C87-8B470EAAC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35AC-235E-4411-AB80-97C04DA59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F2B0-A5C6-432D-BF04-38ECC3009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B0E5-2926-433C-816B-756DA4A0A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7502-2C7B-4E85-B664-FAEEF030A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775E-042C-4F20-871F-D77B4C340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DAC20-04FA-4945-B4DF-150B9649E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2AD1-528A-4021-8F03-04F36076F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9F158-51FE-4D58-A802-291918808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BB7D-CE11-4B29-B230-609D8EC69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9B14-8814-4614-969E-7F0EF34ED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48FB4-916A-4562-8ECC-A14F702E7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8B8F-FD45-4A43-A1F0-7AF60B84E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CB5-081A-4204-96C3-F1C86CA6A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9263-1439-448D-8605-3C1542E7C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6EFE-A60D-4B67-AB1F-141E4526A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5588-B4C7-49D8-AF3E-3972C437F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E084-30FB-436E-B75A-AD0271CCB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3C03-8155-40F7-A5E6-B8589C219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51E1-FE7A-4C8D-9CA6-EF0FCA876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E620-5098-48DF-B6A3-B5B64B16D1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3372-49B3-43A4-A39A-1FF3A3EFA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49B6-CBB0-4725-841C-EE86D44CA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DAB2-0C33-4B17-9412-2A3867A8D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B2C0-C0C7-47DD-8DC6-55773EB00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0BD1-B477-4674-9BCE-EAFEE00D4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133D-9D04-4CD2-8CEB-B1D6A9E35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789C2-1E28-4544-BE27-1BE141197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D3F6-DC50-474B-B82B-B27C9FEE1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0D9E-1137-46DA-AEA4-50C1E6DF2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DB2F-EBF9-4E64-9C63-F3392D61B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3D03-DCD8-4BD6-9A3D-C30B9DEB1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0341-9AB6-4BD8-AFC0-66A136C4D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719C-6595-4192-9D16-54DD70E2F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D423-66E9-4812-8DB2-97C4D352D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166A-42BE-4061-A8EA-2F4993A2B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D8B7-0183-4891-B872-7A73477B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40E1-050B-4C6A-BE83-CD834ED5B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14EF-A9A9-41B3-9024-1CCFA64B9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4BBE-D388-4687-B1BB-771F1D497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C165-8774-43C4-8428-EC942AE11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4DE4-B2DE-4779-9678-73E8A262C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8751-27AB-4049-BB03-502EE48C7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6306-35B3-449D-94F6-0419E0027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12EF-BA9F-4C71-AB35-CB6993D54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E20A-8F9D-4D29-8DAE-E30CCA1AD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E13B-16F5-45EE-8CB0-7C9CD1433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651040"/>
            <a:ext cx="4572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Interest Rat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9-</a:t>
            </a:r>
            <a:fld id="{DE285CA3-C247-4B85-93F8-1EC801193F5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wsj.com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money-rates.com/" TargetMode="External"/><Relationship Id="rId2" Type="http://schemas.openxmlformats.org/officeDocument/2006/relationships/hyperlink" Target="http://www.bbalibor.com/" TargetMode="External"/><Relationship Id="rId3" Type="http://schemas.openxmlformats.org/officeDocument/2006/relationships/hyperlink" Target="http://www.sifma.org/" TargetMode="External"/><Relationship Id="rId4" Type="http://schemas.openxmlformats.org/officeDocument/2006/relationships/hyperlink" Target="http://www.bloomberg.com/" TargetMode="External"/><Relationship Id="rId5" Type="http://schemas.openxmlformats.org/officeDocument/2006/relationships/hyperlink" Target="http://www.smartmoney.com/bonds" TargetMode="External"/><Relationship Id="rId6" Type="http://schemas.openxmlformats.org/officeDocument/2006/relationships/hyperlink" Target="http://www.smartmoney.com/bonds" TargetMode="External"/><Relationship Id="rId7" Type="http://schemas.openxmlformats.org/officeDocument/2006/relationships/hyperlink" Target="http://www.ginniemae.gov/" TargetMode="External"/><Relationship Id="rId8" Type="http://schemas.openxmlformats.org/officeDocument/2006/relationships/hyperlink" Target="http://www.freddiemac.com/" TargetMode="External"/><Relationship Id="rId9" Type="http://schemas.openxmlformats.org/officeDocument/2006/relationships/hyperlink" Target="http://www.publicdebt.treas.gov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9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Calculating a Price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a Bank Discount Rat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 a banker’s acceptance that will be paid in 71 days has a face value of $100,000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f the discount yield is 4%, what is the current price of the banker’s acceptance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0480" y="3429000"/>
            <a:ext cx="58798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easury Bill Quot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online at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wsj.com</a:t>
            </a: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1219320"/>
            <a:ext cx="7772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easury Bill Price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November 24, 2009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160" y="9140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gure 9.3 shows a T-bill that expires February 11, 201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bid discount is .028% (you use this to calculate the bid price, i.e., the price you will receive for the T-bill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Prices are quoted for $1,000,000 face valu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846440" y="3962520"/>
            <a:ext cx="5984640" cy="2514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6019920" y="5638680"/>
            <a:ext cx="2438280" cy="5806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Verify that the ask</a:t>
            </a:r>
            <a:br>
              <a:rPr sz="1600"/>
            </a:b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price is $999,956.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Bond Equivalent Yield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ond Equivalent Yields (BEY) are another way to quote an interest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can convert a bank discount yield to a bond equivalent yield using this formula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1" i="1" lang="en-US" sz="1600" spc="-1" strike="noStrike">
                <a:solidFill>
                  <a:srgbClr val="2b2c0e"/>
                </a:solidFill>
                <a:latin typeface="Arial"/>
              </a:rPr>
              <a:t>Note that this formula is correct only for maturities of six months or less. Moreover, if February 29 occurs within the next 12 months, use 366 day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596960" y="3186000"/>
            <a:ext cx="6023160" cy="8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 I: Bond Equivalent Yield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gure 9.3 shows a T-bill that expires February 11, 2009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bi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discount is 0.02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is the Bond Equivalent (bid) Yield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 is not much difference at this low interest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uppose, the bid discount was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.00%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 this 79-day T-bill. What is the BEY in this case?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64" name="Group 8"/>
          <p:cNvGrpSpPr/>
          <p:nvPr/>
        </p:nvGrpSpPr>
        <p:grpSpPr>
          <a:xfrm>
            <a:off x="1600200" y="2971800"/>
            <a:ext cx="5548320" cy="1911240"/>
            <a:chOff x="1600200" y="2971800"/>
            <a:chExt cx="5548320" cy="1911240"/>
          </a:xfrm>
        </p:grpSpPr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1600200" y="2971800"/>
              <a:ext cx="3668760" cy="19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6"/>
            <p:cNvSpPr/>
            <p:nvPr/>
          </p:nvSpPr>
          <p:spPr>
            <a:xfrm>
              <a:off x="5492880" y="3657600"/>
              <a:ext cx="1655640" cy="824040"/>
            </a:xfrm>
            <a:prstGeom prst="rect">
              <a:avLst/>
            </a:prstGeom>
            <a:noFill/>
            <a:ln w="9360">
              <a:solidFill>
                <a:srgbClr val="367d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67d82"/>
                  </a:solidFill>
                  <a:latin typeface="Arial"/>
                </a:rPr>
                <a:t>Remember to multiply before you subtract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7"/>
            <p:cNvSpPr/>
            <p:nvPr/>
          </p:nvSpPr>
          <p:spPr>
            <a:xfrm flipH="1">
              <a:off x="3740040" y="4191120"/>
              <a:ext cx="1752480" cy="0"/>
            </a:xfrm>
            <a:prstGeom prst="line">
              <a:avLst/>
            </a:prstGeom>
            <a:ln w="38160">
              <a:solidFill>
                <a:srgbClr val="367d8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Calculating T-bill Price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Bond Equivalent Yield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142640"/>
            <a:ext cx="8153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e can calculate a Treasury bill asking price using the “asked” yield, which is a bond equivalent yiel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Look at Figure 9.3 for the T-bill that expires on February 11, 2009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has 79 days to maturity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reported ask yield is 0.020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0" name="Rectangle 3" descr=""/>
          <p:cNvPicPr/>
          <p:nvPr/>
        </p:nvPicPr>
        <p:blipFill>
          <a:blip r:embed="rId1"/>
          <a:stretch/>
        </p:blipFill>
        <p:spPr>
          <a:xfrm>
            <a:off x="984240" y="3811680"/>
            <a:ext cx="4748400" cy="252072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4724280" y="4572000"/>
            <a:ext cx="3429000" cy="169704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67d82"/>
                </a:solidFill>
                <a:latin typeface="Arial"/>
              </a:rPr>
              <a:t>Note: The bill’s ask price differs from a previous slide by about $0.60 due to rounding of the reported asked yield. The ask yield is really 0.0203% </a:t>
            </a:r>
            <a:br>
              <a:rPr sz="1400"/>
            </a:br>
            <a:r>
              <a:rPr b="1" lang="en-US" sz="1400" spc="-1" strike="noStrike">
                <a:solidFill>
                  <a:srgbClr val="367d82"/>
                </a:solidFill>
                <a:latin typeface="Arial"/>
              </a:rPr>
              <a:t>(verify using the BEY formul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he error is bigger </a:t>
            </a:r>
            <a:br>
              <a:rPr sz="14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for higher interest ra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re Ways to Quote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Simple” interest ba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- Another method to quote interest rate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alculated just like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annual percentage rates (APRs).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Used for CD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bond equivalent yield on a T-bill with less than six months to maturity is also an APR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PR understates the 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tru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terest rate, which is usually called 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ffective annual rate (EAR)</a:t>
            </a:r>
            <a:r>
              <a:rPr b="1" i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BEY on a T-bill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is Really Just an APR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arlier, using the bid discount rate, we calculated a bid price for an 79-day T-bill to be $999,938.56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t maturity, this T-bill will be worth $1,000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earn $61.44 of interest on an investment of $999,938.56 over 79 days, a return of 0.0061444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a 365-day year, there are 365/79 = 4.62025 periods of 79 days in length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0.0061444% times 4.62025 is 0.2839%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is is the bond equivalent (bid) yield that we calculated before (that we rounded to 0.28%).</a:t>
            </a:r>
            <a:br>
              <a:rPr sz="18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Note: </a:t>
            </a:r>
            <a:r>
              <a:rPr b="1" i="1" lang="en-US" sz="1600" spc="-1" strike="noStrike">
                <a:solidFill>
                  <a:srgbClr val="367d82"/>
                </a:solidFill>
                <a:latin typeface="Arial"/>
              </a:rPr>
              <a:t>The Wall Street Journal </a:t>
            </a:r>
            <a:r>
              <a:rPr b="1" lang="en-US" sz="1600" spc="-1" strike="noStrike">
                <a:solidFill>
                  <a:srgbClr val="367d82"/>
                </a:solidFill>
                <a:latin typeface="Arial"/>
              </a:rPr>
              <a:t>rounds bid and ask yields to 2 decimal places.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onverting APRs to EAR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general, if we let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be the number of periods in a year, an APR can be converted to an EAR as follow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Rs are sometimes called effective annual yields, effective yields, or annualized yiel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52680" y="2817720"/>
            <a:ext cx="3597480" cy="11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: What is the EAR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is T-bill’s BEY (aka APR)?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0" name="Rectangle 3" descr=""/>
          <p:cNvPicPr/>
          <p:nvPr/>
        </p:nvPicPr>
        <p:blipFill>
          <a:blip r:embed="rId1"/>
          <a:stretch/>
        </p:blipFill>
        <p:spPr>
          <a:xfrm>
            <a:off x="2897280" y="1708200"/>
            <a:ext cx="3485880" cy="35924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4"/>
          <p:cNvSpPr/>
          <p:nvPr/>
        </p:nvSpPr>
        <p:spPr>
          <a:xfrm>
            <a:off x="762120" y="5638680"/>
            <a:ext cx="792468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Note that the lower the interest rates, the closer is the APR to the E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will be worth your time to increase your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ate of interest in these topics:</a:t>
            </a:r>
            <a:br>
              <a:rPr sz="2800"/>
            </a:b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1. Money market prices and rates.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2. Rates and yields on fixed-income securities.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3. Treasury STRIPS and the term structure of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   interest rates.</a:t>
            </a:r>
            <a:br>
              <a:rPr sz="2400"/>
            </a:b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4. Nominal versus real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 II: Converting Credit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ard APRs to EAR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me Credit Cards quote an APR of 18%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18% is used because 18 = 12 times 1.50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at is, the monthly rate is really 1.50%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What is the EAR?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475160" y="3124080"/>
            <a:ext cx="2090880" cy="34290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6781680" y="6019920"/>
            <a:ext cx="91440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O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Using Excel to Calculate T-bill Prices and Yield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87" name="Rectangle 3" descr=""/>
          <p:cNvPicPr/>
          <p:nvPr/>
        </p:nvPicPr>
        <p:blipFill>
          <a:blip r:embed="rId1"/>
          <a:stretch/>
        </p:blipFill>
        <p:spPr>
          <a:xfrm>
            <a:off x="1293840" y="1535040"/>
            <a:ext cx="67309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Rates and Yields on Fixed-Income Securities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Fixed-income securities include 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long-ter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debt contracts from a wide variety of issuers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U.S. government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al estate purchases (mortgage debt),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orporations, 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unicipal governmen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issued, fixed-income securities have a maturity of greater than one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issued, money market securities have a maturity of less than one year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reasury Yield Curv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Treasury yield curv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a plot of Treasury yields against maturiti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t is fundamental to bond market analysis, because it represents the interest rates for default-free lending across the maturity spectrum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Treasury Yield Curve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71600" y="1066680"/>
            <a:ext cx="66294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erm Structure of Interest Rat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term structure of interest rat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relationship between time to maturity and the interest rates for default-free, </a:t>
            </a:r>
            <a:r>
              <a:rPr b="1" lang="en-US" sz="2400" spc="-1" strike="noStrike">
                <a:solidFill>
                  <a:srgbClr val="367d82"/>
                </a:solidFill>
                <a:latin typeface="Arial"/>
              </a:rPr>
              <a:t>pure discoun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nstrument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is sometimes called the “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zero-coupon yield curv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” to distinguish it from the Treasury yield curve, which is based on coupon bond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Term Structure of Interest Rat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can be seen by examining yields on U.S. Treasury STRIPS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TRIPS are pure discount instruments created by “stripping” the coupons and principal payments of U.S. Treasury notes and bonds into separate parts,which are then sold separately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IPS stands for Separate Trading of Registered Interest and Principal of Securiti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.S. Treasury STRIP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 asked yield for a U.S. Treasury STRIP is an APR, calculated as two times the true semiannual rat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ecall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for STRIP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419720" y="3048120"/>
            <a:ext cx="3855960" cy="861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4043520" cy="100512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990720" y="5715000"/>
            <a:ext cx="4419360" cy="3682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7d82"/>
                </a:solidFill>
                <a:latin typeface="Arial"/>
              </a:rPr>
              <a:t>M is the number of years to mat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igure 9.5: U.S. Treasury STRIP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4" name="Picture 1" descr="C:\Users\Tom Miller\Documents\Godzilla_VI\Sixth_Edition\Tom_Update_Files\Chap_09\Figure_9.5a.jpg"/>
          <p:cNvPicPr/>
          <p:nvPr/>
        </p:nvPicPr>
        <p:blipFill>
          <a:blip r:embed="rId1"/>
          <a:stretch/>
        </p:blipFill>
        <p:spPr>
          <a:xfrm>
            <a:off x="4724280" y="1143000"/>
            <a:ext cx="3962520" cy="2521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Tom Miller\Documents\Godzilla_VI\Sixth_Edition\Tom_Update_Files\Chap_09\Figure_9.5b.jpg"/>
          <p:cNvPicPr/>
          <p:nvPr/>
        </p:nvPicPr>
        <p:blipFill>
          <a:blip r:embed="rId2"/>
          <a:stretch/>
        </p:blipFill>
        <p:spPr>
          <a:xfrm>
            <a:off x="2590920" y="3809880"/>
            <a:ext cx="4438440" cy="2371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C:\Users\Tom Miller\Documents\Godzilla_VI\Sixth_Edition\Tom_Update_Files\Chap_09\Figure_9.5c.jpg"/>
          <p:cNvPicPr/>
          <p:nvPr/>
        </p:nvPicPr>
        <p:blipFill>
          <a:blip r:embed="rId3"/>
          <a:stretch/>
        </p:blipFill>
        <p:spPr>
          <a:xfrm>
            <a:off x="685800" y="1143000"/>
            <a:ext cx="3970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Pricing U.S. Treasury STRIP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et’s verify the price of the November 2016 Strip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ask quote is 80.975, or $80.975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ask YTM is 3.05%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tures in about 7 years from the time of the quote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ose (considering the two-decimal rounding of the ask YTM)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039760" y="3429000"/>
            <a:ext cx="491040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ur goal in this chapter is to discuss the many different interest rates that are commonly reported in the financial pres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e will also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Find out how different interest rates are calculated and quoted, and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Discuss theories of what determines interest rat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2b2c0e"/>
                </a:solidFill>
                <a:latin typeface="Arial"/>
              </a:rPr>
              <a:t>Example: Pricing U.S. Treasury STRIPS, II.</a:t>
            </a:r>
            <a:endParaRPr b="0" lang="en-US" sz="33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et’s calculate the YTM from the quoted pri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ose again (reported ask YTM was 3.05%--using the actual days to maturity. We used “about 7 years.”)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501920" y="2590920"/>
            <a:ext cx="6051240" cy="19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1536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ominal interest rate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re interest rates as they are  observed and quoted, with no adjustment for infl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Real interest rates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re adjusted for inflation effec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143000" y="3886200"/>
            <a:ext cx="7620120" cy="398880"/>
          </a:xfrm>
          <a:prstGeom prst="rect">
            <a:avLst/>
          </a:prstGeom>
          <a:noFill/>
          <a:ln w="9360">
            <a:solidFill>
              <a:srgbClr val="367d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7d82"/>
                </a:solidFill>
                <a:latin typeface="Arial"/>
              </a:rPr>
              <a:t>Real interest rate = nominal interest rate – inflation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Real T-bill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33520" y="1239840"/>
            <a:ext cx="8305560" cy="49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Fisher Hypothe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sserts that the general level of nominal interest rates follows the general level of inflation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ccording to the Fisher hypothesis, interest rates are, on average, higher than the rate of infla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 Rates and T-bill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77240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-Indexed Treasury Securiti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ecently, the U.S. Treasury has issued securities that guarantee a fixed rate of return in excess of realized inflation rates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ese inflation-indexed Treasury securities: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ay a fixed coupon rate on their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curren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principal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djus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eir principal semiannually according to the most recent inflation rate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xample: Suppose an inflation-indexed note is issued with a coupon rate of 3.5% and an initial principal of $1,000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x months later, the note will pay a coupon of $1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5%/2) = $17.50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ing 2 percent inflation over the six months since issuance, the note’s principal is then increased to $1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102% = $1,020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ix months later, the note pays $1,02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5%/2) = $17.85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ts principal is again adjusted to compensate for recent inflatio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flation-Indexed Treasury Securiti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25" name="Picture 2" descr="C:\Users\Tom Miller\Documents\Godzilla_VI\Sixth_Edition\Tom_Update_Files\Chap_09\Figure_9.8.jpg"/>
          <p:cNvPicPr/>
          <p:nvPr/>
        </p:nvPicPr>
        <p:blipFill>
          <a:blip r:embed="rId1"/>
          <a:stretch/>
        </p:blipFill>
        <p:spPr>
          <a:xfrm>
            <a:off x="3581280" y="1066680"/>
            <a:ext cx="243864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raditional Theories of the Term Structure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Expectations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of interest rates reflects financial market beliefs about future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rket Segmentation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bt markets are segmented by maturity, so interest rates for various maturities are determined separately in each segmen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Maturity Preference Theory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ong-term interest rates contain a maturity premium necessary to induce lenders into making longer term loan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Expectations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term structure is almost always upward sloping, but interest rates have not always risen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t is often the case that the term structure turns down at very long maturiti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0">
              <a:lnSpc>
                <a:spcPct val="9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aturity Preference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U.S. government borrows much more heavily short-term than long-term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spcBef>
                <a:spcPts val="2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Many of the biggest buyers of fixed-income securities, such as pension funds, have a strong preference for long maturitie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Market Segmentation Theory</a:t>
            </a:r>
            <a:br>
              <a:rPr sz="2400"/>
            </a:br>
            <a:r>
              <a:rPr b="1" i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U.S. government borrows at all maturities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ny institutional investors, such as mutual funds, are more than willing to move maturities to obtain more favorable rates.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3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re are bond trading operations that exist just to exploit perceived premiums, even very small on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.S. Interest Rate History, 1800-2009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480" y="1573200"/>
            <a:ext cx="807732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Long-term bond prices are much more sensitive to interest rate changes than short-term bonds. This is called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interest rate risk</a:t>
            </a: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o, the modern view of the term structure suggests that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I = RI + IP + RP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0" algn="ctr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8960" indent="-31896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this equ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NI = Nominal interest rat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I = Real interest rat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P = Inflation premium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RP = Interest rate risk premium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35" name="Picture 7" descr="jor82353_f0909"/>
          <p:cNvPicPr/>
          <p:nvPr/>
        </p:nvPicPr>
        <p:blipFill>
          <a:blip r:embed="rId1"/>
          <a:stretch/>
        </p:blipFill>
        <p:spPr>
          <a:xfrm>
            <a:off x="2743200" y="1219320"/>
            <a:ext cx="38685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dern Term Structure Theory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previous equation showed the components of interest rates on default-free bonds that trade in a liquid marke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t all bonds do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refore, a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liquidity premium (LP)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and a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efault premium (DP)</a:t>
            </a: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ust be added to the previous equation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I = RI + IP + RP + LP + DP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3055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oney-rates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for the latest money market ra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balibor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learn more about LIBOR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ifma.org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information on fixed income securiti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bloomberg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current U.S. Treasury ra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martmoney.com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bond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view a “living yield curve”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ww.fanniemae.com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ginniemae.gov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freddiemac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one of three mortgage security websites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publicdebt.treas.gov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information on STRIPS; other U.S. deb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terest Rate History and Money Marke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nterest Rate Hist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ney Market Rates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Money Market Prices and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Rate Quot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reasury Bill Quot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Yields versus Bond Equivalent Yield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ond Equivalent Yields, APRs, and EAR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6854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ates and Yields on Fixed-Income Securit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Treasury Yield Curve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Rates on Other Fixed-Income Investment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Term Structure of Interes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reasury STRIP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Yields for U.S. Treasury STRIPS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Nominal versus Real Interest Rat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Real Interest Rate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Fisher Hypothesi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Inflation-Indexed Treasury Securities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raditional Theories of the Term Structur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Expectations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turity Preference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rket Segmentation Theory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terminants of Nominal Interest Rates: A Modern Perspective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Problems with Traditional Theorie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odern Term Structure Theory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Liquidity and Default Risk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Interest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179360"/>
            <a:ext cx="7238880" cy="52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Rat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ime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basic interest rate on short-term loans that the largest commercial banks charge to their most creditworthy corporate customer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Discount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interest rate that the Fed offers to commercial banks for overnight reserve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Federal funds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Interest rate that banks charge each other for overnight loans of $1 million or more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Banker’s acceptanc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A postdated check on which a bank has guaranteed payment. Commonly used to finance international trade transaction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all money rate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The interest rate brokerage firms pay for call money loans from banks. This rate is used as the basis for customer rates on margin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ommercial pape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Short-term, unsecured debt issued by the largest corporatio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CDs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- The interest rate on certificates of deposit, which are large-denomination deposits of $100,000 or more at commercial banks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Rat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U.S. Treasury bill (T-bill)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A short-term U.S. government debt instrument issued by the U.S. Treasury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London Interbank Offered Rate (LIBOR)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Interest rate that international banks charge one another for overnight Eurodollar loans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uro LIBO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refers to deposits denominated in euros—the common currency of 16 European Union countries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URIBOR 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is an interest rate that also refers to deposits denominated in euros. However, EURIBOR is based largely on interest rates from the interbank market for banks in the European Un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HIBOR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is an interest rate based on Hong Kong dollars. Hibor is the interest rate among banks in the Hong Kong interbank market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urodolla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- U.S. dollar denominated deposits in banks outside the United States. 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ney Market Prices and Ra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ure Discount Security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interest-bearing asset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makes 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ingle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ayment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of face value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t maturity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makes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no payments before maturity</a:t>
            </a: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ere are several different ways market participants quote interest rates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nk Discount Basi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ond Equivalent Yields (BEY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nnual Percentage Rates (APR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Effective Annual Rates (EAR)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Bank Discount Basi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2b2c0e"/>
                </a:solidFill>
                <a:latin typeface="Arial"/>
              </a:rPr>
              <a:t>Bank Discount Basi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 is a method of quoting interest rates on money market instruments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It is commonly used for T-bills and banker’s acceptance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e formula is: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Note that we use 360 days in a year in this (and many other) money market formula.</a:t>
            </a:r>
            <a:br>
              <a:rPr sz="2600"/>
            </a:b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b2c0e"/>
                </a:solidFill>
                <a:latin typeface="Arial"/>
              </a:rPr>
              <a:t>The term “discount yield” here simply refers to the quoted interest rate.</a:t>
            </a:r>
            <a:endParaRPr b="0" lang="en-US" sz="26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43000" y="3552840"/>
            <a:ext cx="76312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19:47Z</dcterms:modified>
  <cp:revision>83</cp:revision>
  <dc:subject/>
  <dc:title>Slide 1</dc:title>
</cp:coreProperties>
</file>