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9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4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3.jpeg" ContentType="image/jpeg"/>
  <Override PartName="/ppt/media/image2.wmf" ContentType="image/x-wmf"/>
  <Override PartName="/ppt/media/image3.wmf" ContentType="image/x-wmf"/>
  <Override PartName="/ppt/media/image5.jpeg" ContentType="image/jpe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25BA-FDCA-4702-AB19-05227E7B8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9FDF-8184-4699-B069-4776D9221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D501-8B6E-4606-AEF1-8957B405A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178A-FED6-43F1-9409-669025D6F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5925-A0E6-4030-A6C3-FCFA30345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B94EE-613E-4934-B856-EDCF919ED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CD15-0189-4E04-A044-409A43624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B81F-9D6C-4F80-816C-044208BF3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54C1-5BA5-446A-BC55-7BC9BC1A6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6EA7-5622-4454-AFB3-B682711B4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0894-72DA-4AED-8B5D-7FF362393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11D5-F298-442B-A9BB-9524992B0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E71E8-190C-4165-81C1-1636483D0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77F4-724E-4765-9E04-C12D376ED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F4F6-A326-498D-A0EF-A621F3596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E4C3-176E-43E9-B19F-CAE5236BE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153B-0129-4969-9ABC-3A0D91664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0E39-DC0D-4FA2-94B9-0E143306D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8073-22E4-46D1-9A1B-530D63324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2D99-719E-43D1-A477-25AC5DA8B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D17E-F40C-4954-A23B-830F8EEB5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9F24-7951-49C3-BB8D-5752E37BC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262C-6E15-4A4F-808C-C26960983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AB60C-8137-4C73-99B0-189C40107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559E-7AEE-4A40-A6CD-60B2F205D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E051-BB24-4482-8096-6292C647F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BFB7-EE5E-4984-80D7-2BBF649E6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F310-8243-4738-ABD7-625726F20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F530-2425-428B-8624-94654B457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B789-B21A-43FF-A5B8-53B3552CB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93CA-0234-44B2-AF63-C23997B64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692D-5762-465D-853C-77FFCB4F8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98CE-8610-4C03-91EE-B31738CEA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7653-094F-46B6-9AE7-C5F484F7D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177E-91E1-42F7-B351-A3321BADC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3BC81-FA98-477C-A0A7-97304170E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5AB6-D2B5-40C6-9D67-48EE878EC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DFC1-D3CF-4FB6-8BDA-E60649199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392F-75EF-47A9-B392-63E6B811E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2902-C6AD-44E0-9422-78F7D7447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D4E2-70DE-4A4F-8300-2F8003382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1D83-46A0-4D40-9316-BDF776793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A42C-59F8-41EA-8D47-374D82BDA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2EC9-9389-484E-BE98-9290CD7AC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567F-2036-41B7-A9F6-C0FE9852B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CAF7-AC0D-478D-B0F7-4EBD18A3A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A0BB-DCE8-4749-938A-E6FA419E2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5C08-4A17-4608-A6F4-39D70B41E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1FC4-20F6-46C7-B981-918D55738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01CE-DEEA-4C27-A066-507789BBF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2A58-15C8-4F3F-BFEB-D9D2B0D67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809880" y="2422440"/>
            <a:ext cx="457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Bond Prices and Yield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-</a:t>
            </a:r>
            <a:fld id="{88D0FDDF-39EB-4887-8332-A8B65020088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sifma.org/" TargetMode="External"/><Relationship Id="rId2" Type="http://schemas.openxmlformats.org/officeDocument/2006/relationships/hyperlink" Target="http://www.jamesbaker.com/" TargetMode="External"/><Relationship Id="rId3" Type="http://schemas.openxmlformats.org/officeDocument/2006/relationships/hyperlink" Target="http://www.bondsonline.com/" TargetMode="External"/><Relationship Id="rId4" Type="http://schemas.openxmlformats.org/officeDocument/2006/relationships/hyperlink" Target="http://www.investinginbonds.com/" TargetMode="External"/><Relationship Id="rId5" Type="http://schemas.openxmlformats.org/officeDocument/2006/relationships/hyperlink" Target="http://www.bloomberg.com/" TargetMode="Externa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10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preadsheet Analysi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924680" cy="53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emium and Discount Bond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nds are given names according to the relationship between the bond’s selling price and its par value.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Premium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 &gt; par valu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0"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YTM &lt; coupon rate</a:t>
            </a:r>
            <a:br>
              <a:rPr sz="3200"/>
            </a:br>
            <a:endParaRPr b="0" lang="en-US" sz="32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Discount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 &lt; par valu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0"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YTM &gt; coupon rate</a:t>
            </a:r>
            <a:br>
              <a:rPr sz="3200"/>
            </a:br>
            <a:endParaRPr b="0" lang="en-US" sz="32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Par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 = par valu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0">
              <a:buNone/>
              <a:tabLst>
                <a:tab algn="l" pos="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YTM = coupon rate</a:t>
            </a:r>
            <a:endParaRPr b="0" lang="en-US" sz="3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emium and Discount Bond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0" name="Picture 7" descr="jor82353_f1001"/>
          <p:cNvPicPr/>
          <p:nvPr/>
        </p:nvPicPr>
        <p:blipFill>
          <a:blip r:embed="rId1"/>
          <a:stretch/>
        </p:blipFill>
        <p:spPr>
          <a:xfrm>
            <a:off x="533520" y="1523880"/>
            <a:ext cx="820404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emium and Discount Bonds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general, when the coupon rate and YTM are held constant: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For premium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 the longer the term to maturity, the greater the premium over par valu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For discount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 the longer the term to maturity, the greater the discount from par value.</a:t>
            </a: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lationships among Yield Measur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For premium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coupon rate &gt; current yield &gt; YTM</a:t>
            </a:r>
            <a:br>
              <a:rPr sz="3200"/>
            </a:br>
            <a:endParaRPr b="0" lang="en-US" sz="32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For discount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coupon rate &lt; current yield &lt; YTM</a:t>
            </a:r>
            <a:br>
              <a:rPr sz="3200"/>
            </a:br>
            <a:endParaRPr b="0" lang="en-US" sz="32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990000"/>
                </a:solidFill>
                <a:latin typeface="Arial"/>
              </a:rPr>
              <a:t>For par value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2b2c0e"/>
                </a:solidFill>
                <a:latin typeface="Arial"/>
              </a:rPr>
              <a:t>coupon rate = current yield = YTM</a:t>
            </a:r>
            <a:endParaRPr b="0" lang="en-US" sz="3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culating Yield to Maturity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we know the current price of a bond, its coupon rate, and its time to maturity.  How do we calculate the YTM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use the straight bond formula, trying different yields until we come across the one that produces the current price of the bon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is is tedious.  So, to speed up the calculation, financial calculators and spreadsheets are often use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95600" y="3511440"/>
            <a:ext cx="4486320" cy="9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culating Yield to Maturity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use the YIELD function in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Excel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YIELD(“Today”,“Maturity”,Coupon Rate,Price,100,2,3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nter “Today” and “Maturity” in quotes, using  mm/dd/yyyy forma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nter the Coupon Rate as a decimal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nter the Price as a percent of face valu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e:  As before,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he "100" tells </a:t>
            </a: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Excel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to use $100 as the par valu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he "2" tells </a:t>
            </a: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Excel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o use semi-annual coupon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he "3" tells </a:t>
            </a: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Excel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o use an actual day count with 365 days per yea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dates 8 years apart, a coupon rate of 8%, and a price (per hundred) of $110 results in a YTM of 6.38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preadsheet Analysi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33520" y="1066680"/>
            <a:ext cx="822960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 Quick Note on Bond Quotation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have seen how to calculate bond pric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ote: If you buy a bond between coupon dates, you will receive the next coupon payment (and might have to pay taxes on it).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owever, when you buy the bond between coupon payments, you must compensate the seller for any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accrued interes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 Quick Note on Bond Quotation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convention in bond price quotes is to ignore accrued interest.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s results in what is commonly called a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clean price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(i.e., a quoted price net of accrued interest).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metimes, this price is also known as a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flat price.</a:t>
            </a:r>
            <a:br>
              <a:rPr sz="2400"/>
            </a:b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rice the buyer actually pays is called 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dirty pric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s is because accrued interest is added to 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clean pric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ote:  The price the buyer actually pays is sometimes known as 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full pric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or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invoice price.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457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 this chapter, you will learn:</a:t>
            </a:r>
            <a:br>
              <a:rPr sz="2800"/>
            </a:b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How to calculate bond prices and yield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 importance of yield to maturity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nterest rate risk and Malkiel’s theorem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How to measure the impact of interest rate changes on bond price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lable Bond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us far, we have calculated bond prices assuming that the actual bond maturity is the original stated maturity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owever, most bonds ar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llable bonds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allable bon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gives the issuer the option to buy back the bond at a specified </a:t>
            </a:r>
            <a:r>
              <a:rPr b="1" i="1" lang="en-US" sz="2400" spc="-1" strike="noStrike">
                <a:solidFill>
                  <a:srgbClr val="367d82"/>
                </a:solidFill>
                <a:latin typeface="Arial"/>
              </a:rPr>
              <a:t>call pric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nytim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after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initial </a:t>
            </a:r>
            <a:r>
              <a:rPr b="1" i="1" lang="en-US" sz="2400" spc="-1" strike="noStrike">
                <a:solidFill>
                  <a:srgbClr val="367d82"/>
                </a:solidFill>
                <a:latin typeface="Arial"/>
              </a:rPr>
              <a:t>call protection period</a:t>
            </a: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fore, for callable bonds, YTM may not be usefu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Yield to Cal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Yield to call (YTC)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s a yield measure that assumes a bond will be called at its earliest possible call dat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formula to price a callable bond i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the formula, C is the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annual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oupon (in $), CP is the call price of the bond, T is the time (in years) to the earliest possible call date, and YTC is the yield to call, with semi-annual coupon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 with straight bonds, we can solve for the YTC, if we know the price of a callable bon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676520" y="2971800"/>
            <a:ext cx="579096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terest Rate Risk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olders of bonds fac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est rate risk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nterest rate risk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the possibility that changes in interest rates will result in losses in the bond’s valu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yield actually earned or “realized” on a bond is called the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realized yield</a:t>
            </a: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alized yield is almost never exactly equal to the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yield to maturity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or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promised yield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terest Rate Risk and Maturity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4" name="Picture 7" descr="jor82353_f1002"/>
          <p:cNvPicPr/>
          <p:nvPr/>
        </p:nvPicPr>
        <p:blipFill>
          <a:blip r:embed="rId1"/>
          <a:stretch/>
        </p:blipFill>
        <p:spPr>
          <a:xfrm>
            <a:off x="609480" y="1668600"/>
            <a:ext cx="82296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alkiel’s Theorem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7d82"/>
                </a:solidFill>
                <a:latin typeface="Arial"/>
              </a:rPr>
              <a:t>Bond prices and bond yields move in opposite directions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As a bond’s yield increases, its price decreases.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onversely, as a bond’s yield decreases, its price increas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7d82"/>
                </a:solidFill>
                <a:latin typeface="Arial"/>
              </a:rPr>
              <a:t>For a given change in a bond’s YTM, the longer the term to maturity of the bond, the greater the magnitude of the change in the bond’s pric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alkiel’s Theorem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7d82"/>
                </a:solidFill>
                <a:latin typeface="Arial"/>
              </a:rPr>
              <a:t>For a given change in a bond’s YTM, the size of the change in the bond’s price increases at a diminishing rate as the bond’s term to maturity lengthen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80000"/>
              <a:buFont typeface="Wingdings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7d82"/>
                </a:solidFill>
                <a:latin typeface="Arial"/>
              </a:rPr>
              <a:t>For a given change in a bond’s YTM, the absolute magnitude of the resulting change in the bond’s price is inversely related to the bond’s coupon rate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7d82"/>
                </a:solidFill>
                <a:latin typeface="Arial"/>
              </a:rPr>
              <a:t>For a given absolute change in a bond’s YTM, the magnitude of the price increase caused by a decrease in yield is greater than the price decrease caused by an increase in yield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Bond Prices and Yield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90" name="Picture 11" descr="jor82353_tb1002"/>
          <p:cNvPicPr/>
          <p:nvPr/>
        </p:nvPicPr>
        <p:blipFill>
          <a:blip r:embed="rId1"/>
          <a:stretch/>
        </p:blipFill>
        <p:spPr>
          <a:xfrm>
            <a:off x="762120" y="4114800"/>
            <a:ext cx="7824600" cy="1481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jor82353_tb1001"/>
          <p:cNvPicPr/>
          <p:nvPr/>
        </p:nvPicPr>
        <p:blipFill>
          <a:blip r:embed="rId2"/>
          <a:stretch/>
        </p:blipFill>
        <p:spPr>
          <a:xfrm>
            <a:off x="685800" y="1600200"/>
            <a:ext cx="781524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ondholders know that the price of their bonds change when interest rates change.  But,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How big is this change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How is this change in price estimated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caulay Duration, or Duration,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name of concept that helps bondholders measure the sensitivity of a bond price to changes in bond yields.  That i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Two bonds with the same duration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, but not necessarily the same maturity, </a:t>
            </a: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will have approximately the same price sensitivity to a (small) change in bond yield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654552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Using 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xample:  Suppose a bond has a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caulay Duratio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of 11 years and a current yield to maturity of 8%. 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the yield to maturity increases to 8.50%, what is the resulting percentage change in the price of the bond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97" name="Rectangle 3" descr=""/>
          <p:cNvPicPr/>
          <p:nvPr/>
        </p:nvPicPr>
        <p:blipFill>
          <a:blip r:embed="rId1"/>
          <a:stretch/>
        </p:blipFill>
        <p:spPr>
          <a:xfrm>
            <a:off x="1916280" y="4114800"/>
            <a:ext cx="542268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dified 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me analysts prefer to use a variation of Macaulay’s Duration, known as Modified Dur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relationship between percentage changes in bond prices and changes in bond yields is approximately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62320" y="2362320"/>
            <a:ext cx="4635360" cy="1104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066680" y="5257800"/>
            <a:ext cx="7716960" cy="3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Bond Prices and Yield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ur goal in this chapter is to understand the relationship between bond prices and yiel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addition, we will examine some fundamental tools that fixed-income portfolio managers use when they assess bond risk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culating Macaulay’s 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acaulay’s Duration values are stated in years and are often described as a bond’s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effective maturity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For a zero-coupon bond,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duration = maturi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For a coupon bond,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duration = a weighted average of individual maturities of all the bond’s separate cash flows, where the weights are proportionate to the present values of each cash flow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culating Macaulay’s 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general, for a bond paying constant semiannual coupons, the formula for Macaulay’s Duration i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the formula, C is 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annual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upon rate, M is the bond maturity (in years), and YTM is the yield to maturity, assuming semiannual coupon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646128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alculating Macaulay’s Duration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for Par Bond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f a bond is selling for par value, the duration formula can be simplified to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649620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alculating Duration Using Exc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can use the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UR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DUR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functions in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Excel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o calculate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Macaulay Dur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odified Duration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Excel functions use arguments like we saw before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UR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(“Today”,“Maturity”,Coupon Rate,YTM,2,3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can verify that a 5-year bond, with a 9% coupon and a 7% YTM, has a Duration of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4.17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nd a Modified Duration of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4.03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alculating Macaulay and Modified Dur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09480" y="1424160"/>
            <a:ext cx="807732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uration Properties 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SzPct val="80000"/>
              <a:buFont typeface="Wingdings" charset="2"/>
              <a:buChar char="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l else the same, the longer a bond’s maturity, the longer is its dur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SzPct val="80000"/>
              <a:buFont typeface="Wingdings" charset="2"/>
              <a:buChar char="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l else the same, a bond’s duration increases at a decreasing rate as maturity lengthen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SzPct val="80000"/>
              <a:buFont typeface="Wingdings" charset="2"/>
              <a:buChar char="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l else the same, the higher a bond’s coupon, the shorter is its dur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SzPct val="80000"/>
              <a:buFont typeface="Wingdings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l else the same, a higher yield to maturity implies a shorter duration, and a lower yield to maturity implies a longer dur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operties of Dur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7" name="Picture 7" descr="jor82353_f1003"/>
          <p:cNvPicPr/>
          <p:nvPr/>
        </p:nvPicPr>
        <p:blipFill>
          <a:blip r:embed="rId1"/>
          <a:stretch/>
        </p:blipFill>
        <p:spPr>
          <a:xfrm>
            <a:off x="533520" y="1752480"/>
            <a:ext cx="822960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Bond Risk Measures Based on Duration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ollar Value of an 01: Measures the change in bond price from a one basis point change in yiel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ield Value of a 32</a:t>
            </a:r>
            <a:r>
              <a:rPr b="0" lang="en-US" sz="2000" spc="-1" strike="noStrike" baseline="30000">
                <a:solidFill>
                  <a:srgbClr val="2b2c0e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: Measures the change in yield that would lead to a 1/32</a:t>
            </a:r>
            <a:r>
              <a:rPr b="0" lang="en-US" sz="2000" spc="-1" strike="noStrike" baseline="30000">
                <a:solidFill>
                  <a:srgbClr val="2b2c0e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change in the bond price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20" name="Rectangle 3" descr=""/>
          <p:cNvPicPr/>
          <p:nvPr/>
        </p:nvPicPr>
        <p:blipFill>
          <a:blip r:embed="rId1"/>
          <a:stretch/>
        </p:blipFill>
        <p:spPr>
          <a:xfrm>
            <a:off x="1371600" y="2519280"/>
            <a:ext cx="6438960" cy="270000"/>
          </a:xfrm>
          <a:prstGeom prst="rect">
            <a:avLst/>
          </a:prstGeom>
          <a:ln w="0">
            <a:noFill/>
          </a:ln>
        </p:spPr>
      </p:pic>
      <p:pic>
        <p:nvPicPr>
          <p:cNvPr id="221" name="Rectangle 3" descr=""/>
          <p:cNvPicPr/>
          <p:nvPr/>
        </p:nvPicPr>
        <p:blipFill>
          <a:blip r:embed="rId2"/>
          <a:stretch/>
        </p:blipFill>
        <p:spPr>
          <a:xfrm>
            <a:off x="1371600" y="4419720"/>
            <a:ext cx="5143680" cy="61272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8"/>
          <p:cNvSpPr/>
          <p:nvPr/>
        </p:nvSpPr>
        <p:spPr>
          <a:xfrm>
            <a:off x="1143000" y="5638680"/>
            <a:ext cx="7010280" cy="3682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67d82"/>
                </a:solidFill>
                <a:latin typeface="Arial"/>
              </a:rPr>
              <a:t>In both cases, the bond price is per $100 face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b2c0e"/>
                </a:solidFill>
                <a:latin typeface="Arial"/>
              </a:rPr>
              <a:t>Bond Risk Measures Based on Duration, II.</a:t>
            </a:r>
            <a:endParaRPr b="0" lang="en-US" sz="33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Suppose a bond has a modified duration of 8.27 years.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76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What is the dollar value of an 01 for this bond (per $100 face value)?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76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What is the yield value of a 32</a:t>
            </a:r>
            <a:r>
              <a:rPr b="0" lang="en-US" sz="1900" spc="-1" strike="noStrike" baseline="30000">
                <a:solidFill>
                  <a:srgbClr val="2b2c0e"/>
                </a:solidFill>
                <a:latin typeface="Arial"/>
              </a:rPr>
              <a:t>nd 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(per $100 face value)?</a:t>
            </a:r>
            <a:br>
              <a:rPr sz="1900"/>
            </a:b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rst,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we need the price of the bond, which is $91.97. Verify using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TM = 7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upon = 6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aturity = 12 Yea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1900" spc="-1" strike="noStrike">
                <a:solidFill>
                  <a:srgbClr val="367d82"/>
                </a:solidFill>
                <a:latin typeface="Arial"/>
              </a:rPr>
              <a:t>Dollar Value of an 01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is </a:t>
            </a:r>
            <a:r>
              <a:rPr b="1" lang="en-US" sz="1900" spc="-1" strike="noStrike">
                <a:solidFill>
                  <a:srgbClr val="367d82"/>
                </a:solidFill>
                <a:latin typeface="Arial"/>
              </a:rPr>
              <a:t>$0.07606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, which says that if the YTM changes one basis point, the bond price changes by </a:t>
            </a:r>
            <a:r>
              <a:rPr b="1" lang="en-US" sz="1900" spc="-1" strike="noStrike">
                <a:solidFill>
                  <a:srgbClr val="367d82"/>
                </a:solidFill>
                <a:latin typeface="Arial"/>
              </a:rPr>
              <a:t>7.6 cents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326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1900" spc="-1" strike="noStrike">
                <a:solidFill>
                  <a:srgbClr val="800000"/>
                </a:solidFill>
                <a:latin typeface="Arial"/>
              </a:rPr>
              <a:t>Yield Value of a 32</a:t>
            </a:r>
            <a:r>
              <a:rPr b="1" lang="en-US" sz="1900" spc="-1" strike="noStrike" baseline="30000">
                <a:solidFill>
                  <a:srgbClr val="800000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is </a:t>
            </a:r>
            <a:r>
              <a:rPr b="1" lang="en-US" sz="1900" spc="-1" strike="noStrike">
                <a:solidFill>
                  <a:srgbClr val="800000"/>
                </a:solidFill>
                <a:latin typeface="Arial"/>
              </a:rPr>
              <a:t>.41086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, which says that a yield change of .41 basis points changes the bond price by 1/32</a:t>
            </a:r>
            <a:r>
              <a:rPr b="0" lang="en-US" sz="1900" spc="-1" strike="noStrike" baseline="30000">
                <a:solidFill>
                  <a:srgbClr val="2b2c0e"/>
                </a:solidFill>
                <a:latin typeface="Arial"/>
              </a:rPr>
              <a:t>nd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(</a:t>
            </a:r>
            <a:r>
              <a:rPr b="1" lang="en-US" sz="1900" spc="-1" strike="noStrike">
                <a:solidFill>
                  <a:srgbClr val="800000"/>
                </a:solidFill>
                <a:latin typeface="Arial"/>
              </a:rPr>
              <a:t>3.125 cents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).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edicated Portfolio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edicated portfolio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 bond portfolio created to prepare for a future cash payment, e.g. pension fun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ate the payment is due is commonly called the portfolio’s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arget dat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Bond Basic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raight bond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n IOU that obligates the issuer of the bond to pay the holder of the bond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fixed sum of money (called the principal, par value, or face value) at the bond’s maturity and sometim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nstant, periodic interest payments (called coupons) during the life of the bond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U.S. Treasury bonds are straight bo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pecial features may be attached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nvertible bon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allable bon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utable bon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investment Risk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6854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investment rate risk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the uncertainty about the value of the portfolio on the target d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investment rate risk stems from the need to reinvest bond coupons at yields not known in advanc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imple solu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 purchase zero coupon bond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Problem with simple solu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.S. Treasury STRIPS are the only zero coupon bonds issued in sufficiently large quantiti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TRIPS have lower yields than even the highest quality corporate bond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 Risk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Price risk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the risk that bond prices will decreas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 risk arises in dedicated portfolios when the target date value of a bond is not known with certain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Price Risk versus Reinvestment Rate Risk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a dedicated portfolio, interest rat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have two effect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creases in interest rat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ecreas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bond prices, bu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creases in interest rate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the future value of reinvested coupon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3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a dedicated portfolio, interest rate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have two effect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ecreases in interest rates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nd prices, bu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ecreases in interest rates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ecrease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future value of reinvested coupon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mmuniz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mmunization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the term for constructing a dedicated portfolio such that the uncertainty surrounding the target date value is minimized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is possible to engineer a portfolio such that price risk and reinvestment rate risk offset each other (just about entirely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mmunization by Duration Matching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dedicated portfolio can be immunized by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duration matchin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- matching the duration of the portfolio to its target d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n, the impacts of price and reinvestment rate risk will almost exactly offse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s means that interest rate changes will have a minimal impact on the target date value of the portfolio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mmunization by Duration Matching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38" name="Picture 8" descr="jor82353_f1004"/>
          <p:cNvPicPr/>
          <p:nvPr/>
        </p:nvPicPr>
        <p:blipFill>
          <a:blip r:embed="rId1"/>
          <a:stretch/>
        </p:blipFill>
        <p:spPr>
          <a:xfrm>
            <a:off x="546120" y="1447920"/>
            <a:ext cx="829296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ynamic Immuniz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Dynamic immunization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 periodic rebalancing of a dedicated bond portfolio for the purpose of maintaining a duration that matches the target maturity d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advantage is that the reinvestment risk caused by continually changing bond yields is greatly reduced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rawback is that each rebalancing incurs management and transaction cost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eful Internet Si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ifma.or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check out the bonds section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jamesbaker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a practical view of bond portfolio management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bondsonline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bond basics and current market data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investinginbonds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bond basics and current market data)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bloomberg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for information on government bonds)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nd Basic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traight Bond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oupon Rate and Current Yield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traight Bond Prices and Yield to Maturit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traight Bond Pric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Premium and Discount Bond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elationships among Yield Measur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ore on Yiel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alculating Yield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Yield to Call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terest Rate Risk and Malkiel’s Theorem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Promised Yield and Realized Yield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terest Rate Risk and Maturit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lkiel’s Theorem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Bond Basic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wo basic yield measures for a bond are its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coupon rate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and its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current yield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670120" y="3182760"/>
            <a:ext cx="4416480" cy="8352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664000" y="4618080"/>
            <a:ext cx="4498920" cy="8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urat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Macaulay Durat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Modified Durat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Calculating Macaulay’s Durat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Properties of Duration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11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edicated Portfolios and Reinvestment Risk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edicated Portfolios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Reinvestment Risk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mmunizat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Price Risk versus Reinvestment Rate Risk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mmunization by Duration Matching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ynamic Immunizat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traight Bond Prices and Yield to Maturity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The price of a bond is found by adding together the present value of the bond’s coupon payments and the present value of the bond’s face value. </a:t>
            </a:r>
            <a:br>
              <a:rPr sz="2400"/>
            </a:b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Yield to maturity (YTM)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f a bond is the discount rate that equates today’s bond price with the present value of the future cash flows of the bond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Bond Pricing Formula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he price of a bond is found by adding together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present value of the bond’s coupon payments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 and the </a:t>
            </a:r>
            <a:r>
              <a:rPr b="1" i="1" lang="en-US" sz="2000" spc="-1" strike="noStrike">
                <a:solidFill>
                  <a:srgbClr val="990000"/>
                </a:solidFill>
                <a:latin typeface="Arial"/>
              </a:rPr>
              <a:t>present value of the bond’s face value</a:t>
            </a:r>
            <a:r>
              <a:rPr b="1" i="1" lang="en-US" sz="2000" spc="-1" strike="noStrike">
                <a:solidFill>
                  <a:srgbClr val="bbe0e3"/>
                </a:solidFill>
                <a:latin typeface="Arial"/>
              </a:rPr>
              <a:t>.</a:t>
            </a: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formula i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the formula, C represents the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annual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coupon payments (in $), FV is the face value of the bond (in $), and M is the maturity of the bond, measured in year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57400" y="3174840"/>
            <a:ext cx="5867280" cy="1086120"/>
          </a:xfrm>
          <a:prstGeom prst="rect">
            <a:avLst/>
          </a:prstGeom>
          <a:ln w="0">
            <a:noFill/>
          </a:ln>
        </p:spPr>
      </p:pic>
      <p:sp>
        <p:nvSpPr>
          <p:cNvPr id="148" name="Line 5"/>
          <p:cNvSpPr/>
          <p:nvPr/>
        </p:nvSpPr>
        <p:spPr>
          <a:xfrm>
            <a:off x="6477120" y="4572000"/>
            <a:ext cx="1371600" cy="0"/>
          </a:xfrm>
          <a:prstGeom prst="line">
            <a:avLst/>
          </a:prstGeom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6"/>
          <p:cNvSpPr/>
          <p:nvPr/>
        </p:nvSpPr>
        <p:spPr>
          <a:xfrm>
            <a:off x="3581280" y="4572000"/>
            <a:ext cx="2590920" cy="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Using the Bond Pricing Formula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at is the price of a straight bond with: $1,000 face value, coupon rate of 8%, YTM of 7%, and a maturity of 20 years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722680" y="3056040"/>
            <a:ext cx="446076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the Price of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is Straight Bond Using </a:t>
            </a:r>
            <a:r>
              <a:rPr b="0" i="1" lang="en-US" sz="3400" spc="-1" strike="noStrike">
                <a:solidFill>
                  <a:srgbClr val="2b2c0e"/>
                </a:solidFill>
                <a:latin typeface="Arial"/>
              </a:rPr>
              <a:t>Exc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Excel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has a function that allows you to price straight bonds, and it is called PRICE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PRICE(“Today”,“Maturity”,Coupon Rate,YTM,100,2,3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nter “Today” and “Maturity” in quotes, using  mm/dd/yyyy forma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Enter the Coupon Rate and the YTM as a decimal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"100" tells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Excel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o us $100 as the par valu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"2" tells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Excel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use semi-annual coupon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"3" tells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Excel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use an actual day count with 365 days per yea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e: 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Excel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turns a price per $100 fac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gunveen.kaur</cp:lastModifiedBy>
  <dcterms:modified xsi:type="dcterms:W3CDTF">2011-02-23T08:20:04Z</dcterms:modified>
  <cp:revision>59</cp:revision>
  <dc:subject/>
  <dc:title>Slide 1</dc:title>
</cp:coreProperties>
</file>