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9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4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CFFB-F294-42A9-A810-CCDBE4CD4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83FF-5F5C-482F-BC91-8D9FD0CC6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70F4-0317-428C-AAA6-FA0602593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680-74FF-42D3-86AC-647B8C0C2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F13A-99E7-4F4D-AB2E-261630D2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3330-274C-4476-9410-670BEAAF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61BD-E362-4563-BC46-80BC5EB9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D9B5-BAE1-47CE-93F1-83534728F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BAC-8A23-466D-B872-0BC612F38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D8AC-9ACD-4B2F-B570-6D09326E5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D838-8543-48E9-8347-9C4965278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8C0A-82D6-4938-B51C-5E78173EC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24F9-1032-4F2C-B78E-0499C601B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FBF9-146E-4E8B-91C7-A8DE9B1D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13D1-A207-48CD-BE24-62438D2AB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D589-1791-4A41-B445-6C10E276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3FC6-E9A6-4D83-B6DA-10ED1972D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1320-6C86-468F-928F-416B223A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306A-DDE6-4B06-89F4-706B6D61F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9453-2E6F-4866-9FBC-0BD639A17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71D3-4306-40C9-9450-2535F3245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EE97-A9B8-4A62-9920-A35DA384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4878-8BB0-43A1-8366-2BDAFBA26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1376-848C-4611-B8A5-FBDD0D6EA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79B9-DBD5-4058-9A15-BA29044C3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64D-CB0E-43AA-8D04-0375424BE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2486-10C1-4CD5-9F6D-79F9712BF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DF9F-162D-46D7-AAE9-F7DDCF06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057F-72C9-4A27-9B26-AB41921AD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6710-6A55-49DA-AE12-0F1F44B59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FED1-F2F2-4919-8311-B8677D674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7B97-6309-4BDD-853E-20192EBA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C94D-4197-4A91-9995-66379A5F5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FA2E-9550-441B-B872-EC8EB8CA0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BC42-8C22-4811-AAA6-E5FC64F34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E317-1938-4B66-9CDB-544BB9056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A2C5-7527-4133-9484-0C5E72F86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C2BC-2D76-4B2B-ADE0-E689CB04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6A5E-E3A0-4828-A60D-0B8FF9178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DDF7-E879-42D6-AB12-7182DD1F3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18F7-ADDD-4950-B6F0-902CFA80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2636-DBC6-4E91-ABFD-BCAE5DBD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ACFD-04D4-4E67-B526-1AFB71233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B6E4-8A5B-4DF4-9099-6C8B7886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49F6-9F30-4CAE-94B0-92A66C578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6001-CDF6-4579-9601-61250EC83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ABD6-8E85-4BC9-91B4-F562C6DF9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A781-2708-45A0-A114-246D49574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84A4-3650-4EEA-9227-FB9B6EF27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67B6-D3B5-4A4F-812C-48E1889D2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2381-D0A8-44A5-BCB3-572BEFF99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809880" y="242244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Bond Prices and Yiel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-</a:t>
            </a:r>
            <a:fld id="{2BDEB475-962A-4C3C-9541-DD68122011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sifma.org/" TargetMode="External"/><Relationship Id="rId2" Type="http://schemas.openxmlformats.org/officeDocument/2006/relationships/hyperlink" Target="http://www.jamesbaker.com/" TargetMode="External"/><Relationship Id="rId3" Type="http://schemas.openxmlformats.org/officeDocument/2006/relationships/hyperlink" Target="http://www.bondsonline.com/" TargetMode="External"/><Relationship Id="rId4" Type="http://schemas.openxmlformats.org/officeDocument/2006/relationships/hyperlink" Target="http://www.investinginbonds.com/" TargetMode="External"/><Relationship Id="rId5" Type="http://schemas.openxmlformats.org/officeDocument/2006/relationships/hyperlink" Target="http://www.bloomberg.com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10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preadsheet Analysi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emium and Discount Bond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s are given names according to the relationship between the bond’s selling price and its par value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remium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&gt; par valu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0"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YTM &lt; coupon rate</a:t>
            </a:r>
            <a:br>
              <a:rPr sz="3200"/>
            </a:b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Discount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&lt; par valu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0"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YTM &gt; coupon rate</a:t>
            </a:r>
            <a:br>
              <a:rPr sz="3200"/>
            </a:b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Par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= par valu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0"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YTM = coupon rate</a:t>
            </a: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emium and Discount Bond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0" name="Picture 7" descr="jor82353_f1001"/>
          <p:cNvPicPr/>
          <p:nvPr/>
        </p:nvPicPr>
        <p:blipFill>
          <a:blip r:embed="rId1"/>
          <a:stretch/>
        </p:blipFill>
        <p:spPr>
          <a:xfrm>
            <a:off x="533520" y="1523880"/>
            <a:ext cx="82040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emium and Discount Bond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general, when the coupon rate and YTM are held constant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For premium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the longer the term to maturity, the greater the premium over par valu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For discount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the longer the term to maturity, the greater the discount from par value.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lationships among Yield Measur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For premium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coupon rate &gt; current yield &gt; YTM</a:t>
            </a:r>
            <a:br>
              <a:rPr sz="3200"/>
            </a:b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For discount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coupon rate &lt; current yield &lt; YTM</a:t>
            </a:r>
            <a:br>
              <a:rPr sz="3200"/>
            </a:b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For par value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coupon rate = current yield = YTM</a:t>
            </a: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Yield to Maturity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we know the current price of a bond, its coupon rate, and its time to maturity.  How do we calculate the YTM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use the straight bond formula, trying different yields until we come across the one that produces the current price of the bon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is is tedious.  So, to speed up the calculation, financial calculators and spreadsheets are often use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5600" y="3511440"/>
            <a:ext cx="448632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Yield to Maturity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use the YIELD function in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YIELD(“Today”,“Maturity”,Coupon Rate,Price,100,2,3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nter “Today” and “Maturity” in quotes, using  mm/dd/yyyy forma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nter the Coupon Rate as a decima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nter the Price as a percent of face valu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:  As before,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 "100" tells 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Excel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to use $100 as the par valu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 "2" tells 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o use semi-annual coupon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 "3" tells 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o use an actual day count with 365 days per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dates 8 years apart, a coupon rate of 8%, and a price (per hundred) of $110 results in a YTM of 6.38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preadsheet Analysi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2296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 Quick Note on Bond Quotation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have seen how to calculate bond pric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te: If you buy a bond between coupon dates, you will receive the next coupon payment (and might have to pay taxes on it)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ever, when you buy the bond between coupon payments, you must compensate the seller for any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accrued interes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 Quick Note on Bond Quotation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convention in bond price quotes is to ignore accrued interest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s results in what is commonly called a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clean price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(i.e., a quoted price net of accrued interest).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metimes, this price is also known as a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flat price.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ice the buyer actually pays is called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dirty pric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s is because accrued interest is added to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clean pri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te:  The price the buyer actually pays is sometimes known as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full pric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voice price.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 this chapter, you will learn:</a:t>
            </a:r>
            <a:br>
              <a:rPr sz="2800"/>
            </a:b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ow to calculate bond prices and yield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importance of yield to maturity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terest rate risk and Malkiel’s theorem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ow to measure the impact of interest rate changes on bond price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lable Bon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us far, we have calculated bond prices assuming that the actual bond maturity is the original stated maturity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ever, most bonds ar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llable bonds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llable bon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gives the issuer the option to buy back the bond at a specified </a:t>
            </a:r>
            <a:r>
              <a:rPr b="1" i="1" lang="en-US" sz="2400" spc="-1" strike="noStrike">
                <a:solidFill>
                  <a:srgbClr val="367d82"/>
                </a:solidFill>
                <a:latin typeface="Arial"/>
              </a:rPr>
              <a:t>call pric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ytim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initial </a:t>
            </a:r>
            <a:r>
              <a:rPr b="1" i="1" lang="en-US" sz="2400" spc="-1" strike="noStrike">
                <a:solidFill>
                  <a:srgbClr val="367d82"/>
                </a:solidFill>
                <a:latin typeface="Arial"/>
              </a:rPr>
              <a:t>call protection period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for callable bonds, YTM may not be usefu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Yield to Cal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Yield to call (YTC)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s a yield measure that assumes a bond will be called at its earliest possible call dat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ormula to price a callable bond 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e formula, C is the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nnual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upon (in $), CP is the call price of the bond, T is the time (in years) to the earliest possible call date, and YTC is the yield to call, with semi-annual coupon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 with straight bonds, we can solve for the YTC, if we know the price of a callable bon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7909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est Rate Risk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lders of bonds fac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est rate risk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est rate risk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possibility that changes in interest rates will result in losses in the bond’s valu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yield actually earned or “realized” on a bond is called 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alized yield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alized yield is almost never exactly equal to the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yield to maturity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promised yield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est Rate Risk and Maturity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4" name="Picture 7" descr="jor82353_f1002"/>
          <p:cNvPicPr/>
          <p:nvPr/>
        </p:nvPicPr>
        <p:blipFill>
          <a:blip r:embed="rId1"/>
          <a:stretch/>
        </p:blipFill>
        <p:spPr>
          <a:xfrm>
            <a:off x="609480" y="1668600"/>
            <a:ext cx="8229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lkiel’s Theorem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7d82"/>
                </a:solidFill>
                <a:latin typeface="Arial"/>
              </a:rPr>
              <a:t>Bond prices and bond yields move in opposite direction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As a bond’s yield increases, its price decreases.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onversely, as a bond’s yield decreases, its price increas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7d82"/>
                </a:solidFill>
                <a:latin typeface="Arial"/>
              </a:rPr>
              <a:t>For a given change in a bond’s YTM, the longer the term to maturity of the bond, the greater the magnitude of the change in the bond’s pric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lkiel’s Theorem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7d82"/>
                </a:solidFill>
                <a:latin typeface="Arial"/>
              </a:rPr>
              <a:t>For a given change in a bond’s YTM, the size of the change in the bond’s price increases at a diminishing rate as the bond’s term to maturity lengthe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7d82"/>
                </a:solidFill>
                <a:latin typeface="Arial"/>
              </a:rPr>
              <a:t>For a given change in a bond’s YTM, the absolute magnitude of the resulting change in the bond’s price is inversely related to the bond’s coupon rat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7d82"/>
                </a:solidFill>
                <a:latin typeface="Arial"/>
              </a:rPr>
              <a:t>For a given absolute change in a bond’s YTM, the magnitude of the price increase caused by a decrease in yield is greater than the price decrease caused by an increase in yiel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Prices and Yiel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0" name="Picture 11" descr="jor82353_tb1002"/>
          <p:cNvPicPr/>
          <p:nvPr/>
        </p:nvPicPr>
        <p:blipFill>
          <a:blip r:embed="rId1"/>
          <a:stretch/>
        </p:blipFill>
        <p:spPr>
          <a:xfrm>
            <a:off x="762120" y="4114800"/>
            <a:ext cx="7824600" cy="148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jor82353_tb1001"/>
          <p:cNvPicPr/>
          <p:nvPr/>
        </p:nvPicPr>
        <p:blipFill>
          <a:blip r:embed="rId2"/>
          <a:stretch/>
        </p:blipFill>
        <p:spPr>
          <a:xfrm>
            <a:off x="685800" y="1600200"/>
            <a:ext cx="781524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ondholders know that the price of their bonds change when interest rates change.  But,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How big is this change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How is this change in price estimated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caulay Duration, or Duration,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name of concept that helps bondholders measure the sensitivity of a bond price to changes in bond yields.  That 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Two bonds with the same duration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, but not necessarily the same maturity, 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will have approximately the same price sensitivity to a (small) change in bond yield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5455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Using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xample:  Suppose a bond ha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caulay Durati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of 11 years and a current yield to maturity of 8%. 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the yield to maturity increases to 8.50%, what is the resulting percentage change in the price of the bond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7" name="Rectangle 3" descr=""/>
          <p:cNvPicPr/>
          <p:nvPr/>
        </p:nvPicPr>
        <p:blipFill>
          <a:blip r:embed="rId1"/>
          <a:stretch/>
        </p:blipFill>
        <p:spPr>
          <a:xfrm>
            <a:off x="1916280" y="4114800"/>
            <a:ext cx="54226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ified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me analysts prefer to use a variation of Macaulay’s Duration, known as Modified Dur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lationship between percentage changes in bond prices and changes in bond yields is approximately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635360" cy="1104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71696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Prices and Yiel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understand the relationship between bond prices and yiel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addition, we will examine some fundamental tools that fixed-income portfolio managers use when they assess bond risk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Macaulay’s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caulay’s Duration values are stated in years and are often described as a bond’s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effective maturity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For a zero-coupon bond,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uration =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For a coupon bond,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uration = a weighted average of individual maturities of all the bond’s separate cash flows, where the weights are proportionate to the present values of each cash flow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Macaulay’s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general, for a bond paying constant semiannual coupons, the formula for Macaulay’s Duration i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e formula, C is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annual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upon rate, M is the bond maturity (in years), and YTM is the yield to maturity, assuming semiannual coupo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4612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alculating Macaulay’s Duration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for Par Bon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a bond is selling for par value, the duration formula can be simplified to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64962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Duration Using Exc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can use the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unctions in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o calculate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Macaulay 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ified Duration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Excel functions use arguments like we saw before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(“Today”,“Maturity”,Coupon Rate,YTM,2,3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can verify that a 5-year bond, with a 9% coupon and a 7% YTM, has a Duration of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4.17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a Modified Duration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.03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alculating Macaulay and Modified Du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9480" y="1424160"/>
            <a:ext cx="807732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uration Properties 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l else the same, the longer a bond’s maturity, the longer is its dur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l else the same, a bond’s duration increases at a decreasing rate as maturity lengthe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l else the same, the higher a bond’s coupon, the shorter is its dur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l else the same, a higher yield to maturity implies a shorter duration, and a lower yield to maturity implies a longer dur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perties of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7" name="Picture 7" descr="jor82353_f1003"/>
          <p:cNvPicPr/>
          <p:nvPr/>
        </p:nvPicPr>
        <p:blipFill>
          <a:blip r:embed="rId1"/>
          <a:stretch/>
        </p:blipFill>
        <p:spPr>
          <a:xfrm>
            <a:off x="533520" y="175248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Bond Risk Measures Based on Duration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ollar Value of an 01: Measures the change in bond price from a one basis point change in yiel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ield Value of a 32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 Measures the change in yield that would lead to a 1/32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change in the bond pric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0" name="Rectangle 3" descr=""/>
          <p:cNvPicPr/>
          <p:nvPr/>
        </p:nvPicPr>
        <p:blipFill>
          <a:blip r:embed="rId1"/>
          <a:stretch/>
        </p:blipFill>
        <p:spPr>
          <a:xfrm>
            <a:off x="1371600" y="2519280"/>
            <a:ext cx="6438960" cy="27000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3" descr=""/>
          <p:cNvPicPr/>
          <p:nvPr/>
        </p:nvPicPr>
        <p:blipFill>
          <a:blip r:embed="rId2"/>
          <a:stretch/>
        </p:blipFill>
        <p:spPr>
          <a:xfrm>
            <a:off x="1371600" y="4419720"/>
            <a:ext cx="5143680" cy="612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1143000" y="5638680"/>
            <a:ext cx="701028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In both cases, the bond price is per $100 fac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b2c0e"/>
                </a:solidFill>
                <a:latin typeface="Arial"/>
              </a:rPr>
              <a:t>Bond Risk Measures Based on Duration, II.</a:t>
            </a:r>
            <a:endParaRPr b="0" lang="en-US" sz="33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Suppose a bond has a modified duration of 8.27 years.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76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What is the dollar value of an 01 for this bond (per $100 face value)?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76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What is the yield value of a 32</a:t>
            </a:r>
            <a:r>
              <a:rPr b="0" lang="en-US" sz="1900" spc="-1" strike="noStrike" baseline="30000">
                <a:solidFill>
                  <a:srgbClr val="2b2c0e"/>
                </a:solidFill>
                <a:latin typeface="Arial"/>
              </a:rPr>
              <a:t>nd 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(per $100 face value)?</a:t>
            </a:r>
            <a:br>
              <a:rPr sz="1900"/>
            </a:b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rst,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we need the price of the bond, which is $91.97. Verify using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TM = 7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upon = 6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turity = 12 Yea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1900" spc="-1" strike="noStrike">
                <a:solidFill>
                  <a:srgbClr val="367d82"/>
                </a:solidFill>
                <a:latin typeface="Arial"/>
              </a:rPr>
              <a:t>Dollar Value of an 01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is </a:t>
            </a:r>
            <a:r>
              <a:rPr b="1" lang="en-US" sz="1900" spc="-1" strike="noStrike">
                <a:solidFill>
                  <a:srgbClr val="367d82"/>
                </a:solidFill>
                <a:latin typeface="Arial"/>
              </a:rPr>
              <a:t>$0.07606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, which says that if the YTM changes one basis point, the bond price changes by </a:t>
            </a:r>
            <a:r>
              <a:rPr b="1" lang="en-US" sz="1900" spc="-1" strike="noStrike">
                <a:solidFill>
                  <a:srgbClr val="367d82"/>
                </a:solidFill>
                <a:latin typeface="Arial"/>
              </a:rPr>
              <a:t>7.6 cents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1900" spc="-1" strike="noStrike">
                <a:solidFill>
                  <a:srgbClr val="800000"/>
                </a:solidFill>
                <a:latin typeface="Arial"/>
              </a:rPr>
              <a:t>Yield Value of a 32</a:t>
            </a:r>
            <a:r>
              <a:rPr b="1" lang="en-US" sz="19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is </a:t>
            </a:r>
            <a:r>
              <a:rPr b="1" lang="en-US" sz="1900" spc="-1" strike="noStrike">
                <a:solidFill>
                  <a:srgbClr val="800000"/>
                </a:solidFill>
                <a:latin typeface="Arial"/>
              </a:rPr>
              <a:t>.41086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, which says that a yield change of .41 basis points changes the bond price by 1/32</a:t>
            </a:r>
            <a:r>
              <a:rPr b="0" lang="en-US" sz="1900" spc="-1" strike="noStrike" baseline="30000">
                <a:solidFill>
                  <a:srgbClr val="2b2c0e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(</a:t>
            </a:r>
            <a:r>
              <a:rPr b="1" lang="en-US" sz="1900" spc="-1" strike="noStrike">
                <a:solidFill>
                  <a:srgbClr val="800000"/>
                </a:solidFill>
                <a:latin typeface="Arial"/>
              </a:rPr>
              <a:t>3.125 cents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edicated Portfolio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dicated portfolio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 bond portfolio created to prepare for a future cash payment, e.g. pension fu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ate the payment is due is commonly called the portfolio’s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arget dat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Basic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aight bond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n IOU that obligates the issuer of the bond to pay the holder of the bond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fixed sum of money (called the principal, par value, or face value) at the bond’s maturity and sometim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stant, periodic interest payments (called coupons) during the life of the bon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U.S. Treasury bonds are straight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pecial features may be attached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vertible bo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allable bo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utable bo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investment Risk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investment rate risk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uncertainty about the value of the portfolio on the target d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investment rate risk stems from the need to reinvest bond coupons at yields not known in advan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imple solu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purchase zero coupon bond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Problem with simple solu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.S. Treasury STRIPS are the only zero coupon bonds issued in sufficiently large quantiti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TRIPS have lower yields than even the highest quality corporate bond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isk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Price ris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risk that bond prices will decreas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risk arises in dedicated portfolios when the target date value of a bond is not known with certain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ice Risk versus Reinvestment Rate Risk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a dedicated portfolio, interest rat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have two effect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creases in interest rat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creas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bond prices, bu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creases in interest rat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the future value of reinvested coupo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a dedicated portfolio, interest rate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have two effect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creases in interest rates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 prices, bu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creases in interest rates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ecrease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future value of reinvested coupo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mmuniz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munization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term for constructing a dedicated portfolio such that the uncertainty surrounding the target date value is minimize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possible to engineer a portfolio such that price risk and reinvestment rate risk offset each other (just about entirely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mmunization by Duration Matching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dedicated portfolio can be immunized by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duration matchin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- matching the duration of the portfolio to its target d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n, the impacts of price and reinvestment rate risk will almost exactly offse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s means that interest rate changes will have a minimal impact on the target date value of the portfolio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mmunization by Duration Matching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38" name="Picture 8" descr="jor82353_f1004"/>
          <p:cNvPicPr/>
          <p:nvPr/>
        </p:nvPicPr>
        <p:blipFill>
          <a:blip r:embed="rId1"/>
          <a:stretch/>
        </p:blipFill>
        <p:spPr>
          <a:xfrm>
            <a:off x="546120" y="1447920"/>
            <a:ext cx="829296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ynamic Immuniz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ynamic immunization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 periodic rebalancing of a dedicated bond portfolio for the purpose of maintaining a duration that matches the target maturity d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advantage is that the reinvestment risk caused by continually changing bond yields is greatly reduced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rawback is that each rebalancing incurs management and transaction cos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ifma.or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check out the bonds section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jamesbaker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practical view of bond portfolio management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bondsonline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bond basics and current market data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investinginbond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bond basics and current market data)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bloomberg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for information on government bonds)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 Basic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traight Bond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oupon Rate and Current Yiel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raight Bond Prices and Yield to Matur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traight Bond Pric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emium and Discount Bond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elationships among Yield Measur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ore on Yiel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alculating Yield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Yield to Call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terest Rate Risk and Malkiel’s Theorem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omised Yield and Realized Yiel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terest Rate Risk and Maturit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lkiel’s Theorem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Basic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wo basic yield measures for a bond are it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coupon rate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and it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current yield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70120" y="3182760"/>
            <a:ext cx="4416480" cy="835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664000" y="4618080"/>
            <a:ext cx="449892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ur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Macaulay Dur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Modified Dur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alculating Macaulay’s Dur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Properties of Duration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dicated Portfolios and Reinvestment Risk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dicated Portfolios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Reinvestment Risk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mmuniz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Price Risk versus Reinvestment Rate Risk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mmunization by Duration Matching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ynamic Immuniz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traight Bond Prices and Yield to Maturity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The price of a bond is found by adding together the present value of the bond’s coupon payments and the present value of the bond’s face value. </a:t>
            </a:r>
            <a:br>
              <a:rPr sz="2400"/>
            </a:b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ield to maturity (YTM)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f a bond is the discount rate that equates today’s bond price with the present value of the future cash flows of the bon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Bond Pricing Formula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he price of a bond is found by adding together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resent value of the bond’s coupon payments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an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present value of the bond’s face value</a:t>
            </a:r>
            <a:r>
              <a:rPr b="1" i="1" lang="en-US" sz="20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ormula 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e formula, C represents the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nnua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coupon payments (in $), FV is the face value of the bond (in $), and M is the maturity of the bond, measured in year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7400" y="3174840"/>
            <a:ext cx="5867280" cy="1086120"/>
          </a:xfrm>
          <a:prstGeom prst="rect">
            <a:avLst/>
          </a:prstGeom>
          <a:ln w="0">
            <a:noFill/>
          </a:ln>
        </p:spPr>
      </p:pic>
      <p:sp>
        <p:nvSpPr>
          <p:cNvPr id="148" name="Line 5"/>
          <p:cNvSpPr/>
          <p:nvPr/>
        </p:nvSpPr>
        <p:spPr>
          <a:xfrm>
            <a:off x="6477120" y="4572000"/>
            <a:ext cx="137160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581280" y="4572000"/>
            <a:ext cx="25909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Bond Pricing Formula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is the price of a straight bond with: $1,000 face value, coupon rate of 8%, YTM of 7%, and a maturity of 20 years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22680" y="3056040"/>
            <a:ext cx="44607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the Price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is Straight Bond Using </a:t>
            </a:r>
            <a:r>
              <a:rPr b="0" i="1" lang="en-US" sz="3400" spc="-1" strike="noStrike">
                <a:solidFill>
                  <a:srgbClr val="2b2c0e"/>
                </a:solidFill>
                <a:latin typeface="Arial"/>
              </a:rPr>
              <a:t>Exc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has a function that allows you to price straight bonds, and it is called PRICE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PRICE(“Today”,“Maturity”,Coupon Rate,YTM,100,2,3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nter “Today” and “Maturity” in quotes, using  mm/dd/yyyy forma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nter the Coupon Rate and the YTM as a decima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"100" tells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o us $100 as the par valu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"2" tells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use semi-annual coupon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"3" tells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use an actual day count with 365 days per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: 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urns a price per $100 fac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8:20:04Z</dcterms:modified>
  <cp:revision>59</cp:revision>
  <dc:subject/>
  <dc:title>Slide 1</dc:title>
</cp:coreProperties>
</file>