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60948F2-5600-4FBA-A2DF-BC66851315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FA5E749-63E2-45D1-99E0-C5DE75E707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0C19770-FCAF-41F4-968D-D38AA21C68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6979CD0-6E56-4378-BE9A-06725D423F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E33CB31-EDA3-481D-BEF6-DFF4232A1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786D89AB-8DAC-48AA-BA28-F54FB26F0D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A3BD774-FF13-4786-BD73-038D5C6F44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7472123-FF17-4347-B7AB-993F1EE5A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87C354C-5924-4D1A-8AFC-EFF0A85215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BB82565-3B9C-4531-8684-5BEC060471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C3073C6-2730-4335-B539-CF0DE212C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9B033DB-3598-443A-9CAF-E88799AA4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F149A69-2CF7-4B13-92E3-175A29F2D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E7D058A-FCB5-49BE-ADC3-84E11DC7B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D0110EF-7A8E-47B1-A1E8-1AFF269C52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E68A865-EABE-47FC-93C2-0AF5C4A8C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A55E99F-A361-4D29-B1CA-F4FA211FC1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A9ABE521-47BC-4622-BB6F-0B686B87D7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1768E66-DA54-4BD4-9B6D-FF78DC0BB4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24836F9-E2B8-4EDF-B3E8-EE440F7F86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2DBC2DF-7C3E-44DB-A41D-4C28108D5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19E0704-85FF-40A1-86DB-17F8662F45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29BC743-AB2C-40D5-9834-40C7FAD9F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35F3166-D4B9-4A77-8F3C-E5E6630BEB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0DDEC267-30A4-4EAE-B358-670312BBE7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10E415F-030E-43B1-932A-9AFCAF4DB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DC8BEC9-09EB-45F9-9B78-5292DB1131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3240230-922F-4AC6-9242-3BF5EEB331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45116-F4CA-4104-8AFD-1D5124144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025E-2D95-4272-8CB4-E9AC6F38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55FBE-8F72-4870-AA33-1743FCE85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385C3-B76B-4A67-BB58-FA939A2D2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C2F0-222F-4B68-A407-371A89AE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FFD1-EEA9-414B-B94A-C19F38A3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2CD9-465E-48BB-A329-138442A8A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3561-CCC6-44D6-A30B-B51571DD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D8E48-0747-47A5-AA55-A7E48A2EF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656B-3AF4-4514-A422-5857274D4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37C4-FEED-4380-BB57-F53A2DD0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CD36-7B61-49B9-ADEA-49C7702B8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2057400" y="1447920"/>
            <a:ext cx="4952880" cy="4038480"/>
          </a:xfrm>
          <a:prstGeom prst="rect">
            <a:avLst/>
          </a:prstGeom>
          <a:noFill/>
          <a:ln w="0">
            <a:noFill/>
          </a:ln>
        </p:spPr>
        <p:style>
          <a:lnRef idx="0"/>
          <a:fillRef idx="0"/>
          <a:effectRef idx="0"/>
          <a:fontRef idx="minor"/>
        </p:style>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Text Box 5"/>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
        <p:nvSpPr>
          <p:cNvPr id="82" name="Rectangle 6"/>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188043F-FBD5-4232-A36D-DF94F8DDAC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ECCFE42-632D-48D1-AA92-18A74C08FE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16F7017-8D2B-439F-85B6-98CB91634A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D54A089-A01C-44B2-BBD8-649C128228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Text Box 4"/>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Arial"/>
            </a:endParaRPr>
          </a:p>
        </p:txBody>
      </p:sp>
      <p:sp>
        <p:nvSpPr>
          <p:cNvPr id="9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F389C85-5B3F-408E-8006-1614D001C6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8B8AFC3-CC0E-4D1D-9914-FDCA8988E5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76E72A1-986D-483C-98FD-69E6E04A4F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0A32EFE-AA8B-4A09-B65F-042C157753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0693860-3727-4DCE-877B-2F1560AE7C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7330E8F-8AC6-42BA-A3DE-1060BEE44C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E3CD36D-9D41-4AE3-9295-54694B67DD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99FB421-AEE8-4A20-8F6F-A2F59959FD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6F9B5CB-7955-4A30-8107-0B1E88AE2C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DD1DD58-70C3-40E2-AC9B-1B42442124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Picture 7" descr="ros91585_tb1307"/>
          <p:cNvPicPr/>
          <p:nvPr/>
        </p:nvPicPr>
        <p:blipFill>
          <a:blip r:embed="rId1"/>
          <a:srcRect l="29146" t="0" r="0" b="0"/>
          <a:stretch/>
        </p:blipFill>
        <p:spPr>
          <a:xfrm>
            <a:off x="1523880" y="1295280"/>
            <a:ext cx="6483600" cy="5045040"/>
          </a:xfrm>
          <a:prstGeom prst="rect">
            <a:avLst/>
          </a:prstGeom>
          <a:ln w="0">
            <a:noFill/>
          </a:ln>
        </p:spPr>
      </p:pic>
      <p:sp>
        <p:nvSpPr>
          <p:cNvPr id="123" name="Rectangle 10"/>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6F89940-ED97-4C58-BC46-44F2B622FD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3A3B9B5-2779-4A0C-98E6-1FDD297EFB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Picture 6" descr="ros91585_1301"/>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Rectangle 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85D386E-E558-4D5B-9D8C-AEF87F024B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8779626-4D4A-4FE1-86F4-2BDC0A54EE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AED5C85-5554-494E-8B87-9A4E5CB193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3CCDC62-ACB1-48C8-9201-E27C2B11C4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Text Box 10"/>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Arial"/>
            </a:endParaRPr>
          </a:p>
        </p:txBody>
      </p:sp>
      <p:pic>
        <p:nvPicPr>
          <p:cNvPr id="141" name="Picture 11" descr="bd09310_">
            <a:hlinkClick r:id="rId1"/>
          </p:cNvPr>
          <p:cNvPicPr/>
          <p:nvPr/>
        </p:nvPicPr>
        <p:blipFill>
          <a:blip r:embed="rId2"/>
          <a:stretch/>
        </p:blipFill>
        <p:spPr>
          <a:xfrm>
            <a:off x="7391520" y="5562720"/>
            <a:ext cx="630000" cy="890640"/>
          </a:xfrm>
          <a:prstGeom prst="rect">
            <a:avLst/>
          </a:prstGeom>
          <a:ln w="0">
            <a:noFill/>
          </a:ln>
        </p:spPr>
      </p:pic>
      <p:pic>
        <p:nvPicPr>
          <p:cNvPr id="142" name="Picture 13" descr="ros46129_tb1308"/>
          <p:cNvPicPr/>
          <p:nvPr/>
        </p:nvPicPr>
        <p:blipFill>
          <a:blip r:embed="rId3"/>
          <a:stretch/>
        </p:blipFill>
        <p:spPr>
          <a:xfrm>
            <a:off x="1533600" y="2244600"/>
            <a:ext cx="7458120" cy="2479680"/>
          </a:xfrm>
          <a:prstGeom prst="rect">
            <a:avLst/>
          </a:prstGeom>
          <a:ln w="0">
            <a:noFill/>
          </a:ln>
        </p:spPr>
      </p:pic>
      <p:sp>
        <p:nvSpPr>
          <p:cNvPr id="143" name="Rectangle 1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37E47C8-F0A8-4534-983A-7E2653778D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D44A9F7-C4C6-4811-9160-BAE02CA501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8B14337-79FB-4351-9BC8-80938DE79D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811305C-02FA-4FD3-9416-06B8024BE4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Picture 6" descr="Web surfer">
            <a:hlinkClick r:id="rId1"/>
          </p:cNvPr>
          <p:cNvPicPr/>
          <p:nvPr/>
        </p:nvPicPr>
        <p:blipFill>
          <a:blip r:embed="rId2"/>
          <a:stretch/>
        </p:blipFill>
        <p:spPr>
          <a:xfrm>
            <a:off x="7167600" y="5257800"/>
            <a:ext cx="884160" cy="990720"/>
          </a:xfrm>
          <a:prstGeom prst="rect">
            <a:avLst/>
          </a:prstGeom>
          <a:ln w="0">
            <a:noFill/>
          </a:ln>
        </p:spPr>
      </p:pic>
      <p:sp>
        <p:nvSpPr>
          <p:cNvPr id="153"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B758A9D-EBFF-4683-A05D-5DC13C9ACD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C43269D-1FAC-41BE-8CE4-5E29E2C4C9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B7B005D-CA67-4CC0-8C48-461CA57D3B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Object 4"/>
          <p:cNvGraphicFramePr/>
          <p:nvPr/>
        </p:nvGraphicFramePr>
        <p:xfrm>
          <a:off x="1600200" y="1600200"/>
          <a:ext cx="7269120" cy="4524480"/>
        </p:xfrm>
        <a:graphic>
          <a:graphicData uri="http://schemas.openxmlformats.org/presentationml/2006/ole">
            <p:oleObj r:id="rId1" spid="">
              <p:embed/>
              <p:pic>
                <p:nvPicPr>
                  <p:cNvPr id="162" name="Object 4"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Text Box 5"/>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Arial"/>
            </a:endParaRPr>
          </a:p>
        </p:txBody>
      </p:sp>
      <p:sp>
        <p:nvSpPr>
          <p:cNvPr id="164" name="Line 7"/>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9"/>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7" name="Line 11"/>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2"/>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
        <p:nvSpPr>
          <p:cNvPr id="169" name="Rectangle 1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9283455-00F8-4D67-B7F8-D28C3DC290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3A1D572-16FE-412E-A865-0302E623AB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Object 4"/>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AECCBC1-CD54-444A-88A1-6E6192D407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3155801-A949-4679-BF04-91376F1F8D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CA938CA-8331-4D8E-B0E6-561255F6F3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Object 4"/>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96A364E-C7DF-4C32-84D8-8569254FE0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5D97E63-81B8-4BA8-8B55-B7EFB7F4A9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7360"/>
                <a:gridCol w="1272960"/>
                <a:gridCol w="4865760"/>
              </a:tblGrid>
              <a:tr h="517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158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Arial"/>
                      </a:endParaRPr>
                    </a:p>
                  </a:txBody>
                  <a:tcPr anchor="t" marL="90000" marR="90000">
                    <a:lnL>
                      <a:noFill/>
                    </a:lnL>
                    <a:lnR>
                      <a:noFill/>
                    </a:lnR>
                    <a:lnT>
                      <a:noFill/>
                    </a:lnT>
                    <a:lnB>
                      <a:noFill/>
                    </a:lnB>
                    <a:noFill/>
                  </a:tcPr>
                </a:tc>
              </a:tr>
              <a:tr h="5158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9" name="Rectangle 7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4E4B5D2-C665-4AC8-B398-EA5782D3B0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Picture 7" descr="ros91585_1304"/>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Rectangle 10"/>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1302081-F158-4298-87F4-EE1E00D279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A6EECDF-1693-4653-B041-B64E04DFC4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739B8ED-6877-4517-AC19-E790E6D722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C1210E2-4A85-408F-B916-BB6F9E1BD8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C9B0A2A-826B-4216-8877-4903615871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Object 4"/>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A7E9C78-1812-40AD-A181-AA014B4367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179A21F-BE33-4C38-995E-395B87A56A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E63438F-EA83-4277-B958-4500542F8E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86310D1-E1D3-4DBD-BC3D-198CEBC002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Rima Al-Sager</cp:lastModifiedBy>
  <dcterms:modified xsi:type="dcterms:W3CDTF">2013-05-05T22:41:28Z</dcterms:modified>
  <cp:revision>43</cp:revision>
  <dc:subject/>
  <dc:title>Return, Risk, and the Security Market Line</dc:title>
</cp:coreProperties>
</file>