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B1EB-E806-4868-81DF-56D953F5B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FA5A-CD92-4813-96D8-B4E246839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7D23-6D2E-4AE7-9BD1-A639BF297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AB75-C724-47AF-A24C-FA1E45854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3CFC-69D2-45CF-9ACA-8315A54D1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A013C-007C-4798-AB7C-8567B782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62158-2944-48AF-AE67-BD651A51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8EFD4-7E50-4189-89C9-57503661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969D1-E3C9-4BED-AB94-9E44A563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E646E-DB18-4701-A7F7-BA5BC74C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79B8B-1B55-4466-899C-502AECF3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5B5E4-FCEF-4A44-8D44-7CFFA2AE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99707-FBB2-48F3-B131-415EB011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6D14F-A5C1-4DD9-8139-9E2AE0AE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753DB-2595-444C-B8FA-7FED172C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3966E-09DF-4A4D-8F57-73258BE5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3AB06-7EBA-42AD-83B1-9205F581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636840" cy="376200"/>
          </a:xfrm>
          <a:prstGeom prst="rect">
            <a:avLst/>
          </a:prstGeom>
          <a:ln w="0">
            <a:noFill/>
          </a:ln>
        </p:spPr>
      </p:pic>
      <p:sp>
        <p:nvSpPr>
          <p:cNvPr id="3" name="Line 10"/>
          <p:cNvSpPr/>
          <p:nvPr/>
        </p:nvSpPr>
        <p:spPr>
          <a:xfrm>
            <a:off x="0" y="6210360"/>
            <a:ext cx="91407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6019920" y="6248520"/>
            <a:ext cx="3047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2009 by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2"/>
          <p:cNvSpPr/>
          <p:nvPr/>
        </p:nvSpPr>
        <p:spPr>
          <a:xfrm>
            <a:off x="789120" y="6248520"/>
            <a:ext cx="568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hemistry: The Central Science,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Eleventh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 Theodore E. Brown, H. Eugene LeMay, Bruce E. Bursten, and Catherine J. Mur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contributions from Patrick Woodw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636840" cy="376200"/>
          </a:xfrm>
          <a:prstGeom prst="rect">
            <a:avLst/>
          </a:prstGeom>
          <a:ln w="0">
            <a:noFill/>
          </a:ln>
        </p:spPr>
      </p:pic>
      <p:sp>
        <p:nvSpPr>
          <p:cNvPr id="43" name="Line 10"/>
          <p:cNvSpPr/>
          <p:nvPr/>
        </p:nvSpPr>
        <p:spPr>
          <a:xfrm>
            <a:off x="0" y="6210360"/>
            <a:ext cx="91407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6019920" y="6248520"/>
            <a:ext cx="3047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2009 by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789120" y="6248520"/>
            <a:ext cx="568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Chemistry: The Central Science,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Eleventh Ed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 Theodore E. Brown, H. Eugene LeMay, Bruce E. Bursten, and Catherine J. Mur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contributions from Patrick Woodw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588F-456C-4380-82B7-DFE854542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7619760" y="662904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09, Prentice-Hall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18960" y="304920"/>
            <a:ext cx="852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ample Exercise 1.1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sing Metric Prefi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8380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is the name given to the unit that equal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gram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b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econd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c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et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457200" y="2666880"/>
            <a:ext cx="8077320" cy="1038240"/>
            <a:chOff x="457200" y="2666880"/>
            <a:chExt cx="8077320" cy="1038240"/>
          </a:xfrm>
        </p:grpSpPr>
        <p:sp>
          <p:nvSpPr>
            <p:cNvPr id="97" name="Text Box 5"/>
            <p:cNvSpPr/>
            <p:nvPr/>
          </p:nvSpPr>
          <p:spPr>
            <a:xfrm>
              <a:off x="457200" y="2971800"/>
              <a:ext cx="8077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What decimal fraction of a second is a picosecond, ps?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b)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ress the measurement 6.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10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 using a prefix to replace the power of ten.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c)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se exponential notation to express 3.76 mg in gram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nswer: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a)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-12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second,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b)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.0 km, (c) 3.76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10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–3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6"/>
            <p:cNvSpPr/>
            <p:nvPr/>
          </p:nvSpPr>
          <p:spPr>
            <a:xfrm>
              <a:off x="457200" y="2666880"/>
              <a:ext cx="666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Practice Exerci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7"/>
          <p:cNvGrpSpPr/>
          <p:nvPr/>
        </p:nvGrpSpPr>
        <p:grpSpPr>
          <a:xfrm>
            <a:off x="457200" y="1523880"/>
            <a:ext cx="7924680" cy="825120"/>
            <a:chOff x="457200" y="1523880"/>
            <a:chExt cx="7924680" cy="825120"/>
          </a:xfrm>
        </p:grpSpPr>
        <p:sp>
          <p:nvSpPr>
            <p:cNvPr id="100" name="Text Box 8"/>
            <p:cNvSpPr/>
            <p:nvPr/>
          </p:nvSpPr>
          <p:spPr>
            <a:xfrm>
              <a:off x="457200" y="1523880"/>
              <a:ext cx="666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Sol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9"/>
            <p:cNvSpPr/>
            <p:nvPr/>
          </p:nvSpPr>
          <p:spPr>
            <a:xfrm>
              <a:off x="457200" y="1828800"/>
              <a:ext cx="7924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 each case we can refer to Table 1.5, finding the prefix related to each of the decimal fractions: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a)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nogram, ng,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b)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icrosecond,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,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c)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illimeter, mm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Line 10"/>
          <p:cNvSpPr/>
          <p:nvPr/>
        </p:nvSpPr>
        <p:spPr>
          <a:xfrm>
            <a:off x="304920" y="304920"/>
            <a:ext cx="84391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304920" y="3886200"/>
            <a:ext cx="84391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26"/>
          <p:cNvSpPr/>
          <p:nvPr/>
        </p:nvSpPr>
        <p:spPr>
          <a:xfrm>
            <a:off x="318960" y="304920"/>
            <a:ext cx="852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ample Exercise 1.2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erting Units of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027"/>
          <p:cNvSpPr/>
          <p:nvPr/>
        </p:nvSpPr>
        <p:spPr>
          <a:xfrm>
            <a:off x="457200" y="83808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a weather forecaster predicts that the temperature for the day will reach 31 °C, what is the predi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eratur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K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b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°F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1028"/>
          <p:cNvGrpSpPr/>
          <p:nvPr/>
        </p:nvGrpSpPr>
        <p:grpSpPr>
          <a:xfrm>
            <a:off x="457200" y="2666880"/>
            <a:ext cx="8077320" cy="1038240"/>
            <a:chOff x="457200" y="2666880"/>
            <a:chExt cx="8077320" cy="1038240"/>
          </a:xfrm>
        </p:grpSpPr>
        <p:sp>
          <p:nvSpPr>
            <p:cNvPr id="107" name="Text Box 1029"/>
            <p:cNvSpPr/>
            <p:nvPr/>
          </p:nvSpPr>
          <p:spPr>
            <a:xfrm>
              <a:off x="457200" y="2971800"/>
              <a:ext cx="8077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hylene glycol, the major ingredient in antifreeze, freezes at –11.5ºF . What is the freezing point in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a)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b)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°F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nswer: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a)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61.7 K,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(b)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1.3 °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030"/>
            <p:cNvSpPr/>
            <p:nvPr/>
          </p:nvSpPr>
          <p:spPr>
            <a:xfrm>
              <a:off x="457200" y="2666880"/>
              <a:ext cx="666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Practice Exerci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Line 1031"/>
          <p:cNvSpPr/>
          <p:nvPr/>
        </p:nvSpPr>
        <p:spPr>
          <a:xfrm>
            <a:off x="304920" y="304920"/>
            <a:ext cx="84391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032"/>
          <p:cNvSpPr/>
          <p:nvPr/>
        </p:nvSpPr>
        <p:spPr>
          <a:xfrm>
            <a:off x="304920" y="3886200"/>
            <a:ext cx="84391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033"/>
          <p:cNvGrpSpPr/>
          <p:nvPr/>
        </p:nvGrpSpPr>
        <p:grpSpPr>
          <a:xfrm>
            <a:off x="457200" y="1600200"/>
            <a:ext cx="7924680" cy="1055520"/>
            <a:chOff x="457200" y="1600200"/>
            <a:chExt cx="7924680" cy="1055520"/>
          </a:xfrm>
        </p:grpSpPr>
        <p:grpSp>
          <p:nvGrpSpPr>
            <p:cNvPr id="112" name="Group 1034"/>
            <p:cNvGrpSpPr/>
            <p:nvPr/>
          </p:nvGrpSpPr>
          <p:grpSpPr>
            <a:xfrm>
              <a:off x="457200" y="1600200"/>
              <a:ext cx="7924680" cy="825120"/>
              <a:chOff x="457200" y="1600200"/>
              <a:chExt cx="7924680" cy="825120"/>
            </a:xfrm>
          </p:grpSpPr>
          <p:sp>
            <p:nvSpPr>
              <p:cNvPr id="113" name="Text Box 1035"/>
              <p:cNvSpPr/>
              <p:nvPr/>
            </p:nvSpPr>
            <p:spPr>
              <a:xfrm>
                <a:off x="457200" y="1600200"/>
                <a:ext cx="666756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99"/>
                    </a:solidFill>
                    <a:latin typeface="Arial"/>
                  </a:rPr>
                  <a:t>Solution    Using   equations   :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K =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 + 273.15       and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 = 9/5(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) + 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99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Text Box 1036"/>
              <p:cNvSpPr/>
              <p:nvPr/>
            </p:nvSpPr>
            <p:spPr>
              <a:xfrm>
                <a:off x="457200" y="1905120"/>
                <a:ext cx="7924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buClr>
                    <a:srgbClr val="000000"/>
                  </a:buClr>
                  <a:buFont typeface="Time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5" name="Picture 1037" descr="1"/>
            <p:cNvPicPr/>
            <p:nvPr/>
          </p:nvPicPr>
          <p:blipFill>
            <a:blip r:embed="rId1"/>
            <a:srcRect l="33453" t="0" r="0" b="0"/>
            <a:stretch/>
          </p:blipFill>
          <p:spPr>
            <a:xfrm>
              <a:off x="2419200" y="1981080"/>
              <a:ext cx="3600720" cy="67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304920" y="304920"/>
            <a:ext cx="8520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ample Exercise 1.3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erting Volume Un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57200" y="106668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rth’s oceans contain approximately 1.36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k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water. Calculate the volume in lit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304920" y="304920"/>
            <a:ext cx="84391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457200" y="5867280"/>
            <a:ext cx="84391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85720" y="2205000"/>
            <a:ext cx="8077320" cy="16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km =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;  1 k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= 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1000 L= 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k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 10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36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k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=  1.36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x 10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 =  1.36 10 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6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304920" y="609480"/>
            <a:ext cx="8305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0" indent="-2286000">
              <a:spcBef>
                <a:spcPts val="1125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Sample Exercise 1.4 </a:t>
            </a: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Determining Density and Using Density to Determine Volume or 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0" indent="-2286000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457200" y="946080"/>
            <a:ext cx="8077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lculate the density of mercury if 1.00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occupies a volume of 7.36 c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lculate th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65.0 g of the liquid methanol (wood alcohol) if its density is 0.791 g/mL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at is the mass in gram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ube of gold (density = 19.32 g/c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if the length of the cube is 2.00 c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57200" y="1600200"/>
            <a:ext cx="346248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given mass and volume, so Equation 1.3 yie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olving Equation 1.3 for volume and then using the given mass and density gi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alculate the mass from the volume of the cube and its density. The volume of a cube is given by its length cubed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Equation 1.3 for mass and substituting the volume and density of the cube, we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5" descr="1"/>
          <p:cNvPicPr/>
          <p:nvPr/>
        </p:nvPicPr>
        <p:blipFill>
          <a:blip r:embed="rId1"/>
          <a:stretch/>
        </p:blipFill>
        <p:spPr>
          <a:xfrm>
            <a:off x="3929040" y="1571760"/>
            <a:ext cx="4876920" cy="252396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8"/>
          <p:cNvGrpSpPr/>
          <p:nvPr/>
        </p:nvGrpSpPr>
        <p:grpSpPr>
          <a:xfrm>
            <a:off x="214200" y="4071960"/>
            <a:ext cx="8077320" cy="1303560"/>
            <a:chOff x="214200" y="4071960"/>
            <a:chExt cx="8077320" cy="1303560"/>
          </a:xfrm>
        </p:grpSpPr>
        <p:sp>
          <p:nvSpPr>
            <p:cNvPr id="127" name="Text Box 6"/>
            <p:cNvSpPr/>
            <p:nvPr/>
          </p:nvSpPr>
          <p:spPr>
            <a:xfrm>
              <a:off x="285480" y="4071960"/>
              <a:ext cx="666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Arial"/>
                </a:rPr>
                <a:t>Practice Exerci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5"/>
            <p:cNvSpPr/>
            <p:nvPr/>
          </p:nvSpPr>
          <p:spPr>
            <a:xfrm>
              <a:off x="214200" y="4429080"/>
              <a:ext cx="8077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culate the density of a 374.5-g sample of copper if it has a volume of 41.8 cm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b)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 student needs 15.0 g of ethanol for an experiment. If the density of ethanol is 0.789 g/mL, how many milliliters of ethanol are needed?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c)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at is the mass, in grams, of 25.0 mL of mercury (density = 13.6 g/mL)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Text Box 5"/>
          <p:cNvSpPr/>
          <p:nvPr/>
        </p:nvSpPr>
        <p:spPr>
          <a:xfrm>
            <a:off x="357120" y="542916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nswer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96 g/c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.0 mL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0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7:34:09Z</dcterms:created>
  <dc:creator>Bill Montgomery</dc:creator>
  <dc:description/>
  <dc:language>en-US</dc:language>
  <cp:lastModifiedBy>User</cp:lastModifiedBy>
  <dcterms:modified xsi:type="dcterms:W3CDTF">2013-09-03T05:46:30Z</dcterms:modified>
  <cp:revision>48</cp:revision>
  <dc:subject/>
  <dc:title>Slide 1</dc:title>
</cp:coreProperties>
</file>