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A589-0B4F-4124-A0A9-C8D334542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6AC1-F665-49BF-82D3-54B0BE8A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2A30-F094-47EE-8DDD-DEB022F0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2177-F547-4EE9-9FF7-D76E9044E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6618-DCD8-452E-8B48-080026670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450D-6592-4650-BB1B-729EC081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E923-4D84-4ACE-88F2-3E0F6ACA6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8B3A-C085-4626-8A5E-FB1945B7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7F26-B439-4123-8672-1A099419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8D9-79A8-4E85-9C8D-9ED9170A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B101-B3FF-4570-B1C0-F4B20A9F7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B03E-4F70-4739-B0B3-29CE84ED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72CA-893D-4242-A648-78228811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BC21-A20A-43EA-893A-867BD4A32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85E7-669E-4225-AC58-339CC5AE6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B556-B2CC-499A-B7BD-1238F06C6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F33B-5759-458A-A7C0-E231FB7E2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529D-BC8A-44F8-9DB2-9CEA612D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C1B3-76F2-4B2C-ABFE-1778C571A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941D-F3FA-4D3C-A140-C3E0EA98B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3AFE-BD7B-44F8-9212-3946D129C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9A41-BC0D-4B80-8A94-07037948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9563-86C2-47C9-9F29-2B301837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9075-4B1D-4A32-A9EA-E44286B9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DC0D-C1CA-4747-889A-32A5102E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A737-7FCA-45D8-89BC-973D7874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8E27-F506-439C-B4A2-3635F408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14DF-9786-4901-9488-F5D7B7E0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6336-D95C-4223-8CB8-1C39367E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1D18-8189-4C24-9B35-22E05B9E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C9B7-2528-4E8C-A006-8A339C77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B2B6-25BB-48E4-9DB6-3DCE3374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7F15-7173-4F22-9EE4-548C746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484F-6763-467A-980B-62D81E59A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619760" y="66290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997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Introduction: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Units of Measurement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00120" y="500040"/>
            <a:ext cx="63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, H. Eugene LeMay, Jr., and Bruce E. Bu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5638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82e32"/>
                </a:solidFill>
                <a:latin typeface="Arial"/>
              </a:rPr>
              <a:t>Dr.Imededdine Arbi Nehd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2e32"/>
                </a:solidFill>
                <a:latin typeface="Arial"/>
              </a:rPr>
              <a:t>Chemistry Department, Science College, King Saud University</a:t>
            </a:r>
            <a:endParaRPr b="0" lang="en-US" sz="1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Propert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tensive Properties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re independent of the amount of the substance that is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Density, boiling point, color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xtensive Properties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pend upon the amount of the substance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ass, volume, energy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Chang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Chang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re changes in matter that do not change the composition of a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hanges of state, temperature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Chang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emical changes result in new substanc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mbustion, oxidation, decomposition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Units of Measureme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y properties of matter are quantitative; that is, they are associated with numbers. When a number represents a measured quantity, the units of that quantity must always be specified. To say that the length of a pencil  is 17.5 is meaning less. To say that it is 17.5 centimeters (cm) properly  specifies the lenght. The units used for scientific measurements are those of the </a:t>
            </a:r>
            <a:r>
              <a:rPr b="0" lang="en-US" sz="2400" spc="-1" strike="noStrike">
                <a:solidFill>
                  <a:srgbClr val="001996"/>
                </a:solidFill>
                <a:latin typeface="Arial"/>
              </a:rPr>
              <a:t>metric syste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6112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1960 an international agreement was reached specifying a particular choice of metric units for use in scientific measurements. These preferred units are called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I uni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after the French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ysteme International d`Unit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The SI system has seven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ase uni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able 1.1) from which all other units de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ABLE 1.1 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I Base Uni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9" name="Picture 18" descr="01_T04"/>
          <p:cNvPicPr/>
          <p:nvPr/>
        </p:nvPicPr>
        <p:blipFill>
          <a:blip r:embed="rId1"/>
          <a:srcRect l="0" t="11644" r="0" b="6860"/>
          <a:stretch/>
        </p:blipFill>
        <p:spPr>
          <a:xfrm>
            <a:off x="1444680" y="1752480"/>
            <a:ext cx="6253200" cy="213372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611280" y="4653000"/>
            <a:ext cx="7772400" cy="146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refixe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re used to indicate decimal fractions or multiples of various units. For example, the prefix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represents a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fraction of  a unit: a milligram (mg) is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gram(g), a millimeter (mm) is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er (m), and so forth. Table 1.2 presents the prefixes commonly encountered in chemistry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Table 1.2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elected Prefixes Used in the Metric Syste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Prefixes convert the base units into units that are appropriate for the item being measured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4" name="Picture 10" descr="01_T05"/>
          <p:cNvPicPr/>
          <p:nvPr/>
        </p:nvPicPr>
        <p:blipFill>
          <a:blip r:embed="rId1"/>
          <a:srcRect l="0" t="9001" r="0" b="5484"/>
          <a:stretch/>
        </p:blipFill>
        <p:spPr>
          <a:xfrm>
            <a:off x="1403280" y="1700280"/>
            <a:ext cx="629280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4"/>
          <p:cNvSpPr/>
          <p:nvPr/>
        </p:nvSpPr>
        <p:spPr>
          <a:xfrm>
            <a:off x="2655360" y="571680"/>
            <a:ext cx="25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Non- SI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756360" y="1928880"/>
            <a:ext cx="848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lthough </a:t>
            </a:r>
            <a:r>
              <a:rPr b="0" lang="en-US" sz="2400" spc="-1" strike="noStrike">
                <a:solidFill>
                  <a:srgbClr val="001996"/>
                </a:solidFill>
                <a:latin typeface="Arial"/>
              </a:rPr>
              <a:t>non-SI unit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re being phased out, there are s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ome that are commonly used by scientists such as Celsi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Gallon, Pound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 Gallon = 3.78541178 l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 pound = 0.45359237 kil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01_18"/>
          <p:cNvPicPr/>
          <p:nvPr/>
        </p:nvPicPr>
        <p:blipFill>
          <a:blip r:embed="rId1"/>
          <a:srcRect l="0" t="0" r="0" b="4040"/>
          <a:stretch/>
        </p:blipFill>
        <p:spPr>
          <a:xfrm>
            <a:off x="380880" y="2286000"/>
            <a:ext cx="4480200" cy="2967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Units of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y definition temperature is a measure of the average kinetic energy of the particles in a samp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428840" y="5286240"/>
            <a:ext cx="5143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Conver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+ 273.15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9/5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+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K − 273.15)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5/9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−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4"/>
          <p:cNvSpPr/>
          <p:nvPr/>
        </p:nvSpPr>
        <p:spPr>
          <a:xfrm>
            <a:off x="2657520" y="571680"/>
            <a:ext cx="31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Derived SI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748080" y="1928880"/>
            <a:ext cx="820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he SI units are used to derive the units of other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uch as pressure, speed, force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or example,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pee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is defined as the ratio of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o elapsed time. Thus the SI unit for speed is the SI uni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istance (length) divided by the SI unit for time,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/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read as `` meter per second``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I unit of force is (kg.m)/s</a:t>
            </a:r>
            <a:r>
              <a:rPr b="0" lang="en-US" sz="2400" spc="-1" strike="noStrike" baseline="30000">
                <a:solidFill>
                  <a:srgbClr val="c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called newton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I unit of pressure is kg/m.s</a:t>
            </a:r>
            <a:r>
              <a:rPr b="0" lang="en-US" sz="2400" spc="-1" strike="noStrike" baseline="30000">
                <a:solidFill>
                  <a:srgbClr val="c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called pascal (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Volum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st commonly used metric units for volume are the liter (L) and the milliliter (mL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liter is a cube 1 d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milliliter is a cube 1 c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Picture 7" descr="01_19"/>
          <p:cNvPicPr/>
          <p:nvPr/>
        </p:nvPicPr>
        <p:blipFill>
          <a:blip r:embed="rId1"/>
          <a:srcRect l="0" t="0" r="0" b="3361"/>
          <a:stretch/>
        </p:blipFill>
        <p:spPr>
          <a:xfrm>
            <a:off x="5105520" y="1295280"/>
            <a:ext cx="3154320" cy="4577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250920" y="5013360"/>
            <a:ext cx="461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1 L = 1 dm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1 L = 1000 mL = 1000 cm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1 m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 = 10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str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science we study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hang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t underg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8" name="Picture 1034" descr="01_04"/>
          <p:cNvPicPr/>
          <p:nvPr/>
        </p:nvPicPr>
        <p:blipFill>
          <a:blip r:embed="rId1"/>
          <a:srcRect l="0" t="0" r="0" b="3886"/>
          <a:stretch/>
        </p:blipFill>
        <p:spPr>
          <a:xfrm>
            <a:off x="457200" y="19051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Density is a physical property of a substance  . It defined as the amount of mass in a unit volume of the substanc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ensities of solids and liquids are commonly expressed in (g/cm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or (g/mL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421800" y="3429000"/>
            <a:ext cx="2126520" cy="1922760"/>
            <a:chOff x="3421800" y="3429000"/>
            <a:chExt cx="2126520" cy="1922760"/>
          </a:xfrm>
        </p:grpSpPr>
        <p:sp>
          <p:nvSpPr>
            <p:cNvPr id="123" name="Rectangle 6"/>
            <p:cNvSpPr/>
            <p:nvPr/>
          </p:nvSpPr>
          <p:spPr>
            <a:xfrm>
              <a:off x="3421800" y="3886200"/>
              <a:ext cx="126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c82e32"/>
                  </a:solidFill>
                  <a:latin typeface="Arial"/>
                </a:rPr>
                <a:t>d </a:t>
              </a: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9"/>
            <p:cNvGrpSpPr/>
            <p:nvPr/>
          </p:nvGrpSpPr>
          <p:grpSpPr>
            <a:xfrm>
              <a:off x="4710240" y="3429000"/>
              <a:ext cx="838080" cy="1922760"/>
              <a:chOff x="4710240" y="3429000"/>
              <a:chExt cx="838080" cy="1922760"/>
            </a:xfrm>
          </p:grpSpPr>
          <p:sp>
            <p:nvSpPr>
              <p:cNvPr id="125" name="Rectangle 7"/>
              <p:cNvSpPr/>
              <p:nvPr/>
            </p:nvSpPr>
            <p:spPr>
              <a:xfrm>
                <a:off x="4720680" y="3429000"/>
                <a:ext cx="8161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m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V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8"/>
              <p:cNvSpPr/>
              <p:nvPr/>
            </p:nvSpPr>
            <p:spPr>
              <a:xfrm>
                <a:off x="4710240" y="4381200"/>
                <a:ext cx="838080" cy="0"/>
              </a:xfrm>
              <a:prstGeom prst="line">
                <a:avLst/>
              </a:prstGeom>
              <a:ln w="316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define matter as anything that has mass and takes up spa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2" name="Picture 12" descr="01_05"/>
          <p:cNvPicPr/>
          <p:nvPr/>
        </p:nvPicPr>
        <p:blipFill>
          <a:blip r:embed="rId1"/>
          <a:srcRect l="0" t="0" r="0" b="8510"/>
          <a:stretch/>
        </p:blipFill>
        <p:spPr>
          <a:xfrm>
            <a:off x="762120" y="33526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445752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8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01_01"/>
          <p:cNvPicPr/>
          <p:nvPr/>
        </p:nvPicPr>
        <p:blipFill>
          <a:blip r:embed="rId2"/>
          <a:stretch/>
        </p:blipFill>
        <p:spPr>
          <a:xfrm>
            <a:off x="1255680" y="117144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1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wo or more different kinds of el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6" name="Picture 1028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29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0" name="Picture 9" descr="11_01"/>
          <p:cNvPicPr/>
          <p:nvPr/>
        </p:nvPicPr>
        <p:blipFill>
          <a:blip r:embed="rId1"/>
          <a:srcRect l="0" t="0" r="0" b="5553"/>
          <a:stretch/>
        </p:blipFill>
        <p:spPr>
          <a:xfrm>
            <a:off x="830160" y="1685880"/>
            <a:ext cx="74818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6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Properties and Changes of Matter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Propert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ies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be observed without changing a substance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iling point, density, mass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Properties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e observed when a substance is changed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lammability, corrosiveness, reactivity with acid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User</cp:lastModifiedBy>
  <dcterms:modified xsi:type="dcterms:W3CDTF">2013-09-03T11:30:00Z</dcterms:modified>
  <cp:revision>151</cp:revision>
  <dc:subject/>
  <dc:title>Chapter 1 Introduction: Matter and Measurement</dc:title>
</cp:coreProperties>
</file>