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338D-2B38-44C1-8A6A-15C33FB07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18F-F452-43F7-A075-B1D087F11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6377-8C4F-453B-B884-35E27AF7F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C0ED-A994-4375-81A4-5A75AADC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E34E-4696-4B06-B26F-7153C355F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7D79-8E57-4FD0-A307-1D2BF6EE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502D-FB06-46C1-9411-CC9FE6ED2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E5AE-8F50-4CC5-910E-AB48FFABA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234F-A67F-41BD-AC16-1E83D4F29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9B55-DD5D-42B8-BFAC-4F757348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C026-A3B5-4730-97B8-31B58979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5D9A-6823-4837-9099-FC8456B7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C5E0-8F38-42A6-A77B-1EE17AB5F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F9AF-C6F7-4240-85A3-1C845608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AB28-4417-4A58-B836-52B7B0AC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004C-1E90-4F98-8BAF-27C3D342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EE4C-A7AC-4BAB-B2E8-BB3D64B13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1E44-05E7-4DB5-8105-608ACF72A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D111-E729-4E00-8647-90747C78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91B7-5EBC-4C47-858C-C512D77F6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3D3D-95CD-4005-8F7E-C9DC5083B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D46F3-454A-48C2-AA1F-AD28D253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D873-AAC5-49C7-8C03-5B122B00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3EFC-F055-4780-8865-2AAD0249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F46AD-7FAB-4552-919A-F71CDCB6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27D6-450F-4865-97FE-E5082CF9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11A2-1537-4047-A186-BAC4A01F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5B20D-0486-47D8-BF6C-D7E652FE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477C-4340-4982-8BCE-3E7D1C61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3801-EBDF-4CA5-B8F6-C9B9B2A8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67EA1-8981-408D-B2C4-F085C7F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E377D-DDBF-42BD-AC14-DF0311DA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A5578-9C66-4C77-8081-1039A83C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82e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3538-171A-4837-BDA7-732922043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7772400" y="5486400"/>
            <a:ext cx="1371600" cy="1371600"/>
            <a:chOff x="7772400" y="5486400"/>
            <a:chExt cx="1371600" cy="1371600"/>
          </a:xfrm>
        </p:grpSpPr>
        <p:pic>
          <p:nvPicPr>
            <p:cNvPr id="5" name="Picture 7" descr="spine icon"/>
            <p:cNvPicPr/>
            <p:nvPr/>
          </p:nvPicPr>
          <p:blipFill>
            <a:blip r:embed="rId2"/>
            <a:stretch/>
          </p:blipFill>
          <p:spPr>
            <a:xfrm>
              <a:off x="7772400" y="54864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881120" y="5867280"/>
              <a:ext cx="1154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at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82e32"/>
                  </a:solidFill>
                  <a:latin typeface="Times New Roman"/>
                </a:rPr>
                <a:t>Meas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7619760" y="662904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c82e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99700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Chapter 1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Introduction:</a:t>
            </a:r>
            <a:br>
              <a:rPr sz="5400"/>
            </a:br>
            <a:r>
              <a:rPr b="0" lang="en-US" sz="5400" spc="-1" strike="noStrike">
                <a:solidFill>
                  <a:srgbClr val="c82e32"/>
                </a:solidFill>
                <a:latin typeface="Arial"/>
              </a:rPr>
              <a:t>Units of Measurement</a:t>
            </a:r>
            <a:endParaRPr b="0" lang="en-US" sz="5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500120" y="500040"/>
            <a:ext cx="63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82e32"/>
                </a:solidFill>
                <a:latin typeface="Arial"/>
              </a:rPr>
              <a:t>Chemistry, The Central Science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, 11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Theodore L. Brown, H. Eugene LeMay, Jr., and Bruce E. Bu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5638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82e32"/>
                </a:solidFill>
                <a:latin typeface="Arial"/>
              </a:rPr>
              <a:t>Dr.Imededdine Arbi Nehdi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82e32"/>
                </a:solidFill>
                <a:latin typeface="Arial"/>
              </a:rPr>
              <a:t>Chemistry Department, Science College, King Saud University</a:t>
            </a:r>
            <a:endParaRPr b="0" lang="en-US" sz="1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Propert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Intensive Properties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re independent of the amount of the substance that is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Density, boiling point, color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Extensive Properties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Depend upon the amount of the substance present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Mass, volume, energy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Chang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Chang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se are changes in matter that do not change the composition of a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hanges of state, temperature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Changes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hemical changes result in new substanc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Combustion, oxidation, decomposition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84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Units of Measurement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y properties of matter are quantitative; that is, they are associated with numbers. When a number represents a measured quantity, the units of that quantity must always be specified. To say that the length of a pencil  is 17.5 is meaning less. To say that it is 17.5 centimeters (cm) properly  specifies the lenght. The units used for scientific measurements are those of the </a:t>
            </a:r>
            <a:r>
              <a:rPr b="0" lang="en-US" sz="2400" spc="-1" strike="noStrike">
                <a:solidFill>
                  <a:srgbClr val="001996"/>
                </a:solidFill>
                <a:latin typeface="Arial"/>
              </a:rPr>
              <a:t>metric system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96" name="Title 1"/>
          <p:cNvSpPr/>
          <p:nvPr/>
        </p:nvSpPr>
        <p:spPr>
          <a:xfrm>
            <a:off x="6112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1960 an international agreement was reached specifying a particular choice of metric units for use in scientific measurements. These preferred units are called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I uni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after the French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ysteme International d`Unit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The SI system has seven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ase uni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able 1.1) from which all other units de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ABLE 1.1  </a:t>
            </a: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I Base Unit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99" name="Picture 18" descr="01_T04"/>
          <p:cNvPicPr/>
          <p:nvPr/>
        </p:nvPicPr>
        <p:blipFill>
          <a:blip r:embed="rId1"/>
          <a:srcRect l="0" t="11644" r="0" b="6860"/>
          <a:stretch/>
        </p:blipFill>
        <p:spPr>
          <a:xfrm>
            <a:off x="1444680" y="1752480"/>
            <a:ext cx="6253200" cy="213372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611280" y="4653000"/>
            <a:ext cx="7772400" cy="146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refixe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re used to indicate decimal fractions or multiples of various units. For example, the prefix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m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represents a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fraction of  a unit: a milligram (mg) is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gram(g), a millimeter (mm) is 10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-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meter (m), and so forth. Table 1.2 presents the prefixes commonly encountered in chemistry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Table 1.2 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Selected Prefixes Used in the Metric System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640" y="486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Prefixes convert the base units into units that are appropriate for the item being measured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04" name="Picture 10" descr="01_T05"/>
          <p:cNvPicPr/>
          <p:nvPr/>
        </p:nvPicPr>
        <p:blipFill>
          <a:blip r:embed="rId1"/>
          <a:srcRect l="0" t="9001" r="0" b="5484"/>
          <a:stretch/>
        </p:blipFill>
        <p:spPr>
          <a:xfrm>
            <a:off x="1403280" y="1700280"/>
            <a:ext cx="6292800" cy="289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4"/>
          <p:cNvSpPr/>
          <p:nvPr/>
        </p:nvSpPr>
        <p:spPr>
          <a:xfrm>
            <a:off x="2655360" y="571680"/>
            <a:ext cx="25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Non- SI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756360" y="1928880"/>
            <a:ext cx="848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lthough </a:t>
            </a:r>
            <a:r>
              <a:rPr b="0" lang="en-US" sz="2400" spc="-1" strike="noStrike">
                <a:solidFill>
                  <a:srgbClr val="001996"/>
                </a:solidFill>
                <a:latin typeface="Arial"/>
              </a:rPr>
              <a:t>non-SI unit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re being phased out, there are st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ome that are commonly used by scientists such as Celsi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Gallon, Pound,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 Gallon = 3.78541178 l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1 pound = 0.45359237 kil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01_18"/>
          <p:cNvPicPr/>
          <p:nvPr/>
        </p:nvPicPr>
        <p:blipFill>
          <a:blip r:embed="rId1"/>
          <a:srcRect l="0" t="0" r="0" b="4040"/>
          <a:stretch/>
        </p:blipFill>
        <p:spPr>
          <a:xfrm>
            <a:off x="380880" y="2286000"/>
            <a:ext cx="4480200" cy="2967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Units of Temperatur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By definition temperature is a measure of the average kinetic energy of the particles in a sampl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428840" y="5286240"/>
            <a:ext cx="51433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82e32"/>
                </a:solidFill>
                <a:latin typeface="Arial"/>
              </a:rPr>
              <a:t>Conver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+ 273.15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9/5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+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K − 273.15)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5/9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− 3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4"/>
          <p:cNvSpPr/>
          <p:nvPr/>
        </p:nvSpPr>
        <p:spPr>
          <a:xfrm>
            <a:off x="2657520" y="571680"/>
            <a:ext cx="31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Derived SI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748080" y="1928880"/>
            <a:ext cx="8200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he SI units are used to derive the units of other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uch as pressure, speed, force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or example,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pee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is defined as the ratio of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to elapsed time. Thus the SI unit for speed is the SI uni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distance (length) divided by the SI unit for time,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/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, wh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e read as `` meter per second``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I unit of force is (kg.m)/s</a:t>
            </a:r>
            <a:r>
              <a:rPr b="0" lang="en-US" sz="2400" spc="-1" strike="noStrike" baseline="30000">
                <a:solidFill>
                  <a:srgbClr val="c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called newton 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I unit of pressure is kg/m.s</a:t>
            </a:r>
            <a:r>
              <a:rPr b="0" lang="en-US" sz="2400" spc="-1" strike="noStrike" baseline="30000">
                <a:solidFill>
                  <a:srgbClr val="c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called pascal (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Volume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most commonly used metric units for volume are the liter (L) and the milliliter (mL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liter is a cube 1 d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A milliliter is a cube 1 cm long on each side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117" name="Picture 7" descr="01_19"/>
          <p:cNvPicPr/>
          <p:nvPr/>
        </p:nvPicPr>
        <p:blipFill>
          <a:blip r:embed="rId1"/>
          <a:srcRect l="0" t="0" r="0" b="3361"/>
          <a:stretch/>
        </p:blipFill>
        <p:spPr>
          <a:xfrm>
            <a:off x="5105520" y="1295280"/>
            <a:ext cx="3154320" cy="45770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250920" y="5013360"/>
            <a:ext cx="461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1 L = 1 dm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1 L = 1000 mL = 1000 cm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1 m</a:t>
            </a:r>
            <a:r>
              <a:rPr b="0" lang="en-US" sz="2400" spc="-1" strike="noStrike" baseline="30000">
                <a:solidFill>
                  <a:srgbClr val="c82e32"/>
                </a:solidFill>
                <a:latin typeface="Arial"/>
                <a:ea typeface="ＭＳ Ｐゴシック"/>
              </a:rPr>
              <a:t>3</a:t>
            </a:r>
            <a:r>
              <a:rPr b="0" lang="en-US" sz="2400" spc="-1" strike="noStrike">
                <a:solidFill>
                  <a:srgbClr val="c82e32"/>
                </a:solidFill>
                <a:latin typeface="Arial"/>
                <a:ea typeface="ＭＳ Ｐゴシック"/>
              </a:rPr>
              <a:t> = 1000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Chemistr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In this science we study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matter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nd the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hange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t undergoe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58" name="Picture 1034" descr="01_04"/>
          <p:cNvPicPr/>
          <p:nvPr/>
        </p:nvPicPr>
        <p:blipFill>
          <a:blip r:embed="rId1"/>
          <a:srcRect l="0" t="0" r="0" b="3886"/>
          <a:stretch/>
        </p:blipFill>
        <p:spPr>
          <a:xfrm>
            <a:off x="457200" y="1905120"/>
            <a:ext cx="4419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Density is a physical property of a substance  . It defined as the amount of mass in a unit volume of the substance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The densities of solids and liquids are commonly expressed in (g/cm</a:t>
            </a:r>
            <a:r>
              <a:rPr b="0" lang="en-US" sz="2800" spc="-1" strike="noStrike" baseline="30000">
                <a:solidFill>
                  <a:srgbClr val="c82e32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) or (g/mL)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421800" y="3429000"/>
            <a:ext cx="2126520" cy="1922760"/>
            <a:chOff x="3421800" y="3429000"/>
            <a:chExt cx="2126520" cy="1922760"/>
          </a:xfrm>
        </p:grpSpPr>
        <p:sp>
          <p:nvSpPr>
            <p:cNvPr id="123" name="Rectangle 6"/>
            <p:cNvSpPr/>
            <p:nvPr/>
          </p:nvSpPr>
          <p:spPr>
            <a:xfrm>
              <a:off x="3421800" y="3886200"/>
              <a:ext cx="126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-1" strike="noStrike">
                  <a:solidFill>
                    <a:srgbClr val="c82e32"/>
                  </a:solidFill>
                  <a:latin typeface="Arial"/>
                </a:rPr>
                <a:t>d </a:t>
              </a:r>
              <a:r>
                <a:rPr b="0" lang="en-US" sz="6000" spc="-1" strike="noStrike">
                  <a:solidFill>
                    <a:srgbClr val="c82e32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9"/>
            <p:cNvGrpSpPr/>
            <p:nvPr/>
          </p:nvGrpSpPr>
          <p:grpSpPr>
            <a:xfrm>
              <a:off x="4710240" y="3429000"/>
              <a:ext cx="838080" cy="1922760"/>
              <a:chOff x="4710240" y="3429000"/>
              <a:chExt cx="838080" cy="1922760"/>
            </a:xfrm>
          </p:grpSpPr>
          <p:sp>
            <p:nvSpPr>
              <p:cNvPr id="125" name="Rectangle 7"/>
              <p:cNvSpPr/>
              <p:nvPr/>
            </p:nvSpPr>
            <p:spPr>
              <a:xfrm>
                <a:off x="4720680" y="3429000"/>
                <a:ext cx="81612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m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6000" spc="-1" strike="noStrike">
                    <a:solidFill>
                      <a:srgbClr val="c82e32"/>
                    </a:solidFill>
                    <a:latin typeface="Arial"/>
                  </a:rPr>
                  <a:t>V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8"/>
              <p:cNvSpPr/>
              <p:nvPr/>
            </p:nvSpPr>
            <p:spPr>
              <a:xfrm>
                <a:off x="4710240" y="4381200"/>
                <a:ext cx="838080" cy="0"/>
              </a:xfrm>
              <a:prstGeom prst="line">
                <a:avLst/>
              </a:prstGeom>
              <a:ln w="31680">
                <a:solidFill>
                  <a:srgbClr val="c82e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We define matter as anything that has mass and takes up spa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2" name="Picture 12" descr="01_05"/>
          <p:cNvPicPr/>
          <p:nvPr/>
        </p:nvPicPr>
        <p:blipFill>
          <a:blip r:embed="rId1"/>
          <a:srcRect l="0" t="0" r="0" b="8510"/>
          <a:stretch/>
        </p:blipFill>
        <p:spPr>
          <a:xfrm>
            <a:off x="762120" y="3352680"/>
            <a:ext cx="761976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445752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66" name="Picture 8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01_01"/>
          <p:cNvPicPr/>
          <p:nvPr/>
        </p:nvPicPr>
        <p:blipFill>
          <a:blip r:embed="rId2"/>
          <a:stretch/>
        </p:blipFill>
        <p:spPr>
          <a:xfrm>
            <a:off x="1255680" y="117144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1" name="Picture 4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6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Atoms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are the building blocks of matter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Each </a:t>
            </a:r>
            <a:r>
              <a:rPr b="0" lang="en-US" sz="2800" spc="-1" strike="noStrike">
                <a:solidFill>
                  <a:srgbClr val="001996"/>
                </a:solidFill>
                <a:latin typeface="Arial"/>
              </a:rPr>
              <a:t>element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he same kind of atom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is made of two or more different kinds of elements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76" name="Picture 1028" descr="01_01"/>
          <p:cNvPicPr/>
          <p:nvPr/>
        </p:nvPicPr>
        <p:blipFill>
          <a:blip r:embed="rId1"/>
          <a:stretch/>
        </p:blipFill>
        <p:spPr>
          <a:xfrm>
            <a:off x="1255680" y="1174680"/>
            <a:ext cx="6629400" cy="3170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29" descr="01_01"/>
          <p:cNvPicPr/>
          <p:nvPr/>
        </p:nvPicPr>
        <p:blipFill>
          <a:blip r:embed="rId2"/>
          <a:stretch/>
        </p:blipFill>
        <p:spPr>
          <a:xfrm>
            <a:off x="1255680" y="1168560"/>
            <a:ext cx="1052640" cy="94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pic>
        <p:nvPicPr>
          <p:cNvPr id="80" name="Picture 9" descr="11_01"/>
          <p:cNvPicPr/>
          <p:nvPr/>
        </p:nvPicPr>
        <p:blipFill>
          <a:blip r:embed="rId1"/>
          <a:srcRect l="0" t="0" r="0" b="5553"/>
          <a:stretch/>
        </p:blipFill>
        <p:spPr>
          <a:xfrm>
            <a:off x="830160" y="1685880"/>
            <a:ext cx="748188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6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82e32"/>
                </a:solidFill>
                <a:latin typeface="Arial"/>
              </a:rPr>
              <a:t>Properties and Changes of Matter</a:t>
            </a:r>
            <a:endParaRPr b="0" lang="en-US" sz="96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5"/>
          <p:cNvSpPr/>
          <p:nvPr/>
        </p:nvSpPr>
        <p:spPr>
          <a:xfrm>
            <a:off x="7620120" y="66294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2e32"/>
                </a:solidFill>
                <a:latin typeface="Arial"/>
              </a:rPr>
              <a:t>© 2009, Prentice-Hall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82e32"/>
                </a:solidFill>
                <a:latin typeface="Arial"/>
              </a:rPr>
              <a:t>Types of Properties</a:t>
            </a:r>
            <a:endParaRPr b="0" lang="en-US" sz="4400" spc="-1" strike="noStrike">
              <a:solidFill>
                <a:srgbClr val="c82e3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Physical Properties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be observed without changing a substance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Boiling point, density, mass, volume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82e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2e32"/>
                </a:solidFill>
                <a:latin typeface="Arial"/>
              </a:rPr>
              <a:t>Chemical Properties…</a:t>
            </a:r>
            <a:endParaRPr b="0" lang="en-US" sz="3200" spc="-1" strike="noStrike">
              <a:solidFill>
                <a:srgbClr val="c82e3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82e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Can </a:t>
            </a:r>
            <a:r>
              <a:rPr b="0" i="1" lang="en-US" sz="2800" spc="-1" strike="noStrike">
                <a:solidFill>
                  <a:srgbClr val="c82e32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c82e32"/>
                </a:solidFill>
                <a:latin typeface="Arial"/>
              </a:rPr>
              <a:t> be observed when a substance is changed into another substance.</a:t>
            </a:r>
            <a:endParaRPr b="0" lang="en-US" sz="2800" spc="-1" strike="noStrike">
              <a:solidFill>
                <a:srgbClr val="c82e3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82e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2e32"/>
                </a:solidFill>
                <a:latin typeface="Arial"/>
              </a:rPr>
              <a:t>Flammability, corrosiveness, reactivity with acid, etc.</a:t>
            </a:r>
            <a:endParaRPr b="0" lang="en-US" sz="2400" spc="-1" strike="noStrike">
              <a:solidFill>
                <a:srgbClr val="c82e32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3:18:56Z</dcterms:created>
  <dc:creator>John Bookstaver</dc:creator>
  <dc:description/>
  <dc:language>en-US</dc:language>
  <cp:lastModifiedBy>User</cp:lastModifiedBy>
  <dcterms:modified xsi:type="dcterms:W3CDTF">2013-09-03T11:30:00Z</dcterms:modified>
  <cp:revision>151</cp:revision>
  <dc:subject/>
  <dc:title>Chapter 1 Introduction: Matter and Measurement</dc:title>
</cp:coreProperties>
</file>