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5.png" ContentType="image/png"/>
  <Override PartName="/ppt/media/image2.jpeg" ContentType="image/jpeg"/>
  <Override PartName="/ppt/media/image3.wmf" ContentType="image/x-wmf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  <p:sldId id="279" r:id="rId35"/>
    <p:sldId id="280" r:id="rId36"/>
    <p:sldId id="281" r:id="rId37"/>
    <p:sldId id="282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slide" Target="slides/slide24.xml"/><Relationship Id="rId36" Type="http://schemas.openxmlformats.org/officeDocument/2006/relationships/slide" Target="slides/slide25.xml"/><Relationship Id="rId37" Type="http://schemas.openxmlformats.org/officeDocument/2006/relationships/slide" Target="slides/slide26.xml"/><Relationship Id="rId38" Type="http://schemas.openxmlformats.org/officeDocument/2006/relationships/slide" Target="slides/slide27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dt" idx="8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Click to move the slide</a:t>
            </a:r>
            <a:endParaRPr b="1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 type="ftr" idx="9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PlaceHolder 6"/>
          <p:cNvSpPr>
            <a:spLocks noGrp="1"/>
          </p:cNvSpPr>
          <p:nvPr>
            <p:ph type="sldNum" idx="10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7F2C9-1B7B-4382-957E-A238622774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57B9E-36E8-4F18-BE73-CA697EBA95C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Rectangle 2"/>
          <p:cNvSpPr/>
          <p:nvPr/>
        </p:nvSpPr>
        <p:spPr>
          <a:xfrm>
            <a:off x="3884760" y="-3240"/>
            <a:ext cx="2974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Rectangle 3"/>
          <p:cNvSpPr/>
          <p:nvPr/>
        </p:nvSpPr>
        <p:spPr>
          <a:xfrm>
            <a:off x="3884760" y="8685360"/>
            <a:ext cx="297468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Rectangle 4"/>
          <p:cNvSpPr/>
          <p:nvPr/>
        </p:nvSpPr>
        <p:spPr>
          <a:xfrm>
            <a:off x="-3240" y="8685360"/>
            <a:ext cx="29736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Rectangle 5"/>
          <p:cNvSpPr/>
          <p:nvPr/>
        </p:nvSpPr>
        <p:spPr>
          <a:xfrm>
            <a:off x="-3240" y="-3240"/>
            <a:ext cx="2973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228600" y="4147200"/>
            <a:ext cx="86868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42390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80000" y="1599840"/>
            <a:ext cx="42390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ubTitle"/>
          </p:nvPr>
        </p:nvSpPr>
        <p:spPr>
          <a:xfrm>
            <a:off x="228600" y="304560"/>
            <a:ext cx="8610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80000" y="1599840"/>
            <a:ext cx="42390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228600" y="414720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42390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80000" y="159984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680000" y="414720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80000" y="159984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228600" y="4147200"/>
            <a:ext cx="86868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228600" y="4147200"/>
            <a:ext cx="86868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80000" y="159984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228600" y="414720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680000" y="414720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3165840" y="159984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6102720" y="159984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228600" y="414720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6"/>
          <p:cNvSpPr>
            <a:spLocks noGrp="1"/>
          </p:cNvSpPr>
          <p:nvPr>
            <p:ph/>
          </p:nvPr>
        </p:nvSpPr>
        <p:spPr>
          <a:xfrm>
            <a:off x="3165840" y="414720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7"/>
          <p:cNvSpPr>
            <a:spLocks noGrp="1"/>
          </p:cNvSpPr>
          <p:nvPr>
            <p:ph/>
          </p:nvPr>
        </p:nvSpPr>
        <p:spPr>
          <a:xfrm>
            <a:off x="6102720" y="414720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0000" y="159984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28600" y="414720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0000" y="414720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165840" y="159984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02720" y="159984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28600" y="414720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165840" y="414720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02720" y="414720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228600" y="159984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42390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80000" y="1599840"/>
            <a:ext cx="42390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228600" y="304560"/>
            <a:ext cx="8610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0000" y="1599840"/>
            <a:ext cx="42390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228600" y="414720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228600" y="159984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42390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0000" y="159984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80000" y="414720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0000" y="159984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28600" y="4147200"/>
            <a:ext cx="86868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228600" y="4147200"/>
            <a:ext cx="86868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0000" y="159984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28600" y="414720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80000" y="414720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65840" y="159984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02720" y="159984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228600" y="414720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65840" y="414720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02720" y="414720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228600" y="159984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42390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80000" y="1599840"/>
            <a:ext cx="42390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228600" y="304560"/>
            <a:ext cx="8610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80000" y="1599840"/>
            <a:ext cx="42390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228600" y="414720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42390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80000" y="159984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80000" y="414720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80000" y="159984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228600" y="4147200"/>
            <a:ext cx="86868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228600" y="4147200"/>
            <a:ext cx="86868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80000" y="159984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228600" y="414720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80000" y="414720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165840" y="159984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02720" y="159984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228600" y="414720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165840" y="414720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102720" y="414720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228600" y="159984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42390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0000" y="1599840"/>
            <a:ext cx="42390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42390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80000" y="1599840"/>
            <a:ext cx="42390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228600" y="304560"/>
            <a:ext cx="8610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80000" y="1599840"/>
            <a:ext cx="42390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228600" y="414720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42390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59984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80000" y="414720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59984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228600" y="4147200"/>
            <a:ext cx="86868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28600" y="4147200"/>
            <a:ext cx="86868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80000" y="159984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228600" y="414720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80000" y="414720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165840" y="159984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102720" y="159984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228600" y="414720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165840" y="414720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102720" y="414720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28600" y="159984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42390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80000" y="1599840"/>
            <a:ext cx="42390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228600" y="304560"/>
            <a:ext cx="8610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599840"/>
            <a:ext cx="42390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228600" y="414720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42390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80000" y="159984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80000" y="414720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80000" y="159984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228600" y="4147200"/>
            <a:ext cx="86868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228600" y="4147200"/>
            <a:ext cx="86868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80000" y="159984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228600" y="414720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80000" y="414720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228600" y="304560"/>
            <a:ext cx="8610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165840" y="159984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102720" y="159984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228600" y="414720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165840" y="414720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102720" y="414720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228600" y="159984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42390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80000" y="1599840"/>
            <a:ext cx="42390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228600" y="304560"/>
            <a:ext cx="8610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80000" y="1599840"/>
            <a:ext cx="42390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228600" y="414720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42390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80000" y="159984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680000" y="414720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80000" y="159984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228600" y="4147200"/>
            <a:ext cx="86868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0000" y="1599840"/>
            <a:ext cx="42390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228600" y="414720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228600" y="4147200"/>
            <a:ext cx="86868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59984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14720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680000" y="414720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165840" y="159984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102720" y="159984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228600" y="414720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3165840" y="414720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6102720" y="414720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228600" y="159984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42390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80000" y="1599840"/>
            <a:ext cx="42390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228600" y="304560"/>
            <a:ext cx="8610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80000" y="1599840"/>
            <a:ext cx="42390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228600" y="414720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42390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59984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0000" y="414720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42390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80000" y="159984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80000" y="414720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80000" y="159984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228600" y="4147200"/>
            <a:ext cx="86868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228600" y="4147200"/>
            <a:ext cx="86868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80000" y="159984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228600" y="414720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80000" y="414720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165840" y="159984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102720" y="159984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228600" y="414720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165840" y="414720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102720" y="414720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228600" y="159984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42390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80000" y="1599840"/>
            <a:ext cx="42390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59984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228600" y="4147200"/>
            <a:ext cx="86868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228600" y="304560"/>
            <a:ext cx="8610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80000" y="1599840"/>
            <a:ext cx="42390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228600" y="414720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42390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80000" y="159984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680000" y="414720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80000" y="159984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228600" y="4147200"/>
            <a:ext cx="86868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228600" y="4147200"/>
            <a:ext cx="86868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80000" y="159984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228600" y="414720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680000" y="414720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165840" y="159984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102720" y="159984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228600" y="414720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165840" y="414720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6102720" y="414720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228600" y="159984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1143000"/>
          </a:xfrm>
          <a:prstGeom prst="rect">
            <a:avLst/>
          </a:prstGeom>
          <a:gradFill rotWithShape="0">
            <a:gsLst>
              <a:gs pos="0">
                <a:srgbClr val="800000"/>
              </a:gs>
              <a:gs pos="100000">
                <a:srgbClr val="5500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59984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33cc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Line 2"/>
          <p:cNvSpPr/>
          <p:nvPr/>
        </p:nvSpPr>
        <p:spPr>
          <a:xfrm>
            <a:off x="0" y="2362320"/>
            <a:ext cx="9147240" cy="0"/>
          </a:xfrm>
          <a:prstGeom prst="line">
            <a:avLst/>
          </a:prstGeom>
          <a:ln cap="sq"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Arc 3"/>
          <p:cNvSpPr/>
          <p:nvPr/>
        </p:nvSpPr>
        <p:spPr>
          <a:xfrm>
            <a:off x="0" y="843120"/>
            <a:ext cx="2897280" cy="6014880"/>
          </a:xfrm>
          <a:prstGeom prst="pie">
            <a:avLst/>
          </a:prstGeom>
          <a:gradFill rotWithShape="0">
            <a:gsLst>
              <a:gs pos="0">
                <a:srgbClr val="000000"/>
              </a:gs>
              <a:gs pos="100000">
                <a:srgbClr val="99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Text Box 10"/>
          <p:cNvSpPr/>
          <p:nvPr/>
        </p:nvSpPr>
        <p:spPr>
          <a:xfrm>
            <a:off x="2971800" y="6553080"/>
            <a:ext cx="6019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pyright © 2004 by Prentice-Hall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 All rights reserved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Text Box 11"/>
          <p:cNvSpPr/>
          <p:nvPr/>
        </p:nvSpPr>
        <p:spPr>
          <a:xfrm>
            <a:off x="1905120" y="152280"/>
            <a:ext cx="4343400" cy="21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Verdana"/>
              </a:rPr>
              <a:t>PowerPoint Slides to Accompan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Verdana"/>
              </a:rPr>
              <a:t>BUSINESS LAW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Verdana"/>
              </a:rPr>
              <a:t>E-Commerce and Digital Law International Law and Ethic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Verdana"/>
              </a:rPr>
              <a:t>5</a:t>
            </a:r>
            <a:r>
              <a:rPr b="0" lang="en-US" sz="2000" spc="-1" strike="noStrike" baseline="30000">
                <a:solidFill>
                  <a:srgbClr val="800000"/>
                </a:solidFill>
                <a:latin typeface="Verdana"/>
              </a:rPr>
              <a:t>th</a:t>
            </a:r>
            <a:r>
              <a:rPr b="0" lang="en-US" sz="2000" spc="-1" strike="noStrike">
                <a:solidFill>
                  <a:srgbClr val="800000"/>
                </a:solidFill>
                <a:latin typeface="Verdana"/>
              </a:rPr>
              <a:t> Edi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Verdana"/>
              </a:rPr>
              <a:t>by Henry R. Cheesema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Text Box 12"/>
          <p:cNvSpPr/>
          <p:nvPr/>
        </p:nvSpPr>
        <p:spPr>
          <a:xfrm>
            <a:off x="3048120" y="5410080"/>
            <a:ext cx="5105160" cy="9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0000"/>
                </a:solidFill>
                <a:latin typeface="Verdana"/>
              </a:rPr>
              <a:t>Slides developed by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0000"/>
                </a:solidFill>
                <a:latin typeface="Verdana"/>
              </a:rPr>
              <a:t>Les Wiletzky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0000"/>
                </a:solidFill>
                <a:latin typeface="Verdana"/>
              </a:rPr>
              <a:t>Wiletzky and Associates, Puyallup, WA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1143000"/>
          </a:xfrm>
          <a:prstGeom prst="rect">
            <a:avLst/>
          </a:prstGeom>
          <a:gradFill rotWithShape="0">
            <a:gsLst>
              <a:gs pos="0">
                <a:srgbClr val="800000"/>
              </a:gs>
              <a:gs pos="100000">
                <a:srgbClr val="5500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228600" y="159984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1143000"/>
          </a:xfrm>
          <a:prstGeom prst="rect">
            <a:avLst/>
          </a:prstGeom>
          <a:gradFill rotWithShape="0">
            <a:gsLst>
              <a:gs pos="0">
                <a:srgbClr val="800000"/>
              </a:gs>
              <a:gs pos="100000">
                <a:srgbClr val="5500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228600" y="159984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33cc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ftr" idx="1"/>
          </p:nvPr>
        </p:nvSpPr>
        <p:spPr>
          <a:xfrm>
            <a:off x="1980720" y="6552720"/>
            <a:ext cx="6172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pyright © 2004 by Prentice-Hall. All rights reserv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1143000"/>
          </a:xfrm>
          <a:prstGeom prst="rect">
            <a:avLst/>
          </a:prstGeom>
          <a:gradFill rotWithShape="0">
            <a:gsLst>
              <a:gs pos="0">
                <a:srgbClr val="800000"/>
              </a:gs>
              <a:gs pos="100000">
                <a:srgbClr val="5500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228600" y="159984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33cc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ftr" idx="2"/>
          </p:nvPr>
        </p:nvSpPr>
        <p:spPr>
          <a:xfrm>
            <a:off x="1980720" y="6552720"/>
            <a:ext cx="6172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pyright © 2004 by Prentice-Hall. All rights reserv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1143000"/>
          </a:xfrm>
          <a:prstGeom prst="rect">
            <a:avLst/>
          </a:prstGeom>
          <a:gradFill rotWithShape="0">
            <a:gsLst>
              <a:gs pos="0">
                <a:srgbClr val="800000"/>
              </a:gs>
              <a:gs pos="100000">
                <a:srgbClr val="5500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228600" y="159984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33cc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 type="ftr" idx="3"/>
          </p:nvPr>
        </p:nvSpPr>
        <p:spPr>
          <a:xfrm>
            <a:off x="1980720" y="6552720"/>
            <a:ext cx="6172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pyright © 2004 by Prentice-Hall. All rights reserv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1143000"/>
          </a:xfrm>
          <a:prstGeom prst="rect">
            <a:avLst/>
          </a:prstGeom>
          <a:gradFill rotWithShape="0">
            <a:gsLst>
              <a:gs pos="0">
                <a:srgbClr val="800000"/>
              </a:gs>
              <a:gs pos="100000">
                <a:srgbClr val="5500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228600" y="159984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33cc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ftr" idx="4"/>
          </p:nvPr>
        </p:nvSpPr>
        <p:spPr>
          <a:xfrm>
            <a:off x="1980720" y="6552720"/>
            <a:ext cx="6172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pyright © 2004 by Prentice-Hall. All rights reserv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1143000"/>
          </a:xfrm>
          <a:prstGeom prst="rect">
            <a:avLst/>
          </a:prstGeom>
          <a:gradFill rotWithShape="0">
            <a:gsLst>
              <a:gs pos="0">
                <a:srgbClr val="800000"/>
              </a:gs>
              <a:gs pos="100000">
                <a:srgbClr val="5500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228600" y="159984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33cc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 type="ftr" idx="5"/>
          </p:nvPr>
        </p:nvSpPr>
        <p:spPr>
          <a:xfrm>
            <a:off x="1980720" y="6552720"/>
            <a:ext cx="6172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pyright © 2004 by Prentice-Hall. All rights reserv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1143000"/>
          </a:xfrm>
          <a:prstGeom prst="rect">
            <a:avLst/>
          </a:prstGeom>
          <a:gradFill rotWithShape="0">
            <a:gsLst>
              <a:gs pos="0">
                <a:srgbClr val="800000"/>
              </a:gs>
              <a:gs pos="100000">
                <a:srgbClr val="5500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228600" y="159984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33cc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ftr" idx="6"/>
          </p:nvPr>
        </p:nvSpPr>
        <p:spPr>
          <a:xfrm>
            <a:off x="1980720" y="6552720"/>
            <a:ext cx="6172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pyright © 2004 by Prentice-Hall. All rights reserv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1143000"/>
          </a:xfrm>
          <a:prstGeom prst="rect">
            <a:avLst/>
          </a:prstGeom>
          <a:gradFill rotWithShape="0">
            <a:gsLst>
              <a:gs pos="0">
                <a:srgbClr val="800000"/>
              </a:gs>
              <a:gs pos="100000">
                <a:srgbClr val="5500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228600" y="159984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33cc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 type="ftr" idx="7"/>
          </p:nvPr>
        </p:nvSpPr>
        <p:spPr>
          <a:xfrm>
            <a:off x="1980720" y="6552720"/>
            <a:ext cx="6172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pyright © 2004 by Prentice-Hall. All rights reserv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s://www.globalreporting.org/Pages/default.aspx" TargetMode="External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228600" y="1142640"/>
            <a:ext cx="8610480" cy="1219320"/>
          </a:xfrm>
          <a:prstGeom prst="rect">
            <a:avLst/>
          </a:prstGeom>
          <a:gradFill rotWithShape="0">
            <a:gsLst>
              <a:gs pos="0">
                <a:srgbClr val="800000"/>
              </a:gs>
              <a:gs pos="100000">
                <a:srgbClr val="5500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Chapter  7</a:t>
            </a:r>
            <a:endParaRPr b="1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228600" y="236232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ories of Social Responsibility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orporate Social Audit a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rporate Sustainabil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1143000"/>
          </a:xfrm>
          <a:prstGeom prst="rect">
            <a:avLst/>
          </a:prstGeom>
          <a:gradFill rotWithShape="0">
            <a:gsLst>
              <a:gs pos="0">
                <a:srgbClr val="800000"/>
              </a:gs>
              <a:gs pos="100000">
                <a:srgbClr val="5500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Corporate Citizenship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(continued)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theory argues that corporations owe a debt to society to make it a better pl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8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s duty arises because of the social power granted on corporation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major criticism of this theory is that the duty of a corporation to “do good” can not be expanded beyond certain lim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8610480" cy="761760"/>
          </a:xfrm>
          <a:prstGeom prst="rect">
            <a:avLst/>
          </a:prstGeom>
          <a:gradFill rotWithShape="0">
            <a:gsLst>
              <a:gs pos="0">
                <a:srgbClr val="800000"/>
              </a:gs>
              <a:gs pos="100000">
                <a:srgbClr val="5500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Theories of Social Responsibility – </a:t>
            </a:r>
            <a:r>
              <a:rPr b="1" lang="en-US" sz="3200" spc="-1" strike="noStrike">
                <a:solidFill>
                  <a:srgbClr val="00b0f0"/>
                </a:solidFill>
                <a:latin typeface="Arial Narrow"/>
              </a:rPr>
              <a:t>Summary 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graphicFrame>
        <p:nvGraphicFramePr>
          <p:cNvPr id="409" name=""/>
          <p:cNvGraphicFramePr/>
          <p:nvPr/>
        </p:nvGraphicFramePr>
        <p:xfrm>
          <a:off x="228600" y="1371600"/>
          <a:ext cx="8686800" cy="4780080"/>
        </p:xfrm>
        <a:graphic>
          <a:graphicData uri="http://schemas.openxmlformats.org/drawingml/2006/table">
            <a:tbl>
              <a:tblPr/>
              <a:tblGrid>
                <a:gridCol w="2819520"/>
                <a:gridCol w="5867280"/>
              </a:tblGrid>
              <a:tr h="6858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heory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solidFill>
                      <a:srgbClr val="ffb3b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ocial Responsibility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solidFill>
                      <a:srgbClr val="ffb3b3"/>
                    </a:solidFill>
                  </a:tcPr>
                </a:tc>
              </a:tr>
              <a:tr h="762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cc"/>
                          </a:solidFill>
                          <a:latin typeface="Arial Narrow"/>
                        </a:rPr>
                        <a:t>Maximizing profits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o maximize profits for stockholders.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8730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cc"/>
                          </a:solidFill>
                          <a:latin typeface="Arial Narrow"/>
                        </a:rPr>
                        <a:t>Moral minimum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o avoid causing harm and to compensate for harm caused.  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3366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cc"/>
                          </a:solidFill>
                          <a:latin typeface="Arial Narrow"/>
                        </a:rPr>
                        <a:t>Stakeholder interest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o consider the interests of all stakeholders, including stockholders, employees, customers, suppliers, creditors, and local community.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224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cc"/>
                          </a:solidFill>
                          <a:latin typeface="Arial Narrow"/>
                        </a:rPr>
                        <a:t>Corporate citizenship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o do good and solve social problems.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</p:spTree>
  </p:cSld>
  <p:transition>
    <p:cover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990360"/>
          </a:xfrm>
          <a:prstGeom prst="rect">
            <a:avLst/>
          </a:prstGeom>
          <a:gradFill rotWithShape="0">
            <a:gsLst>
              <a:gs pos="0">
                <a:srgbClr val="800000"/>
              </a:gs>
              <a:gs pos="100000">
                <a:srgbClr val="5500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The Corporate Social Audit</a:t>
            </a:r>
            <a:br>
              <a:rPr sz="4000"/>
            </a:br>
            <a:endParaRPr b="1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228600" y="1523520"/>
            <a:ext cx="868680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33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Definition of Social Auditing (SA)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is a form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eview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to measure the impact that a corporation has on its clients, staff and society as a whol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purpos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a social responsibility audit is to ensure that the company is doing all it can to support  non-tangible gains such as employee satisfaction, community support and customer loyal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066680"/>
          </a:xfrm>
          <a:prstGeom prst="rect">
            <a:avLst/>
          </a:prstGeom>
          <a:gradFill rotWithShape="0">
            <a:gsLst>
              <a:gs pos="0">
                <a:srgbClr val="800000"/>
              </a:gs>
              <a:gs pos="100000">
                <a:srgbClr val="5500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What is Social Auditing ?</a:t>
            </a:r>
            <a:endParaRPr b="1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61048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A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a management tool and accountability mechanism which can enhance an organization’s capacity 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aluate their impact on stakehol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e how well they are living up to the values they promo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rove their strategic planning process by identifying potential problems before they come up; 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e their accountability to the groups they serve and depend 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174160" cy="1143000"/>
          </a:xfrm>
          <a:prstGeom prst="rect">
            <a:avLst/>
          </a:prstGeom>
          <a:gradFill rotWithShape="0">
            <a:gsLst>
              <a:gs pos="0">
                <a:srgbClr val="800000"/>
              </a:gs>
              <a:gs pos="100000">
                <a:srgbClr val="5500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Reasons to conduct a SA: </a:t>
            </a:r>
            <a:endParaRPr b="1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30592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33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now what is happening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33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nderstand what people think and wan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33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ell people what you are achieving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33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rengthen loyalty / commitmen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33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nhance decision-making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33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mprove overall per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1143000"/>
          </a:xfrm>
          <a:prstGeom prst="rect">
            <a:avLst/>
          </a:prstGeom>
          <a:gradFill rotWithShape="0">
            <a:gsLst>
              <a:gs pos="0">
                <a:srgbClr val="800000"/>
              </a:gs>
              <a:gs pos="100000">
                <a:srgbClr val="5500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The Corporate Social Audit : </a:t>
            </a:r>
            <a:endParaRPr b="1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228600" y="159984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33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ocial audit looks at factors such as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33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a company’s record of charitable giv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33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volunteer activ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33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energy 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33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work environ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spcBef>
                <a:spcPts val="601"/>
              </a:spcBef>
              <a:buClr>
                <a:srgbClr val="cc3300"/>
              </a:buClr>
              <a:buSzPct val="65000"/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Worker safe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spcBef>
                <a:spcPts val="601"/>
              </a:spcBef>
              <a:buClr>
                <a:srgbClr val="cc3300"/>
              </a:buClr>
              <a:buSzPct val="65000"/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onsumer prote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33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ocial audits are optional--companies can choose whether to perform them and whether to release the results publicly or only use them internally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33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1143000"/>
          </a:xfrm>
          <a:prstGeom prst="rect">
            <a:avLst/>
          </a:prstGeom>
          <a:gradFill rotWithShape="0">
            <a:gsLst>
              <a:gs pos="0">
                <a:srgbClr val="800000"/>
              </a:gs>
              <a:gs pos="100000">
                <a:srgbClr val="5500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The Corporate Social Audit : </a:t>
            </a:r>
            <a:endParaRPr b="1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228600" y="17521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orate audits should be extended to include the </a:t>
            </a:r>
            <a:r>
              <a:rPr b="0" i="1" lang="en-US" sz="3200" spc="-1" strike="noStrike">
                <a:solidFill>
                  <a:srgbClr val="0000cc"/>
                </a:solidFill>
                <a:latin typeface="Arial"/>
              </a:rPr>
              <a:t>moral heal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 the corpor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orations that conduct social audits will be more suitable to prevent unethical and illegal behaviors by managers, employees, and representativ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1143000"/>
          </a:xfrm>
          <a:prstGeom prst="rect">
            <a:avLst/>
          </a:prstGeom>
          <a:gradFill rotWithShape="0">
            <a:gsLst>
              <a:gs pos="0">
                <a:srgbClr val="800000"/>
              </a:gs>
              <a:gs pos="100000">
                <a:srgbClr val="5500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The Corporate Social Audit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(continued)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228600" y="1904760"/>
            <a:ext cx="8686800" cy="37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audit would examine how wel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8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mployees have followed the company’s code of ethics; a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8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corporation has met its duty of social responsibility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1143000"/>
          </a:xfrm>
          <a:prstGeom prst="rect">
            <a:avLst/>
          </a:prstGeom>
          <a:gradFill rotWithShape="0">
            <a:gsLst>
              <a:gs pos="0">
                <a:srgbClr val="800000"/>
              </a:gs>
              <a:gs pos="100000">
                <a:srgbClr val="5500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The Corporate Social Audit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(continued)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cc"/>
                </a:solidFill>
                <a:latin typeface="Arial"/>
              </a:rPr>
              <a:t>Companies should institute the following </a:t>
            </a:r>
            <a:r>
              <a:rPr b="0" i="1" lang="en-US" sz="3200" spc="-1" strike="noStrike" u="sng">
                <a:solidFill>
                  <a:srgbClr val="0000cc"/>
                </a:solidFill>
                <a:uFillTx/>
                <a:latin typeface="Arial"/>
              </a:rPr>
              <a:t>procedures</a:t>
            </a:r>
            <a:r>
              <a:rPr b="0" i="1" lang="en-US" sz="3200" spc="-1" strike="noStrike">
                <a:solidFill>
                  <a:srgbClr val="0000cc"/>
                </a:solidFill>
                <a:latin typeface="Arial"/>
              </a:rPr>
              <a:t> when conducting a social audi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independent outside firm should be hired to conduct the au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8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s will ensure autonomy and objectivity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mpany’s staff should cooperate fully with the auditing firm while the audit is being conduct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1143000"/>
          </a:xfrm>
          <a:prstGeom prst="rect">
            <a:avLst/>
          </a:prstGeom>
          <a:gradFill rotWithShape="0">
            <a:gsLst>
              <a:gs pos="0">
                <a:srgbClr val="800000"/>
              </a:gs>
              <a:gs pos="100000">
                <a:srgbClr val="5500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The Corporate Social Audit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(continued)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 u="sng">
                <a:solidFill>
                  <a:srgbClr val="0000cc"/>
                </a:solidFill>
                <a:uFillTx/>
                <a:latin typeface="Arial"/>
              </a:rPr>
              <a:t>Procedures for conducting the audit </a:t>
            </a:r>
            <a:r>
              <a:rPr b="0" i="1" lang="en-US" sz="2000" spc="-1" strike="noStrike" u="sng">
                <a:solidFill>
                  <a:srgbClr val="0000cc"/>
                </a:solidFill>
                <a:uFillTx/>
                <a:latin typeface="Arial"/>
              </a:rPr>
              <a:t>(continued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uditing firm should report its findings directly to the company’s board of directo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0000"/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board of directors should determine how the company ca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8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etter meet its duty of social responsibility; a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8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se the audit to implement a program to correct any insufficiency it finds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1143000"/>
          </a:xfrm>
          <a:prstGeom prst="rect">
            <a:avLst/>
          </a:prstGeom>
          <a:gradFill rotWithShape="0">
            <a:gsLst>
              <a:gs pos="0">
                <a:srgbClr val="800000"/>
              </a:gs>
              <a:gs pos="100000">
                <a:srgbClr val="5500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Theories of Social Responsibility</a:t>
            </a:r>
            <a:endParaRPr b="1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228600" y="1599840"/>
            <a:ext cx="8686800" cy="48769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33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 Theories for Social Responsibility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ximizing Prof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al Minim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keholder Inter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rporate Citizensh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990360"/>
          </a:xfrm>
          <a:prstGeom prst="rect">
            <a:avLst/>
          </a:prstGeom>
          <a:gradFill rotWithShape="0">
            <a:gsLst>
              <a:gs pos="0">
                <a:srgbClr val="800000"/>
              </a:gs>
              <a:gs pos="100000">
                <a:srgbClr val="5500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Corporate Sustainability</a:t>
            </a:r>
            <a:br>
              <a:rPr sz="4000"/>
            </a:br>
            <a:endParaRPr b="1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228600" y="1447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5000"/>
              </a:lnSpc>
              <a:spcBef>
                <a:spcPts val="1001"/>
              </a:spcBef>
              <a:spcAft>
                <a:spcPts val="799"/>
              </a:spcAft>
              <a:buClr>
                <a:srgbClr val="cc33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Corporate sustainability :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olves meeting the needs  of today’s stakeholders  in a manner that protects   the environment and resources needed for future generations, directed at improving a company’s </a:t>
            </a:r>
            <a:r>
              <a:rPr b="1" i="1" lang="en-US" sz="3200" spc="-1" strike="noStrike">
                <a:solidFill>
                  <a:srgbClr val="669900"/>
                </a:solidFill>
                <a:latin typeface="Arial"/>
              </a:rPr>
              <a:t>Triple Bottom line (TBL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1001"/>
              </a:spcBef>
              <a:spcAft>
                <a:spcPts val="799"/>
              </a:spcAft>
              <a:buClr>
                <a:srgbClr val="cc33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9900"/>
                </a:solidFill>
                <a:latin typeface="Arial"/>
              </a:rPr>
              <a:t>The TBL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an accounting framework that includes three dimensions of performance: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ocial, environmental and economi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1143000"/>
          </a:xfrm>
          <a:prstGeom prst="rect">
            <a:avLst/>
          </a:prstGeom>
          <a:gradFill rotWithShape="0">
            <a:gsLst>
              <a:gs pos="0">
                <a:srgbClr val="800000"/>
              </a:gs>
              <a:gs pos="100000">
                <a:srgbClr val="5500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Corporate Sustainability</a:t>
            </a:r>
            <a:endParaRPr b="1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304920" y="1980720"/>
            <a:ext cx="8534160" cy="34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Triple Bottom Line </a:t>
            </a:r>
            <a:r>
              <a:rPr b="1" lang="en-US" sz="3200" spc="-1" strike="noStrike">
                <a:solidFill>
                  <a:srgbClr val="669900"/>
                </a:solidFill>
                <a:latin typeface="Arial"/>
              </a:rPr>
              <a:t>(TBL)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made up of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ci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conomi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nvironment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"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              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People, Profit, Planet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"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1143000"/>
          </a:xfrm>
          <a:prstGeom prst="rect">
            <a:avLst/>
          </a:prstGeom>
          <a:gradFill rotWithShape="0">
            <a:gsLst>
              <a:gs pos="0">
                <a:srgbClr val="800000"/>
              </a:gs>
              <a:gs pos="100000">
                <a:srgbClr val="5500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Triple Bottom Line (TBL)</a:t>
            </a:r>
            <a:endParaRPr b="1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431" name="Picture 2" descr=""/>
          <p:cNvPicPr/>
          <p:nvPr/>
        </p:nvPicPr>
        <p:blipFill>
          <a:blip r:embed="rId1"/>
          <a:stretch/>
        </p:blipFill>
        <p:spPr>
          <a:xfrm>
            <a:off x="762120" y="1905120"/>
            <a:ext cx="7543800" cy="419076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gradFill rotWithShape="0">
            <a:gsLst>
              <a:gs pos="0">
                <a:srgbClr val="800000"/>
              </a:gs>
              <a:gs pos="100000">
                <a:srgbClr val="5500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What is triple bottom line reporting?</a:t>
            </a:r>
            <a:br>
              <a:rPr sz="3600"/>
            </a:br>
            <a:endParaRPr b="1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304920" y="1523520"/>
            <a:ext cx="86104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1a1a"/>
                </a:solidFill>
                <a:latin typeface="Arial"/>
              </a:rPr>
              <a:t>TBL reporting  : 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a framework  for measuring and reporting corporate performance against 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omi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ci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vironmental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ctor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move from one dimensional econom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orting to three dimensional economic, soc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environmental report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 txBox="1"/>
          <p:nvPr/>
        </p:nvSpPr>
        <p:spPr>
          <a:xfrm>
            <a:off x="380880" y="533520"/>
            <a:ext cx="7772400" cy="586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conomic factors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lly accounting princip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stom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li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ployees.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ocial factor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ibery and corrup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ild labor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ing and divers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300"/>
              </a:spcBef>
              <a:buClr>
                <a:srgbClr val="cc33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nvironmental factor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erg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issions, and was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 txBox="1"/>
          <p:nvPr/>
        </p:nvSpPr>
        <p:spPr>
          <a:xfrm>
            <a:off x="456840" y="15998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BL reporting enables organizations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26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Measure and manage their financial and non-      financial  performance. 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26"/>
              </a:spcBef>
              <a:buClr>
                <a:srgbClr val="000000"/>
              </a:buClr>
              <a:buSzPct val="80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Have their performance and impacts demonstrated independently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26"/>
              </a:spcBef>
              <a:buClr>
                <a:srgbClr val="000000"/>
              </a:buClr>
              <a:buSzPct val="8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ommunicate  effectively   with   consumers,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governments, investors, employees, other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takeholders  and  supervisory  groups.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726"/>
              </a:spcBef>
              <a:buClr>
                <a:srgbClr val="cc33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1066680"/>
          </a:xfrm>
          <a:prstGeom prst="rect">
            <a:avLst/>
          </a:prstGeom>
          <a:gradFill rotWithShape="0">
            <a:gsLst>
              <a:gs pos="0">
                <a:srgbClr val="800000"/>
              </a:gs>
              <a:gs pos="100000">
                <a:srgbClr val="5500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Triple Bottom Line </a:t>
            </a:r>
            <a:r>
              <a:rPr b="1" i="1" lang="en-US" sz="3600" spc="-1" strike="noStrike">
                <a:solidFill>
                  <a:srgbClr val="ffffff"/>
                </a:solidFill>
                <a:latin typeface="Arial Narrow"/>
              </a:rPr>
              <a:t>(TBL)</a:t>
            </a:r>
            <a:endParaRPr b="1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>
    <p:cover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990720"/>
          </a:xfrm>
          <a:prstGeom prst="rect">
            <a:avLst/>
          </a:prstGeom>
          <a:gradFill rotWithShape="0">
            <a:gsLst>
              <a:gs pos="0">
                <a:srgbClr val="800000"/>
              </a:gs>
              <a:gs pos="100000">
                <a:srgbClr val="5500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300"/>
            </a:b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How is TBL reporting achieved?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228600" y="13716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30000"/>
              </a:lnSpc>
              <a:spcBef>
                <a:spcPts val="649"/>
              </a:spcBef>
              <a:buClr>
                <a:srgbClr val="cc33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BL reporting achieved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through the application of what is called the </a:t>
            </a:r>
            <a:r>
              <a:rPr b="1" i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Global Reporting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Initiative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 “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GRI’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49"/>
              </a:spcBef>
              <a:buClr>
                <a:srgbClr val="cc33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GRI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   i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s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“a common framework for sustainability reporting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800000"/>
                </a:solidFill>
                <a:uFillTx/>
                <a:latin typeface="Arial"/>
                <a:ea typeface="Times New Roman"/>
                <a:hlinkClick r:id="rId1"/>
              </a:rPr>
              <a:t>https://www.globalreporting.org/Pages/default.asp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49"/>
              </a:spcBef>
              <a:buClr>
                <a:srgbClr val="cc33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Started in 1997 by the combination for Environmentally Responsible Economies and the United Nation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499"/>
              </a:spcBef>
              <a:buClr>
                <a:srgbClr val="cc33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8610480" cy="1218960"/>
          </a:xfrm>
          <a:prstGeom prst="rect">
            <a:avLst/>
          </a:prstGeom>
          <a:gradFill rotWithShape="0">
            <a:gsLst>
              <a:gs pos="0">
                <a:srgbClr val="800000"/>
              </a:gs>
              <a:gs pos="100000">
                <a:srgbClr val="5500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Global Reporting </a:t>
            </a:r>
            <a:r>
              <a:rPr b="1" lang="en-US" sz="36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Initiative</a:t>
            </a:r>
            <a:r>
              <a:rPr b="1" i="1" lang="en-US" sz="36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“</a:t>
            </a:r>
            <a:r>
              <a:rPr b="1" i="1" lang="en-US" sz="36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GRI”</a:t>
            </a:r>
            <a:endParaRPr b="1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228600" y="1752480"/>
            <a:ext cx="86868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cc33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GRI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  became independent in 2002, and is an official collaborating centre of the United Nations Environment Programme (UNEP) and works in cooperation with UN Secretary-General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67" name="Group 4"/>
          <p:cNvGrpSpPr/>
          <p:nvPr/>
        </p:nvGrpSpPr>
        <p:grpSpPr>
          <a:xfrm>
            <a:off x="187200" y="1981080"/>
            <a:ext cx="4384440" cy="2386080"/>
            <a:chOff x="187200" y="1981080"/>
            <a:chExt cx="4384440" cy="2386080"/>
          </a:xfrm>
        </p:grpSpPr>
        <p:sp>
          <p:nvSpPr>
            <p:cNvPr id="368" name="Rectangle 5"/>
            <p:cNvSpPr/>
            <p:nvPr/>
          </p:nvSpPr>
          <p:spPr>
            <a:xfrm>
              <a:off x="217440" y="1981080"/>
              <a:ext cx="2800080" cy="104292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Freeform 6"/>
            <p:cNvSpPr/>
            <p:nvPr/>
          </p:nvSpPr>
          <p:spPr>
            <a:xfrm>
              <a:off x="187200" y="3030480"/>
              <a:ext cx="4384440" cy="1336680"/>
            </a:xfrm>
            <a:prstGeom prst="pie">
              <a:avLst/>
            </a:prstGeom>
            <a:gradFill rotWithShape="0">
              <a:gsLst>
                <a:gs pos="0">
                  <a:srgbClr val="f4b24c"/>
                </a:gs>
                <a:gs pos="100000">
                  <a:srgbClr val="ef9100"/>
                </a:gs>
              </a:gsLst>
              <a:lin ang="5400000"/>
            </a:gra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" name="Freeform 7"/>
            <p:cNvSpPr/>
            <p:nvPr/>
          </p:nvSpPr>
          <p:spPr>
            <a:xfrm>
              <a:off x="3027240" y="1982880"/>
              <a:ext cx="1544400" cy="2384280"/>
            </a:xfrm>
            <a:prstGeom prst="pie">
              <a:avLst/>
            </a:prstGeom>
            <a:gradFill rotWithShape="0">
              <a:gsLst>
                <a:gs pos="0">
                  <a:srgbClr val="f4b24c"/>
                </a:gs>
                <a:gs pos="100000">
                  <a:srgbClr val="ef9100"/>
                </a:gs>
              </a:gsLst>
              <a:lin ang="5400000"/>
            </a:gra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71" name="Group 8"/>
          <p:cNvGrpSpPr/>
          <p:nvPr/>
        </p:nvGrpSpPr>
        <p:grpSpPr>
          <a:xfrm>
            <a:off x="4572000" y="1981080"/>
            <a:ext cx="4410000" cy="2386080"/>
            <a:chOff x="4572000" y="1981080"/>
            <a:chExt cx="4410000" cy="2386080"/>
          </a:xfrm>
        </p:grpSpPr>
        <p:sp>
          <p:nvSpPr>
            <p:cNvPr id="372" name="Freeform 9"/>
            <p:cNvSpPr/>
            <p:nvPr/>
          </p:nvSpPr>
          <p:spPr>
            <a:xfrm>
              <a:off x="4572000" y="3031920"/>
              <a:ext cx="4410000" cy="1335240"/>
            </a:xfrm>
            <a:prstGeom prst="pie">
              <a:avLst/>
            </a:prstGeom>
            <a:gradFill rotWithShape="0">
              <a:gsLst>
                <a:gs pos="0">
                  <a:srgbClr val="f4b24c"/>
                </a:gs>
                <a:gs pos="100000">
                  <a:srgbClr val="ef9100"/>
                </a:gs>
              </a:gsLst>
              <a:lin ang="5400000"/>
            </a:gra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Freeform 10"/>
            <p:cNvSpPr/>
            <p:nvPr/>
          </p:nvSpPr>
          <p:spPr>
            <a:xfrm>
              <a:off x="4572000" y="1984320"/>
              <a:ext cx="1563840" cy="2382840"/>
            </a:xfrm>
            <a:prstGeom prst="pie">
              <a:avLst/>
            </a:prstGeom>
            <a:gradFill rotWithShape="0">
              <a:gsLst>
                <a:gs pos="0">
                  <a:srgbClr val="f4b24c"/>
                </a:gs>
                <a:gs pos="100000">
                  <a:srgbClr val="ef9100"/>
                </a:gs>
              </a:gsLst>
              <a:lin ang="5400000"/>
            </a:gra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" name="Rectangle 11"/>
            <p:cNvSpPr/>
            <p:nvPr/>
          </p:nvSpPr>
          <p:spPr>
            <a:xfrm>
              <a:off x="6151680" y="1981080"/>
              <a:ext cx="2800080" cy="104292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75" name="Group 12"/>
          <p:cNvGrpSpPr/>
          <p:nvPr/>
        </p:nvGrpSpPr>
        <p:grpSpPr>
          <a:xfrm>
            <a:off x="41400" y="4114800"/>
            <a:ext cx="4530600" cy="1344600"/>
            <a:chOff x="41400" y="4114800"/>
            <a:chExt cx="4530600" cy="1344600"/>
          </a:xfrm>
        </p:grpSpPr>
        <p:sp>
          <p:nvSpPr>
            <p:cNvPr id="376" name="Rectangle 13"/>
            <p:cNvSpPr/>
            <p:nvPr/>
          </p:nvSpPr>
          <p:spPr>
            <a:xfrm>
              <a:off x="46080" y="4121280"/>
              <a:ext cx="2800440" cy="104292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Freeform 14"/>
            <p:cNvSpPr/>
            <p:nvPr/>
          </p:nvSpPr>
          <p:spPr>
            <a:xfrm>
              <a:off x="2854440" y="4114800"/>
              <a:ext cx="1704960" cy="1330560"/>
            </a:xfrm>
            <a:prstGeom prst="pie">
              <a:avLst/>
            </a:prstGeom>
            <a:gradFill rotWithShape="0">
              <a:gsLst>
                <a:gs pos="0">
                  <a:srgbClr val="f4b24c"/>
                </a:gs>
                <a:gs pos="100000">
                  <a:srgbClr val="ef9100"/>
                </a:gs>
              </a:gsLst>
              <a:lin ang="5400000"/>
            </a:gra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Freeform 15"/>
            <p:cNvSpPr/>
            <p:nvPr/>
          </p:nvSpPr>
          <p:spPr>
            <a:xfrm>
              <a:off x="41400" y="5172120"/>
              <a:ext cx="4530600" cy="287280"/>
            </a:xfrm>
            <a:prstGeom prst="pie">
              <a:avLst/>
            </a:prstGeom>
            <a:gradFill rotWithShape="0">
              <a:gsLst>
                <a:gs pos="0">
                  <a:srgbClr val="f4b24c"/>
                </a:gs>
                <a:gs pos="100000">
                  <a:srgbClr val="ef9100"/>
                </a:gs>
              </a:gsLst>
              <a:lin ang="5400000"/>
            </a:gra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79" name="Group 16"/>
          <p:cNvGrpSpPr/>
          <p:nvPr/>
        </p:nvGrpSpPr>
        <p:grpSpPr>
          <a:xfrm>
            <a:off x="4572000" y="4114800"/>
            <a:ext cx="4508640" cy="1338120"/>
            <a:chOff x="4572000" y="4114800"/>
            <a:chExt cx="4508640" cy="1338120"/>
          </a:xfrm>
        </p:grpSpPr>
        <p:sp>
          <p:nvSpPr>
            <p:cNvPr id="380" name="Rectangle 17"/>
            <p:cNvSpPr/>
            <p:nvPr/>
          </p:nvSpPr>
          <p:spPr>
            <a:xfrm>
              <a:off x="6280200" y="4114800"/>
              <a:ext cx="2800440" cy="104292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Freeform 18"/>
            <p:cNvSpPr/>
            <p:nvPr/>
          </p:nvSpPr>
          <p:spPr>
            <a:xfrm>
              <a:off x="4572000" y="4127400"/>
              <a:ext cx="1701720" cy="1309680"/>
            </a:xfrm>
            <a:prstGeom prst="pie">
              <a:avLst/>
            </a:prstGeom>
            <a:gradFill rotWithShape="0">
              <a:gsLst>
                <a:gs pos="0">
                  <a:srgbClr val="f4b24c"/>
                </a:gs>
                <a:gs pos="100000">
                  <a:srgbClr val="ef9100"/>
                </a:gs>
              </a:gsLst>
              <a:lin ang="5400000"/>
            </a:gra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Freeform 19"/>
            <p:cNvSpPr/>
            <p:nvPr/>
          </p:nvSpPr>
          <p:spPr>
            <a:xfrm>
              <a:off x="4572000" y="5165640"/>
              <a:ext cx="4498920" cy="287280"/>
            </a:xfrm>
            <a:prstGeom prst="pie">
              <a:avLst/>
            </a:prstGeom>
            <a:gradFill rotWithShape="0">
              <a:gsLst>
                <a:gs pos="0">
                  <a:srgbClr val="f4b24c"/>
                </a:gs>
                <a:gs pos="100000">
                  <a:srgbClr val="ef9100"/>
                </a:gs>
              </a:gsLst>
              <a:lin ang="5400000"/>
            </a:gra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83" name="Rectangle 20"/>
          <p:cNvSpPr/>
          <p:nvPr/>
        </p:nvSpPr>
        <p:spPr>
          <a:xfrm>
            <a:off x="3149640" y="3657600"/>
            <a:ext cx="2844720" cy="19810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  <a:effectLst>
            <a:outerShdw dist="107932" dir="8100000" blurRad="0" rotWithShape="0">
              <a:srgbClr val="79001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1143000"/>
          </a:xfrm>
          <a:prstGeom prst="rect">
            <a:avLst/>
          </a:prstGeom>
          <a:gradFill rotWithShape="0">
            <a:gsLst>
              <a:gs pos="0">
                <a:srgbClr val="800000"/>
              </a:gs>
              <a:gs pos="100000">
                <a:srgbClr val="5500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Theories of Social Responsibility</a:t>
            </a:r>
            <a:endParaRPr b="1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385" name="Picture 22" descr="bd07012_"/>
          <p:cNvPicPr/>
          <p:nvPr/>
        </p:nvPicPr>
        <p:blipFill>
          <a:blip r:embed="rId2"/>
          <a:stretch/>
        </p:blipFill>
        <p:spPr>
          <a:xfrm>
            <a:off x="3962520" y="3733920"/>
            <a:ext cx="1220760" cy="1807920"/>
          </a:xfrm>
          <a:prstGeom prst="rect">
            <a:avLst/>
          </a:prstGeom>
          <a:ln w="0">
            <a:noFill/>
          </a:ln>
        </p:spPr>
      </p:pic>
      <p:sp>
        <p:nvSpPr>
          <p:cNvPr id="386" name="Text Box 23"/>
          <p:cNvSpPr/>
          <p:nvPr/>
        </p:nvSpPr>
        <p:spPr>
          <a:xfrm>
            <a:off x="304920" y="2057400"/>
            <a:ext cx="2666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Maximizing Profi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Text Box 24"/>
          <p:cNvSpPr/>
          <p:nvPr/>
        </p:nvSpPr>
        <p:spPr>
          <a:xfrm>
            <a:off x="6248520" y="2057400"/>
            <a:ext cx="2666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Moral Minim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Text Box 25"/>
          <p:cNvSpPr/>
          <p:nvPr/>
        </p:nvSpPr>
        <p:spPr>
          <a:xfrm>
            <a:off x="6324480" y="4191120"/>
            <a:ext cx="2667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Stakeholder Intere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Text Box 26"/>
          <p:cNvSpPr/>
          <p:nvPr/>
        </p:nvSpPr>
        <p:spPr>
          <a:xfrm>
            <a:off x="152280" y="4191120"/>
            <a:ext cx="2667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Corporate Citizenshi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1066680"/>
          </a:xfrm>
          <a:prstGeom prst="rect">
            <a:avLst/>
          </a:prstGeom>
          <a:gradFill rotWithShape="0">
            <a:gsLst>
              <a:gs pos="0">
                <a:srgbClr val="800000"/>
              </a:gs>
              <a:gs pos="100000">
                <a:srgbClr val="5500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1. Maximizing Profits</a:t>
            </a:r>
            <a:endParaRPr b="1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228600" y="1752480"/>
            <a:ext cx="8686800" cy="381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theory of social responsibility that says a corporation has a duty to take actions that maximize profits for sharehold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interests of other stakeholder are not importa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8610480" cy="914400"/>
          </a:xfrm>
          <a:prstGeom prst="rect">
            <a:avLst/>
          </a:prstGeom>
          <a:gradFill rotWithShape="0">
            <a:gsLst>
              <a:gs pos="0">
                <a:srgbClr val="800000"/>
              </a:gs>
              <a:gs pos="100000">
                <a:srgbClr val="5500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2. Moral Minimum</a:t>
            </a:r>
            <a:endParaRPr b="1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868680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theory of social responsibility that says a corporation’s duty is to make a profit while </a:t>
            </a:r>
            <a:r>
              <a:rPr b="0" i="1" lang="en-US" sz="3200" spc="-1" strike="noStrike">
                <a:solidFill>
                  <a:srgbClr val="0000cc"/>
                </a:solidFill>
                <a:latin typeface="Arial"/>
              </a:rPr>
              <a:t>avoiding harm to other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long as business avoids or corrects the social injury, it has met its duty of social responsibil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1143000"/>
          </a:xfrm>
          <a:prstGeom prst="rect">
            <a:avLst/>
          </a:prstGeom>
          <a:gradFill rotWithShape="0">
            <a:gsLst>
              <a:gs pos="0">
                <a:srgbClr val="800000"/>
              </a:gs>
              <a:gs pos="100000">
                <a:srgbClr val="5500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Moral Minimum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(continued)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legislative </a:t>
            </a:r>
            <a:r>
              <a:rPr b="0" lang="ar-SA" sz="1600" spc="-1" strike="noStrike">
                <a:solidFill>
                  <a:srgbClr val="000000"/>
                </a:solidFill>
                <a:latin typeface="Arial"/>
              </a:rPr>
              <a:t>التشريعية</a:t>
            </a:r>
            <a:r>
              <a:rPr b="0" lang="ar-SA" sz="1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judicial branches of government have established laws that enforce the moral minimum of social responsibility on corpor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8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.g., Occupational safety law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8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.g., Consumer protection laws for product safety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8610480" cy="838080"/>
          </a:xfrm>
          <a:prstGeom prst="rect">
            <a:avLst/>
          </a:prstGeom>
          <a:gradFill rotWithShape="0">
            <a:gsLst>
              <a:gs pos="0">
                <a:srgbClr val="800000"/>
              </a:gs>
              <a:gs pos="100000">
                <a:srgbClr val="5500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3.  Stakeholder Interest</a:t>
            </a:r>
            <a:endParaRPr b="1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theory of social responsibility that says a corporation must consider the interests of all stakeholders, including stockholders, employees, customers, suppliers, creditors, and local community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theory was criticized because it is difficult to harmonize the conflicting interests of stakehold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Picture 2" descr="jigsaw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914400" y="685800"/>
            <a:ext cx="6934320" cy="5562720"/>
          </a:xfrm>
          <a:prstGeom prst="rect">
            <a:avLst/>
          </a:prstGeom>
          <a:ln w="0">
            <a:noFill/>
          </a:ln>
        </p:spPr>
      </p:pic>
      <p:sp>
        <p:nvSpPr>
          <p:cNvPr id="399" name="Text Box 4"/>
          <p:cNvSpPr/>
          <p:nvPr/>
        </p:nvSpPr>
        <p:spPr>
          <a:xfrm>
            <a:off x="2743200" y="342900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Custom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Text Box 5"/>
          <p:cNvSpPr/>
          <p:nvPr/>
        </p:nvSpPr>
        <p:spPr>
          <a:xfrm>
            <a:off x="1295280" y="1600200"/>
            <a:ext cx="289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Employe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Text Box 6"/>
          <p:cNvSpPr/>
          <p:nvPr/>
        </p:nvSpPr>
        <p:spPr>
          <a:xfrm>
            <a:off x="5029200" y="1600200"/>
            <a:ext cx="289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Suppli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Text Box 7"/>
          <p:cNvSpPr/>
          <p:nvPr/>
        </p:nvSpPr>
        <p:spPr>
          <a:xfrm>
            <a:off x="5029200" y="4952880"/>
            <a:ext cx="2895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Local Commun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Text Box 8"/>
          <p:cNvSpPr/>
          <p:nvPr/>
        </p:nvSpPr>
        <p:spPr>
          <a:xfrm>
            <a:off x="1143000" y="5105520"/>
            <a:ext cx="289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Credito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1143000"/>
          </a:xfrm>
          <a:prstGeom prst="rect">
            <a:avLst/>
          </a:prstGeom>
          <a:gradFill rotWithShape="0">
            <a:gsLst>
              <a:gs pos="0">
                <a:srgbClr val="800000"/>
              </a:gs>
              <a:gs pos="100000">
                <a:srgbClr val="5500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4. Corporate Citizenship</a:t>
            </a:r>
            <a:endParaRPr b="1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theory of responsibility that says a business has a responsibility to do good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lping to solve social probl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orations owe a duty to promote the same social goals as do individual members of socie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18T00:17:46Z</dcterms:created>
  <dc:creator>Les Wiletzky, SPHR</dc:creator>
  <dc:description>07-19-2002
rev 12-31-2002</dc:description>
  <dc:language>en-US</dc:language>
  <cp:lastModifiedBy>User</cp:lastModifiedBy>
  <dcterms:modified xsi:type="dcterms:W3CDTF">2013-11-09T13:40:04Z</dcterms:modified>
  <cp:revision>133</cp:revision>
  <dc:subject>Cheeseman, Business Law 5e</dc:subject>
  <dc:title>Chapter 007 - Ethics &amp; Social Responsibility of Business</dc:title>
</cp:coreProperties>
</file>