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wmf" ContentType="image/x-wm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dt" idx="8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lick to move the slide</a:t>
            </a: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ftr" idx="9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 type="sldNum" idx="10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21910-CB0B-4086-A991-71ED2D226E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C2493-2DE2-44DC-9C85-F6A855E5C7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Rectangle 2"/>
          <p:cNvSpPr/>
          <p:nvPr/>
        </p:nvSpPr>
        <p:spPr>
          <a:xfrm>
            <a:off x="3884760" y="-3240"/>
            <a:ext cx="297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Rectangle 3"/>
          <p:cNvSpPr/>
          <p:nvPr/>
        </p:nvSpPr>
        <p:spPr>
          <a:xfrm>
            <a:off x="3884760" y="8685360"/>
            <a:ext cx="29746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-3240" y="868536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Rectangle 5"/>
          <p:cNvSpPr/>
          <p:nvPr/>
        </p:nvSpPr>
        <p:spPr>
          <a:xfrm>
            <a:off x="-3240" y="-3240"/>
            <a:ext cx="297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28600" y="414720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228600" y="41472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80000" y="41472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228600" y="414720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228600" y="414720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228600" y="41472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80000" y="41472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165840" y="15998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102720" y="15998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228600" y="41472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165840" y="41472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102720" y="41472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41472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0000" y="41472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65840" y="15998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02720" y="15998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28600" y="41472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65840" y="41472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02720" y="41472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28600" y="41472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0000" y="41472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28600" y="414720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28600" y="414720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600" y="41472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0000" y="41472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65840" y="15998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02720" y="15998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28600" y="41472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65840" y="41472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02720" y="41472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228600" y="41472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80000" y="41472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28600" y="414720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228600" y="414720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28600" y="41472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80000" y="41472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165840" y="15998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02720" y="15998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228600" y="41472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165840" y="41472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102720" y="41472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228600" y="41472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80000" y="41472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228600" y="414720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28600" y="414720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28600" y="41472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80000" y="41472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165840" y="15998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102720" y="15998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228600" y="41472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165840" y="41472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102720" y="41472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28600" y="41472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80000" y="41472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28600" y="414720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228600" y="414720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28600" y="41472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80000" y="41472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165840" y="15998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102720" y="15998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228600" y="41472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165840" y="41472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102720" y="41472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228600" y="41472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80000" y="41472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228600" y="414720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28600" y="41472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228600" y="414720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1472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80000" y="41472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165840" y="15998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102720" y="15998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228600" y="41472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165840" y="41472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102720" y="41472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228600" y="41472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0000" y="41472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80000" y="41472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228600" y="414720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228600" y="414720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228600" y="41472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80000" y="41472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165840" y="15998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102720" y="15998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228600" y="41472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165840" y="41472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102720" y="41472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414720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228600" y="41472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80000" y="41472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228600" y="414720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228600" y="414720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228600" y="41472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80000" y="41472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165840" y="15998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102720" y="15998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228600" y="41472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165840" y="41472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102720" y="41472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5500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cc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Line 2"/>
          <p:cNvSpPr/>
          <p:nvPr/>
        </p:nvSpPr>
        <p:spPr>
          <a:xfrm>
            <a:off x="0" y="2362320"/>
            <a:ext cx="9147240" cy="0"/>
          </a:xfrm>
          <a:prstGeom prst="line">
            <a:avLst/>
          </a:prstGeom>
          <a:ln cap="sq"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Arc 3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99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Text Box 10"/>
          <p:cNvSpPr/>
          <p:nvPr/>
        </p:nvSpPr>
        <p:spPr>
          <a:xfrm>
            <a:off x="2971800" y="6553080"/>
            <a:ext cx="601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 © 2004 by Prentice-Hal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All rights reserv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Text Box 11"/>
          <p:cNvSpPr/>
          <p:nvPr/>
        </p:nvSpPr>
        <p:spPr>
          <a:xfrm>
            <a:off x="1905120" y="152280"/>
            <a:ext cx="4343400" cy="21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Verdana"/>
              </a:rPr>
              <a:t>PowerPoint Slides to Accompan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Verdana"/>
              </a:rPr>
              <a:t>BUSINESS LA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Verdana"/>
              </a:rPr>
              <a:t>E-Commerce and Digital Law International Law and Ethi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Verdana"/>
              </a:rPr>
              <a:t>5</a:t>
            </a:r>
            <a:r>
              <a:rPr b="0" lang="en-US" sz="2000" spc="-1" strike="noStrike" baseline="30000">
                <a:solidFill>
                  <a:srgbClr val="8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800000"/>
                </a:solidFill>
                <a:latin typeface="Verdana"/>
              </a:rPr>
              <a:t> Edi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Verdana"/>
              </a:rPr>
              <a:t>by Henry R. Cheesem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3048120" y="5410080"/>
            <a:ext cx="5105160" cy="9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0000"/>
                </a:solidFill>
                <a:latin typeface="Verdana"/>
              </a:rPr>
              <a:t>Slides developed by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0000"/>
                </a:solidFill>
                <a:latin typeface="Verdana"/>
              </a:rPr>
              <a:t>Les Wiletzky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0000"/>
                </a:solidFill>
                <a:latin typeface="Verdana"/>
              </a:rPr>
              <a:t>Wiletzky and Associates, Puyallup, WA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5500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5500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cc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1"/>
          </p:nvPr>
        </p:nvSpPr>
        <p:spPr>
          <a:xfrm>
            <a:off x="1980720" y="6552720"/>
            <a:ext cx="6172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right © 2004 by Prentice-Hall. All rights reser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5500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cc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ftr" idx="2"/>
          </p:nvPr>
        </p:nvSpPr>
        <p:spPr>
          <a:xfrm>
            <a:off x="1980720" y="6552720"/>
            <a:ext cx="6172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right © 2004 by Prentice-Hall. All rights reser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5500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cc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ftr" idx="3"/>
          </p:nvPr>
        </p:nvSpPr>
        <p:spPr>
          <a:xfrm>
            <a:off x="1980720" y="6552720"/>
            <a:ext cx="6172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right © 2004 by Prentice-Hall. All rights reser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5500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cc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ftr" idx="4"/>
          </p:nvPr>
        </p:nvSpPr>
        <p:spPr>
          <a:xfrm>
            <a:off x="1980720" y="6552720"/>
            <a:ext cx="6172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right © 2004 by Prentice-Hall. All rights reser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5500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cc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ftr" idx="5"/>
          </p:nvPr>
        </p:nvSpPr>
        <p:spPr>
          <a:xfrm>
            <a:off x="1980720" y="6552720"/>
            <a:ext cx="6172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right © 2004 by Prentice-Hall. All rights reser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5500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cc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ftr" idx="6"/>
          </p:nvPr>
        </p:nvSpPr>
        <p:spPr>
          <a:xfrm>
            <a:off x="1980720" y="6552720"/>
            <a:ext cx="6172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right © 2004 by Prentice-Hall. All rights reser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5500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cc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ftr" idx="7"/>
          </p:nvPr>
        </p:nvSpPr>
        <p:spPr>
          <a:xfrm>
            <a:off x="1980720" y="6552720"/>
            <a:ext cx="6172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pyright © 2004 by Prentice-Hall. All rights reser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s://www.globalreporting.org/Pages/default.aspx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28600" y="1142640"/>
            <a:ext cx="8610480" cy="121932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5500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hapter  7</a:t>
            </a: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228600" y="23623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ories of Social Responsibility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rporate Social Audit 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porate Sustain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5500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Corporate Citizenship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(continued)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theory argues that corporations owe a debt to society to make it a better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8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duty arises because of the social power granted on corpora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ajor criticism of this theory is that the duty of a corporation to “do good” can not be expanded beyond certain lim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10480" cy="76176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5500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Theories of Social Responsibility – </a:t>
            </a:r>
            <a:r>
              <a:rPr b="1" lang="en-US" sz="3200" spc="-1" strike="noStrike">
                <a:solidFill>
                  <a:srgbClr val="00b0f0"/>
                </a:solidFill>
                <a:latin typeface="Arial Narrow"/>
              </a:rPr>
              <a:t>Summary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228600" y="1371600"/>
          <a:ext cx="8686800" cy="4780080"/>
        </p:xfrm>
        <a:graphic>
          <a:graphicData uri="http://schemas.openxmlformats.org/drawingml/2006/table">
            <a:tbl>
              <a:tblPr/>
              <a:tblGrid>
                <a:gridCol w="2819520"/>
                <a:gridCol w="5867280"/>
              </a:tblGrid>
              <a:tr h="685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heory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fb3b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ocial Responsibility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fb3b3"/>
                    </a:solidFill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Maximizing profits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 maximize profits for stockholders.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73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Moral minimum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 avoid causing harm and to compensate for harm caused. 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336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Stakeholder interest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 consider the interests of all stakeholders, including stockholders, employees, customers, suppliers, creditors, and local community.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22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Corporate citizenship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 do good and solve social problems.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99036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5500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The Corporate Social Audit</a:t>
            </a: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228600" y="15235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Definition of Social Auditing (SA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is a form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view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measure the impact that a corporation has on its clients, staff and society as a who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urpos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a social responsibility audit is to ensure that the company is doing all it can to support  non-tangible gains such as employee satisfaction, community support and customer loyal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06668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5500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What is Social Auditing ?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management tool and accountability mechanism which can enhance an organization’s capacity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their impact on stakehol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how well they are living up to the values they promo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 their strategic planning process by identifying potential problems before they come up;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their accountability to the groups they serve and depend 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74160" cy="114300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5500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Reasons to conduct a SA: 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now what is happen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derstand what people think and wa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ll people what you are achiev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rengthen loyalty / commitme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hance decision-mak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mprove overall per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5500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The Corporate Social Audit : 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ocial audit looks at factors such a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a company’s record of charitable giv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volunteer ac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energy 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work enviro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spcBef>
                <a:spcPts val="601"/>
              </a:spcBef>
              <a:buClr>
                <a:srgbClr val="cc3300"/>
              </a:buClr>
              <a:buSzPct val="6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Worker safe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spcBef>
                <a:spcPts val="601"/>
              </a:spcBef>
              <a:buClr>
                <a:srgbClr val="cc3300"/>
              </a:buClr>
              <a:buSzPct val="6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onsumer prot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cial audits are optional--companies can choose whether to perform them and whether to release the results publicly or only use them internally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5500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The Corporate Social Audit : 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orate audits should be extended to include the </a:t>
            </a:r>
            <a:r>
              <a:rPr b="0" i="1" lang="en-US" sz="3200" spc="-1" strike="noStrike">
                <a:solidFill>
                  <a:srgbClr val="0000cc"/>
                </a:solidFill>
                <a:latin typeface="Arial"/>
              </a:rPr>
              <a:t>moral heal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the corpo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orations that conduct social audits will be more suitable to prevent unethical and illegal behaviors by managers, employees, and representat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5500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The Corporate Social Audit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(continued)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868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audit would examine how we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8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mployees have followed the company’s code of ethics; 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8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corporation has met its duty of social responsibili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5500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The Corporate Social Audit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(continued)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cc"/>
                </a:solidFill>
                <a:latin typeface="Arial"/>
              </a:rPr>
              <a:t>Companies should institute the following </a:t>
            </a:r>
            <a:r>
              <a:rPr b="0" i="1" lang="en-US" sz="3200" spc="-1" strike="noStrike" u="sng">
                <a:solidFill>
                  <a:srgbClr val="0000cc"/>
                </a:solidFill>
                <a:uFillTx/>
                <a:latin typeface="Arial"/>
              </a:rPr>
              <a:t>procedures</a:t>
            </a:r>
            <a:r>
              <a:rPr b="0" i="1" lang="en-US" sz="3200" spc="-1" strike="noStrike">
                <a:solidFill>
                  <a:srgbClr val="0000cc"/>
                </a:solidFill>
                <a:latin typeface="Arial"/>
              </a:rPr>
              <a:t> when conducting a social aud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dependent outside firm should be hired to conduct the au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8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will ensure autonomy and objectivi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pany’s staff should cooperate fully with the auditing firm while the audit is being conduc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5500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The Corporate Social Audit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(continued)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 u="sng">
                <a:solidFill>
                  <a:srgbClr val="0000cc"/>
                </a:solidFill>
                <a:uFillTx/>
                <a:latin typeface="Arial"/>
              </a:rPr>
              <a:t>Procedures for conducting the audit </a:t>
            </a:r>
            <a:r>
              <a:rPr b="0" i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(continued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uditing firm should report its findings directly to the company’s board of direc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oard of directors should determine how the company c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8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tter meet its duty of social responsibility; 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8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the audit to implement a program to correct any insufficiency it find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5500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Theories of Social Responsibility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 Theories for Social Responsibilit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imizing Pro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al Minim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keholder Inte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porate Citize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99036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5500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Corporate Sustainability</a:t>
            </a: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2286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5000"/>
              </a:lnSpc>
              <a:spcBef>
                <a:spcPts val="1001"/>
              </a:spcBef>
              <a:spcAft>
                <a:spcPts val="799"/>
              </a:spcAft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Corporate sustainability :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es meeting the needs  of today’s stakeholders  in a manner that protects   the environment and resources needed for future generations, directed at improving a company’s </a:t>
            </a:r>
            <a:r>
              <a:rPr b="1" i="1" lang="en-US" sz="3200" spc="-1" strike="noStrike">
                <a:solidFill>
                  <a:srgbClr val="669900"/>
                </a:solidFill>
                <a:latin typeface="Arial"/>
              </a:rPr>
              <a:t>Triple Bottom line (TBL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001"/>
              </a:spcBef>
              <a:spcAft>
                <a:spcPts val="799"/>
              </a:spcAft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9900"/>
                </a:solidFill>
                <a:latin typeface="Arial"/>
              </a:rPr>
              <a:t>The TB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n accounting framework that includes three dimensions of performance: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ocial, environmental and econom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5500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Corporate Sustainability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304920" y="1980720"/>
            <a:ext cx="853416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riple Bottom Line </a:t>
            </a:r>
            <a:r>
              <a:rPr b="1" lang="en-US" sz="3200" spc="-1" strike="noStrike">
                <a:solidFill>
                  <a:srgbClr val="669900"/>
                </a:solidFill>
                <a:latin typeface="Arial"/>
              </a:rPr>
              <a:t>(TBL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made up of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ci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conom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vironment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People, Profit, Plane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5500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Triple Bottom Line (TBL)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431" name="Picture 2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543800" cy="41907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5500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What is triple bottom line reporting?</a:t>
            </a:r>
            <a:br>
              <a:rPr sz="3600"/>
            </a:b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304920" y="152352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1a1a"/>
                </a:solidFill>
                <a:latin typeface="Arial"/>
              </a:rPr>
              <a:t>TBL reporting  :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framework  for measuring and reporting corporate performance against 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om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ci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vironment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ove from one dimensional econom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ing to three dimensional economic,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environmental repor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80880" y="5335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conomic factor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ly accounting princip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i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loyees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ocial factor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bery and corru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 labor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 and divers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300"/>
              </a:spcBef>
              <a:buClr>
                <a:srgbClr val="cc33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nvironmental factor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issions, and was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456840" y="15998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BL reporting enables organization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easure and manage their financial and non-      financial  performance.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000000"/>
              </a:buClr>
              <a:buSzPct val="8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Have their performance and impacts demonstrated independently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000000"/>
              </a:buClr>
              <a:buSzPct val="8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mmunicate  effectively   with   consumers,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overnments, investors, employees, othe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takeholders  and  supervisory  groups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26"/>
              </a:spcBef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06668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5500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Triple Bottom Line </a:t>
            </a:r>
            <a:r>
              <a:rPr b="1" i="1" lang="en-US" sz="3600" spc="-1" strike="noStrike">
                <a:solidFill>
                  <a:srgbClr val="ffffff"/>
                </a:solidFill>
                <a:latin typeface="Arial Narrow"/>
              </a:rPr>
              <a:t>(TBL)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99072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5500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How is TBL reporting achieved?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228600" y="13716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BL reporting achieved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through the application of what is called the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Global Reporting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Initiative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“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GRI’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GRI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  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“a common framework for sustainability repor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800000"/>
                </a:solidFill>
                <a:uFillTx/>
                <a:latin typeface="Arial"/>
                <a:ea typeface="Times New Roman"/>
                <a:hlinkClick r:id="rId1"/>
              </a:rPr>
              <a:t>https://www.globalreporting.org/Pages/default.asp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Started in 1997 by the combination for Environmentally Responsible Economies and the United Na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10480" cy="121896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5500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Global Reporting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Initiative</a:t>
            </a:r>
            <a:r>
              <a:rPr b="1" i="1" lang="en-US" sz="3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“</a:t>
            </a:r>
            <a:r>
              <a:rPr b="1" i="1" lang="en-US" sz="3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GRI”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228600" y="175248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GR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 became independent in 2002, and is an official collaborating centre of the United Nations Environment Programme (UNEP) and works in cooperation with UN Secretary-Gener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7" name="Group 4"/>
          <p:cNvGrpSpPr/>
          <p:nvPr/>
        </p:nvGrpSpPr>
        <p:grpSpPr>
          <a:xfrm>
            <a:off x="187200" y="1981080"/>
            <a:ext cx="4384440" cy="2386080"/>
            <a:chOff x="187200" y="1981080"/>
            <a:chExt cx="4384440" cy="2386080"/>
          </a:xfrm>
        </p:grpSpPr>
        <p:sp>
          <p:nvSpPr>
            <p:cNvPr id="368" name="Rectangle 5"/>
            <p:cNvSpPr/>
            <p:nvPr/>
          </p:nvSpPr>
          <p:spPr>
            <a:xfrm>
              <a:off x="217440" y="1981080"/>
              <a:ext cx="2800080" cy="10429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Freeform 6"/>
            <p:cNvSpPr/>
            <p:nvPr/>
          </p:nvSpPr>
          <p:spPr>
            <a:xfrm>
              <a:off x="187200" y="3030480"/>
              <a:ext cx="4384440" cy="1336680"/>
            </a:xfrm>
            <a:prstGeom prst="pie">
              <a:avLst/>
            </a:prstGeom>
            <a:gradFill rotWithShape="0">
              <a:gsLst>
                <a:gs pos="0">
                  <a:srgbClr val="f4b24c"/>
                </a:gs>
                <a:gs pos="100000">
                  <a:srgbClr val="ef9100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Freeform 7"/>
            <p:cNvSpPr/>
            <p:nvPr/>
          </p:nvSpPr>
          <p:spPr>
            <a:xfrm>
              <a:off x="3027240" y="1982880"/>
              <a:ext cx="1544400" cy="2384280"/>
            </a:xfrm>
            <a:prstGeom prst="pie">
              <a:avLst/>
            </a:prstGeom>
            <a:gradFill rotWithShape="0">
              <a:gsLst>
                <a:gs pos="0">
                  <a:srgbClr val="f4b24c"/>
                </a:gs>
                <a:gs pos="100000">
                  <a:srgbClr val="ef9100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1" name="Group 8"/>
          <p:cNvGrpSpPr/>
          <p:nvPr/>
        </p:nvGrpSpPr>
        <p:grpSpPr>
          <a:xfrm>
            <a:off x="4572000" y="1981080"/>
            <a:ext cx="4410000" cy="2386080"/>
            <a:chOff x="4572000" y="1981080"/>
            <a:chExt cx="4410000" cy="2386080"/>
          </a:xfrm>
        </p:grpSpPr>
        <p:sp>
          <p:nvSpPr>
            <p:cNvPr id="372" name="Freeform 9"/>
            <p:cNvSpPr/>
            <p:nvPr/>
          </p:nvSpPr>
          <p:spPr>
            <a:xfrm>
              <a:off x="4572000" y="3031920"/>
              <a:ext cx="4410000" cy="1335240"/>
            </a:xfrm>
            <a:prstGeom prst="pie">
              <a:avLst/>
            </a:prstGeom>
            <a:gradFill rotWithShape="0">
              <a:gsLst>
                <a:gs pos="0">
                  <a:srgbClr val="f4b24c"/>
                </a:gs>
                <a:gs pos="100000">
                  <a:srgbClr val="ef9100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Freeform 10"/>
            <p:cNvSpPr/>
            <p:nvPr/>
          </p:nvSpPr>
          <p:spPr>
            <a:xfrm>
              <a:off x="4572000" y="1984320"/>
              <a:ext cx="1563840" cy="2382840"/>
            </a:xfrm>
            <a:prstGeom prst="pie">
              <a:avLst/>
            </a:prstGeom>
            <a:gradFill rotWithShape="0">
              <a:gsLst>
                <a:gs pos="0">
                  <a:srgbClr val="f4b24c"/>
                </a:gs>
                <a:gs pos="100000">
                  <a:srgbClr val="ef9100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Rectangle 11"/>
            <p:cNvSpPr/>
            <p:nvPr/>
          </p:nvSpPr>
          <p:spPr>
            <a:xfrm>
              <a:off x="6151680" y="1981080"/>
              <a:ext cx="2800080" cy="10429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5" name="Group 12"/>
          <p:cNvGrpSpPr/>
          <p:nvPr/>
        </p:nvGrpSpPr>
        <p:grpSpPr>
          <a:xfrm>
            <a:off x="41400" y="4114800"/>
            <a:ext cx="4530600" cy="1344600"/>
            <a:chOff x="41400" y="4114800"/>
            <a:chExt cx="4530600" cy="1344600"/>
          </a:xfrm>
        </p:grpSpPr>
        <p:sp>
          <p:nvSpPr>
            <p:cNvPr id="376" name="Rectangle 13"/>
            <p:cNvSpPr/>
            <p:nvPr/>
          </p:nvSpPr>
          <p:spPr>
            <a:xfrm>
              <a:off x="46080" y="4121280"/>
              <a:ext cx="2800440" cy="10429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Freeform 14"/>
            <p:cNvSpPr/>
            <p:nvPr/>
          </p:nvSpPr>
          <p:spPr>
            <a:xfrm>
              <a:off x="2854440" y="4114800"/>
              <a:ext cx="1704960" cy="1330560"/>
            </a:xfrm>
            <a:prstGeom prst="pie">
              <a:avLst/>
            </a:prstGeom>
            <a:gradFill rotWithShape="0">
              <a:gsLst>
                <a:gs pos="0">
                  <a:srgbClr val="f4b24c"/>
                </a:gs>
                <a:gs pos="100000">
                  <a:srgbClr val="ef9100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Freeform 15"/>
            <p:cNvSpPr/>
            <p:nvPr/>
          </p:nvSpPr>
          <p:spPr>
            <a:xfrm>
              <a:off x="41400" y="5172120"/>
              <a:ext cx="4530600" cy="287280"/>
            </a:xfrm>
            <a:prstGeom prst="pie">
              <a:avLst/>
            </a:prstGeom>
            <a:gradFill rotWithShape="0">
              <a:gsLst>
                <a:gs pos="0">
                  <a:srgbClr val="f4b24c"/>
                </a:gs>
                <a:gs pos="100000">
                  <a:srgbClr val="ef9100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9" name="Group 16"/>
          <p:cNvGrpSpPr/>
          <p:nvPr/>
        </p:nvGrpSpPr>
        <p:grpSpPr>
          <a:xfrm>
            <a:off x="4572000" y="4114800"/>
            <a:ext cx="4508640" cy="1338120"/>
            <a:chOff x="4572000" y="4114800"/>
            <a:chExt cx="4508640" cy="1338120"/>
          </a:xfrm>
        </p:grpSpPr>
        <p:sp>
          <p:nvSpPr>
            <p:cNvPr id="380" name="Rectangle 17"/>
            <p:cNvSpPr/>
            <p:nvPr/>
          </p:nvSpPr>
          <p:spPr>
            <a:xfrm>
              <a:off x="6280200" y="4114800"/>
              <a:ext cx="2800440" cy="10429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Freeform 18"/>
            <p:cNvSpPr/>
            <p:nvPr/>
          </p:nvSpPr>
          <p:spPr>
            <a:xfrm>
              <a:off x="4572000" y="4127400"/>
              <a:ext cx="1701720" cy="1309680"/>
            </a:xfrm>
            <a:prstGeom prst="pie">
              <a:avLst/>
            </a:prstGeom>
            <a:gradFill rotWithShape="0">
              <a:gsLst>
                <a:gs pos="0">
                  <a:srgbClr val="f4b24c"/>
                </a:gs>
                <a:gs pos="100000">
                  <a:srgbClr val="ef9100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Freeform 19"/>
            <p:cNvSpPr/>
            <p:nvPr/>
          </p:nvSpPr>
          <p:spPr>
            <a:xfrm>
              <a:off x="4572000" y="5165640"/>
              <a:ext cx="4498920" cy="287280"/>
            </a:xfrm>
            <a:prstGeom prst="pie">
              <a:avLst/>
            </a:prstGeom>
            <a:gradFill rotWithShape="0">
              <a:gsLst>
                <a:gs pos="0">
                  <a:srgbClr val="f4b24c"/>
                </a:gs>
                <a:gs pos="100000">
                  <a:srgbClr val="ef9100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3" name="Rectangle 20"/>
          <p:cNvSpPr/>
          <p:nvPr/>
        </p:nvSpPr>
        <p:spPr>
          <a:xfrm>
            <a:off x="3149640" y="3657600"/>
            <a:ext cx="2844720" cy="1981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  <a:effectLst>
            <a:outerShdw dist="107932" dir="8100000" blurRad="0" rotWithShape="0">
              <a:srgbClr val="79001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5500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Theories of Social Responsibility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385" name="Picture 22" descr="bd07012_"/>
          <p:cNvPicPr/>
          <p:nvPr/>
        </p:nvPicPr>
        <p:blipFill>
          <a:blip r:embed="rId2"/>
          <a:stretch/>
        </p:blipFill>
        <p:spPr>
          <a:xfrm>
            <a:off x="3962520" y="3733920"/>
            <a:ext cx="1220760" cy="1807920"/>
          </a:xfrm>
          <a:prstGeom prst="rect">
            <a:avLst/>
          </a:prstGeom>
          <a:ln w="0">
            <a:noFill/>
          </a:ln>
        </p:spPr>
      </p:pic>
      <p:sp>
        <p:nvSpPr>
          <p:cNvPr id="386" name="Text Box 23"/>
          <p:cNvSpPr/>
          <p:nvPr/>
        </p:nvSpPr>
        <p:spPr>
          <a:xfrm>
            <a:off x="304920" y="2057400"/>
            <a:ext cx="26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Maximizing Prof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Text Box 24"/>
          <p:cNvSpPr/>
          <p:nvPr/>
        </p:nvSpPr>
        <p:spPr>
          <a:xfrm>
            <a:off x="6248520" y="2057400"/>
            <a:ext cx="26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Moral Minim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Text Box 25"/>
          <p:cNvSpPr/>
          <p:nvPr/>
        </p:nvSpPr>
        <p:spPr>
          <a:xfrm>
            <a:off x="6324480" y="4191120"/>
            <a:ext cx="266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takeholder Inter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Text Box 26"/>
          <p:cNvSpPr/>
          <p:nvPr/>
        </p:nvSpPr>
        <p:spPr>
          <a:xfrm>
            <a:off x="152280" y="4191120"/>
            <a:ext cx="266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orporate Citizen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06668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5500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1. Maximizing Profits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868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heory of social responsibility that says a corporation has a duty to take actions that maximize profits for sharehold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terests of other stakeholder are not import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10480" cy="91440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5500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2. Moral Minimum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heory of social responsibility that says a corporation’s duty is to make a profit while </a:t>
            </a:r>
            <a:r>
              <a:rPr b="0" i="1" lang="en-US" sz="3200" spc="-1" strike="noStrike">
                <a:solidFill>
                  <a:srgbClr val="0000cc"/>
                </a:solidFill>
                <a:latin typeface="Arial"/>
              </a:rPr>
              <a:t>avoiding harm to oth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long as business avoids or corrects the social injury, it has met its duty of social responsi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5500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Moral Minimum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(continued)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egislative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التشريعية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judicial branches of government have established laws that enforce the moral minimum of social responsibility on corpor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8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.g., Occupational safety law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8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.g., Consumer protection laws for product safe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10480" cy="83808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5500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3.  Stakeholder Interest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heory of social responsibility that says a corporation must consider the interests of all stakeholders, including stockholders, employees, customers, suppliers, creditors, and local community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theory was criticized because it is difficult to harmonize the conflicting interests of stakehold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2" descr="jigsaw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914400" y="685800"/>
            <a:ext cx="6934320" cy="5562720"/>
          </a:xfrm>
          <a:prstGeom prst="rect">
            <a:avLst/>
          </a:prstGeom>
          <a:ln w="0">
            <a:noFill/>
          </a:ln>
        </p:spPr>
      </p:pic>
      <p:sp>
        <p:nvSpPr>
          <p:cNvPr id="399" name="Text Box 4"/>
          <p:cNvSpPr/>
          <p:nvPr/>
        </p:nvSpPr>
        <p:spPr>
          <a:xfrm>
            <a:off x="2743200" y="3429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ustom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Text Box 5"/>
          <p:cNvSpPr/>
          <p:nvPr/>
        </p:nvSpPr>
        <p:spPr>
          <a:xfrm>
            <a:off x="1295280" y="160020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Employe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Text Box 6"/>
          <p:cNvSpPr/>
          <p:nvPr/>
        </p:nvSpPr>
        <p:spPr>
          <a:xfrm>
            <a:off x="5029200" y="16002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uppli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Text Box 7"/>
          <p:cNvSpPr/>
          <p:nvPr/>
        </p:nvSpPr>
        <p:spPr>
          <a:xfrm>
            <a:off x="5029200" y="49528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Local Commun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Text Box 8"/>
          <p:cNvSpPr/>
          <p:nvPr/>
        </p:nvSpPr>
        <p:spPr>
          <a:xfrm>
            <a:off x="1143000" y="51055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redi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5500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4. Corporate Citizenship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heory of responsibility that says a business has a responsibility to do good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ing to solve social probl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orations owe a duty to promote the same social goals as do individual members of socie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00:17:46Z</dcterms:created>
  <dc:creator>Les Wiletzky, SPHR</dc:creator>
  <dc:description>07-19-2002
rev 12-31-2002</dc:description>
  <dc:language>en-US</dc:language>
  <cp:lastModifiedBy>User</cp:lastModifiedBy>
  <dcterms:modified xsi:type="dcterms:W3CDTF">2013-11-09T13:40:04Z</dcterms:modified>
  <cp:revision>133</cp:revision>
  <dc:subject>Cheeseman, Business Law 5e</dc:subject>
  <dc:title>Chapter 007 - Ethics &amp; Social Responsibility of Business</dc:title>
</cp:coreProperties>
</file>