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7ABE-BA30-4DDA-B7CE-E0936389D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887B-F303-4C2C-AE10-5713B761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EEE9-A492-4377-9066-EFC026727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04AE-3296-4237-8B9F-1BE1833FE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43CC-BF94-4CED-9EFA-1857BE72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5642-E0D1-4479-B39A-38F26911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2F55-60EF-4EB5-B9D5-0584E1D7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756D-BE04-4423-BB7F-A56C99B0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DFA1-426C-475F-9DDC-AE040383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2990-6F3D-443B-AC2D-E0F97354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B7F6-8F43-4662-B121-A3599E65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A2CF-F0C4-46C2-B6D0-F35A7B91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90E1-51C7-4582-82D4-D57A743841DB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99036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bri"/>
              </a:rPr>
              <a:t>Chapter 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2640" y="32767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porate Governanc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 Principals of Corporate Govern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ountabilit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مساءل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irn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parenc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شفافي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pende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4656-9AAE-4406-A9A7-4AD74215B196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Accountabilit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sure that management is accountable to the Board of Directo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sure that the Board of Directors is accountable to sharehold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3893-893B-4302-88EA-0EBDAFAEAC05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 Fairn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ect Shareholders righ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at all shareholders including minorities, equitab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 effective redress for viol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F89A-B893-4309-8D4C-BA791D847C66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Transparen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sure timely, accurate disclosure on all material matters, including the financial situation, performance, ownership and corporate govern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23E2-8264-44C1-BE20-5B7B0479EE11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. Independ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pendent Directors and Adviser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.e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ee from the influence of othe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D968-19C6-4E63-9CCC-85ED9D5E6A72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lements of Corporate Govern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Board pract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 Environ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parent Disclos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ll-defined shareholder righ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ard Commit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F647-EF66-4EEA-971A-CF4E3405392D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. Good Board Practi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ly defined roles and authorit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ties and responsibilities of Directors understo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ard is well structur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priate work and mix of skil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priate Board procedu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or compensation in line with best pract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ard self-evaluation and training conduc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1A10-6AC7-4DDE-831E-F10460A789DB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. Control Environ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l control procedu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sk management framework pres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aster recovery systems in pla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a management techniques in u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siness stability procedures in pla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pendent external auditor conducts aud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pendent audit committee establish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l Audit Fun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 Information systems establish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liance Function establish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20A6-3819-4D30-818D-1AE4BF4E10D7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. Transparent Disclos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ancial Information disclo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-Financial Information disclo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ancials prepared according to International. Financial Reporting Standards (IFR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nies Registry filings up to d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-Quality annual report publish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-based disclos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4F6F-5681-4A3D-A575-82DE0608C77D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. Well-Defined Shareholder Righ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ority shareholder rights formaliz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ll-organized shareholder meetings conduc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cy on related party transa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cy on extraordinary transa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ly defined and explicit dividend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8BEF-D24D-463D-B95E-F9680F3C84F0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38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finition of Corporate govern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porate governance involves a set of relationships between a company’s management, its board, its shareholders and other stakeholders ..also the structure through which objectives of the company are set, and the means of achieving those objectives and monitoring performance are determined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used on preventing corporate collapses such a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ron collaps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C2D6-C1F2-49A4-AF4B-C8A2B19A4444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5. Board Commit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oard discusses corporate governance issues and has created a corporate governance committ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mpany has a corporate governance champ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priate resources are committed to corporate governance initiativ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cies and procedures have been formalized and distributed to relevant staf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orporate governance code has been develop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mpany is recognized as a corporate governance lead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99B7-1E3D-48A4-9BBE-AE4EAEA67DA6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rporate governa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8052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Corporate Governance aims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3000"/>
              <a:buFont typeface="Arial"/>
              <a:buAutoNum type="arabicPeriod"/>
              <a:tabLst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Define relationships between a company’s management, its board, shareholders and other stakehold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2000"/>
              <a:buFont typeface="Arial"/>
              <a:buAutoNum type="arabicPeriod"/>
              <a:tabLst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Provide a structure through which the company’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objectives are set, and how they are achieved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monitor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8000"/>
              <a:buFont typeface="Arial"/>
              <a:buAutoNum type="arabicPeriod"/>
              <a:tabLst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Recognize the value of business ethics and corpor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awareness of society interests to reputation and long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term succes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B999-1FEA-4CD7-AEEC-E71EECC2D60B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Corporate Governanc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ter access to external fin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er costs of capital – interest rates on loa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ed company performance – sustainabi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er firm valuation and share perform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ed risk of corporate crisis and scand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D8E5-6E58-4A4B-A149-854E3F4CDC3A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rporate Govern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emporary corporate governance started in 1992 with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dbu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port in the U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dbu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as the result of several high profile company collapse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r George Adrian Cadbury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a Director of the Bank of England from 1970–1994 and of IBM from 1975-1994. He was Chairman of the UK Committee on the Financial Aspects of Corporate Governance which published its Report and Code of Best Practice ("Cadbury Report and Code") in December 199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A39C-F36E-4CBD-AC1E-BBFED8209BE1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dbury Report  199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86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dbury Repor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it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inancial Aspects of Corporate Govern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is a report of a committee chaired by Adrian Cadbury that sets out recommendations on the arrangement of company boards and accounting systems to lessen  corporate governance risks and failur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port was published in 1992. The report's recommendations have been adopted in varying degree by the European Union, the United States, the World Bank, and oth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5C61-F8F3-4CC7-98C5-436AB9ED4FF5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dbury Report Recommen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der use of independent direc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oduction of audit committ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between Chairman and CE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yalty to detailed code of best pract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ect rights of Sharehold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gnize the rights of  Stakehold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ly and accurate Disclos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onsibility of the Board of directo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A133-07B2-4161-8395-E96512E9C136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rporate Governance Par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SzPct val="103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hareholder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hose that own the compan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103000"/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recto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: Guardians of the Company’s assets for the Sharehold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103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ager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 use the company’s asse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3319-3080-4FE9-AC5F-CFA928D56BDE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lationship Between Shareholders, Board and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286000" y="2438280"/>
            <a:ext cx="449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04920" y="2819520"/>
            <a:ext cx="22096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harehold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3581280" y="2590920"/>
            <a:ext cx="1828800" cy="886320"/>
          </a:xfrm>
          <a:prstGeom prst="rect">
            <a:avLst/>
          </a:prstGeom>
          <a:solidFill>
            <a:srgbClr val="0000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oard of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rec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6553080" y="2895480"/>
            <a:ext cx="219564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3124080" y="51814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609480" y="3962520"/>
            <a:ext cx="3657600" cy="764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nies Act and other rules and regul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AutoShape 11"/>
          <p:cNvSpPr/>
          <p:nvPr/>
        </p:nvSpPr>
        <p:spPr>
          <a:xfrm>
            <a:off x="2514600" y="2971800"/>
            <a:ext cx="1066680" cy="228600"/>
          </a:xfrm>
          <a:prstGeom prst="leftArrow">
            <a:avLst>
              <a:gd name="adj1" fmla="val 50000"/>
              <a:gd name="adj2" fmla="val 116654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AutoShape 13"/>
          <p:cNvSpPr/>
          <p:nvPr/>
        </p:nvSpPr>
        <p:spPr>
          <a:xfrm>
            <a:off x="5410080" y="2971800"/>
            <a:ext cx="1143000" cy="228600"/>
          </a:xfrm>
          <a:prstGeom prst="leftArrow">
            <a:avLst>
              <a:gd name="adj1" fmla="val 50000"/>
              <a:gd name="adj2" fmla="val 12500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5105520" y="3886200"/>
            <a:ext cx="2209680" cy="459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Contr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AutoShape 19"/>
          <p:cNvSpPr/>
          <p:nvPr/>
        </p:nvSpPr>
        <p:spPr>
          <a:xfrm>
            <a:off x="2971800" y="3276720"/>
            <a:ext cx="304920" cy="609480"/>
          </a:xfrm>
          <a:prstGeom prst="upDownArrow">
            <a:avLst>
              <a:gd name="adj1" fmla="val 50000"/>
              <a:gd name="adj2" fmla="val 40254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AutoShape 20"/>
          <p:cNvSpPr/>
          <p:nvPr/>
        </p:nvSpPr>
        <p:spPr>
          <a:xfrm>
            <a:off x="5867280" y="320040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08:41:24Z</dcterms:created>
  <dc:creator>ADK</dc:creator>
  <dc:description/>
  <dc:language>en-US</dc:language>
  <cp:lastModifiedBy>user</cp:lastModifiedBy>
  <dcterms:modified xsi:type="dcterms:W3CDTF">2013-11-30T14:06:47Z</dcterms:modified>
  <cp:revision>59</cp:revision>
  <dc:subject/>
  <dc:title>What is Corporate Governance?</dc:title>
</cp:coreProperties>
</file>