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5D9-57E6-4C7C-BFA7-F94A5C06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588-D7A5-4C65-95C4-EECE6C85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890-DB66-4E41-A7E7-750B5B37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A9F-4760-434A-9973-5AD265CC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ECC-C6EB-49BB-A5F9-A4C1B863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F40-8F4F-42C2-BD26-A05D6FD2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6EB-640B-4D31-9E25-F0A06922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D82-D3AE-46B3-BE41-37CD1F56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878D-92D4-4EB7-98E1-EA3D18B2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D16-4FC0-4429-9AF4-C76ECF04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F23-681C-4040-A9DE-BC5DF06F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9A9-ABF0-4E82-B7C8-890BEA0A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A71A-307A-4E21-B661-EB78492E156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9903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Chapter 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32767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Governan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 Principals of Corporate Gover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ountabilit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ساءل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rn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شفاف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B871-51AA-4125-9003-02D89FBFB878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Accountabili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management is accountable to the Board of Direct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the Board of Directors is accountable to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3023-9819-4C57-8877-7C0E83867B6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Fair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 Shareholders righ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 all shareholders including minorities, equitab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effective redress for viol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E376-A768-4EA2-AF5A-BC95F8F14AD8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Transparen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e timely, accurate disclosure on all material matters, including the financial situation, performance, ownership and corporate govern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29F4-D952-4E83-947A-49224F164834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Indepen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Directors and Adviser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.e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ee from the influence of oth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5AF2-C7E8-434C-8857-A7AD44140B7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lements of 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Board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 Disclo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l-defined shareholder righ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ard Commi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D263-60ED-4D13-AC73-52BD83FD1EB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 Good Board Pract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ly defined roles and author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ties and responsibilities of Directors underst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ard is well structu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 work and mix of ski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 Board proced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or compensation in line with best pract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ard self-evaluation and training condu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AE34-B13C-4F93-83DA-20BFA6863AA8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 Control Enviro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control proced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sk management framework pres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aster recovery systems in pl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 management techniques in 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stability procedures in pl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external auditor conducts aud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audit committee esta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Audit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Information systems esta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iance Function esta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5593-739C-4D05-A260-C1B99EA896C8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 Transparent Disclo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 Information disclo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Financial Information disclo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s prepared according to International. Financial Reporting Standards (IF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nies Registry filings up to d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Quality annual report pu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-based disclo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5772-598D-4ECD-BE1B-6CA5386BC407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Well-Defined Shareholder Righ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ority shareholder rights formali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l-organized shareholder meetings condu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on related party trans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on extraordinary trans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ly defined and explicit dividend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4EE1-13F7-46BF-B081-FA4F2205909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finition of 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e governance involves a set of relationships between a company’s management, its board, its shareholders and other stakeholders ..also the structure through which objectives of the company are set, and the means of achieving those objectives and monitoring performance are determined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ed on preventing corporate collapses such a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ron collap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B692-5435-425B-8AA7-4106D938EB2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. Board Commi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ard discusses corporate governance issues and has created a corporate governance committ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any has a corporate governance champ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 resources are committed to corporate governance initiati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ies and procedures have been formalized and distributed to relevant staf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rporate governance code has been develo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any is recognized as a corporate governance lea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02DE-D099-4DDF-94C7-96AC4DF36A38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porate govern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52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Corporate Governance aims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3000"/>
              <a:buFont typeface="Arial"/>
              <a:buAutoNum type="arabicPeriod"/>
              <a:tabLst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Define relationships between a company’s management, its board, shareholders and other stakehol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2000"/>
              <a:buFont typeface="Arial"/>
              <a:buAutoNum type="arabicPeriod"/>
              <a:tabLst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Provide a structure through which the company’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objectives are set, and how they are achieved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monito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8000"/>
              <a:buFont typeface="Arial"/>
              <a:buAutoNum type="arabicPeriod"/>
              <a:tabLst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Recognize the value of business ethics and corpor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wareness of society interests to reputation and long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term succ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DE89-245A-4C52-8E11-1EC506A8EAA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Corporate Govern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access to external fin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costs of capital – interest rates on lo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d company performance – sustain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firm valuation and share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risk of corporate crisis and scand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221D-22DA-404D-B07F-6A7AF4A5E39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mporary corporate governance started in 1992 with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dbu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ort in the U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dbu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s the result of several high profile company collapse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r George Adrian Cadbury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a Director of the Bank of England from 1970–1994 and of IBM from 1975-1994. He was Chairman of the UK Committee on the Financial Aspects of Corporate Governance which published its Report and Code of Best Practice ("Cadbury Report and Code") in December 199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1B13-09DB-47C9-A01C-2D68E85F3A8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dbury Report  199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dbury Rep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it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inancial Aspects of Corporate Govern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s a report of a committee chaired by Adrian Cadbury that sets out recommendations on the arrangement of company boards and accounting systems to lessen  corporate governance risks and failur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port was published in 1992. The report's recommendations have been adopted in varying degree by the European Union, the United States, the World Bank, and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70C5-6440-4FFC-8A50-EE96424B57A6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dbury Report Recomme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der use of independent dire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tion of audit committ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between Chairman and CE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yalty to detailed code of best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 rights of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e rights of  Stak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ly and accurate Disclo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ibility of the Board of direct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7D00-1C19-44E9-ABE0-149B943BF65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Governance Par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10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areholder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ose that own the compa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103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rec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 Guardians of the Company’s assets for the Shar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103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r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use the company’s asse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60E1-32E1-4CD5-B6AD-F02BE66193D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lationship Between Shareholders, Board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286000" y="24382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920" y="2819520"/>
            <a:ext cx="22096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arehol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581280" y="2590920"/>
            <a:ext cx="1828800" cy="886320"/>
          </a:xfrm>
          <a:prstGeom prst="rect">
            <a:avLst/>
          </a:prstGeom>
          <a:solidFill>
            <a:srgbClr val="0000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oard of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re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553080" y="2895480"/>
            <a:ext cx="21956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124080" y="51814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09480" y="3962520"/>
            <a:ext cx="3657600" cy="764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nies Act and other rules and regul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2514600" y="2971800"/>
            <a:ext cx="1066680" cy="228600"/>
          </a:xfrm>
          <a:prstGeom prst="leftArrow">
            <a:avLst>
              <a:gd name="adj1" fmla="val 50000"/>
              <a:gd name="adj2" fmla="val 116654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13"/>
          <p:cNvSpPr/>
          <p:nvPr/>
        </p:nvSpPr>
        <p:spPr>
          <a:xfrm>
            <a:off x="5410080" y="297180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5105520" y="3886200"/>
            <a:ext cx="220968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AutoShape 19"/>
          <p:cNvSpPr/>
          <p:nvPr/>
        </p:nvSpPr>
        <p:spPr>
          <a:xfrm>
            <a:off x="2971800" y="3276720"/>
            <a:ext cx="304920" cy="609480"/>
          </a:xfrm>
          <a:prstGeom prst="upDownArrow">
            <a:avLst>
              <a:gd name="adj1" fmla="val 50000"/>
              <a:gd name="adj2" fmla="val 40254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AutoShape 20"/>
          <p:cNvSpPr/>
          <p:nvPr/>
        </p:nvSpPr>
        <p:spPr>
          <a:xfrm>
            <a:off x="5867280" y="32004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8:41:24Z</dcterms:created>
  <dc:creator>ADK</dc:creator>
  <dc:description/>
  <dc:language>en-US</dc:language>
  <cp:lastModifiedBy>user</cp:lastModifiedBy>
  <dcterms:modified xsi:type="dcterms:W3CDTF">2013-11-30T14:06:47Z</dcterms:modified>
  <cp:revision>59</cp:revision>
  <dc:subject/>
  <dc:title>What is Corporate Governance?</dc:title>
</cp:coreProperties>
</file>