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8F32-80AD-44E9-99BD-A2E27C1AA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8AC1-EFA3-4AE0-906A-8943B9F09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5880" cy="1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77320" cy="2210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 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Ethical Theor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66880" y="12952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emma becomes ethical when the good or bad options seem to have a moral compon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voidance of harm, freedo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safe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cost for each person involved (client, family members, co-workers, agency, etc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mple 2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new technology is being launched which is good for the company as well as the customers. But, if this is brought into use, a less man-power is required for the organiz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ntrepreneur is now in an ethical dilemma whether he wants to satisfy his customers with good services or be loyal to his employees who have helped the company grow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pleasantness of the situation arises when neither the customers nor the employees deserve to suffer and it is the entrepreneur’s call to tak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ethical theories exist and theories can be applied to different situations to inform our thinking and support decision ma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Consequentialis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tialist ethics holds the view that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moral response is related to the outcome, or consequence, of the 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ntral aim is the principle of 'maximising the greatest good for the greatest number'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'good' referred to a variety of ways and may refer to values or 'utility' such as happiness, or another life enhancing outc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Deontology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is based on duties and rights and respects  individuals as ends in themselv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places value on the intentions of the individual (rather than the outcomes of any action) and focuses on rules, obligations and du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ontology requires absolute adherence to these obligations and acting from duty is viewed as acting ethical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Virtue Ethic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ey difference between consequent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ontology and virtue ethics is that the final emphasizes the moral character, or virtues of the individ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has emerged due to the perceived deficits in ethical theories such as consequentialism and deontology for healthcare.  honesty and kindnes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The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6854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rtues are fixed character traits which are held to be societally valuable such as truth-telling, trustworthines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al wisdom relates to how the virtue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ed or performed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tue ethics is about an individual of good character doing the right 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wo Types of Ethical Cho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ght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rong: Choosing right from wrong is the easi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uation contains shades of gray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l alternative have desirable and undesirable resul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os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esser of two evi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jective: make a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efensible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tilitarian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produces the greatest good for the greatest number of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al Rights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best maintains and protects the fundamental rights and privileges of the people affected by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ce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8440" indent="-231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thical decision is one that distributes benefits and harms among individuals in a fair, equitable, or impartial w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2120" indent="-22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ecision Mode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ic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5"/>
          <p:cNvSpPr/>
          <p:nvPr/>
        </p:nvSpPr>
        <p:spPr>
          <a:xfrm flipH="1" rot="10800000">
            <a:off x="2745360" y="3143160"/>
            <a:ext cx="3274920" cy="3198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6"/>
          <p:cNvSpPr/>
          <p:nvPr/>
        </p:nvSpPr>
        <p:spPr>
          <a:xfrm flipH="1" rot="10800000">
            <a:off x="1904040" y="1378080"/>
            <a:ext cx="3273480" cy="320328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7"/>
          <p:cNvSpPr/>
          <p:nvPr/>
        </p:nvSpPr>
        <p:spPr>
          <a:xfrm flipH="1" rot="10800000">
            <a:off x="3593160" y="1356840"/>
            <a:ext cx="3276360" cy="320220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3616200" y="3127320"/>
            <a:ext cx="1538280" cy="1233720"/>
          </a:xfrm>
          <a:prstGeom prst="pie">
            <a:avLst/>
          </a:prstGeom>
          <a:solidFill>
            <a:srgbClr val="4f81b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2774880" y="3313080"/>
            <a:ext cx="1630440" cy="1276560"/>
          </a:xfrm>
          <a:prstGeom prst="pie">
            <a:avLst/>
          </a:prstGeom>
          <a:solidFill>
            <a:srgbClr val="0077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4343400" y="3276720"/>
            <a:ext cx="1596960" cy="1276200"/>
          </a:xfrm>
          <a:prstGeom prst="pie">
            <a:avLst/>
          </a:prstGeom>
          <a:solidFill>
            <a:srgbClr val="7e513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3581280" y="1584360"/>
            <a:ext cx="1608120" cy="1735200"/>
          </a:xfrm>
          <a:prstGeom prst="pie">
            <a:avLst/>
          </a:prstGeom>
          <a:solidFill>
            <a:srgbClr val="1f497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946880" y="2798640"/>
            <a:ext cx="167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ar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5424480" y="2666880"/>
            <a:ext cx="1231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311640" y="5181480"/>
            <a:ext cx="2028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al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884400" y="3485160"/>
            <a:ext cx="9525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3-09-23T13:16:32Z</dcterms:modified>
  <cp:revision>48</cp:revision>
  <dc:subject/>
  <dc:title>Ethics and Business</dc:title>
</cp:coreProperties>
</file>