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998-5066-401D-94FD-132519FD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853272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9360" y="4422240"/>
            <a:ext cx="853272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850-ECCA-4939-A700-2594683A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9360" y="44222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4222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DF9-3871-4DEE-8F3A-AF8658ED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400" y="24098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080" y="24098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9360" y="44222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400" y="44222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080" y="44222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2D3-9478-48FA-9223-66366CD5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AAA3-8CA2-4C12-A327-5BA19A6A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9360" y="2409840"/>
            <a:ext cx="853272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9A19-1087-4D16-A0FE-3A2BC504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85327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EDCD-9A1A-43B2-9ACA-831B60A8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1013-46B6-4545-AE48-CAB4E683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CDB5-B5BE-4A0E-A375-82193F9E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7320" y="929880"/>
            <a:ext cx="8543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06D5-3947-447B-AA9A-1C480A52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79360" y="44222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2C6B-64F2-4B46-8B5A-4B56E57C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9360" y="2409840"/>
            <a:ext cx="853272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4B6-774F-4118-8CA6-58EE54B3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4222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A66D-8E36-4827-A51D-28EE421E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79360" y="4422240"/>
            <a:ext cx="853272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4F58-2097-4351-B010-35855C6A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853272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79360" y="4422240"/>
            <a:ext cx="853272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95E3-97C3-4D54-AF49-2CF10673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79360" y="44222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4222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34A3-4AD9-4D73-BF0F-836E0AFE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4400" y="24098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9080" y="24098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79360" y="44222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4400" y="44222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9080" y="44222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BE5B-F423-4892-BAB4-8C23ABB8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85327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373-8A4D-4771-A084-4636EEB7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982-231F-4279-9F16-6C6274D7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62D-2D31-4407-BCE8-0AE735FC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7320" y="929880"/>
            <a:ext cx="8543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9BF-6E38-47D4-93EC-B35C5DDB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9360" y="44222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C54-9E64-47CE-9153-A8F3944A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4222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96A-869C-4CF2-BAAF-B0D3D013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9360" y="4422240"/>
            <a:ext cx="853272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88F-4790-4C40-A407-9CD6F4F8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9360" y="2409840"/>
            <a:ext cx="85327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FFAE-290B-4DC6-9DAA-A77DC4594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23363" r="2025" b="0"/>
          <a:stretch/>
        </p:blipFill>
        <p:spPr>
          <a:xfrm>
            <a:off x="0" y="0"/>
            <a:ext cx="9144000" cy="11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A0B6-CB6A-490F-858E-131C0B6E1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92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Module 1 – Concepts of IT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hapter 1.1 – General Concepts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General Concept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38131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neral term used to describe the use of computers to process and transfer informati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also refer to other office equipment (such as faxes and telephones) which contain tiny compu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170240" y="2425680"/>
            <a:ext cx="4335120" cy="3912480"/>
            <a:chOff x="4170240" y="2425680"/>
            <a:chExt cx="4335120" cy="39124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4170240" y="4743720"/>
              <a:ext cx="1604520" cy="15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6631560" y="4719600"/>
              <a:ext cx="1833840" cy="16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6705360" y="2425680"/>
              <a:ext cx="1800000" cy="159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Hardware and Softwar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9000" y="2133360"/>
            <a:ext cx="418932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fers to the physical parts of a computer – those parts which you can see or touch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0960" y="2133360"/>
            <a:ext cx="419076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imarily a list of instructions coded in a special way that computers can understan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Operating 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ftware – eg Windows which works in the background and controls your software and hardware de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Applica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ftware – eg Microsoft Word – software used to perform ta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9600" y="5195880"/>
            <a:ext cx="2477880" cy="1405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78680" y="5411880"/>
            <a:ext cx="20764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fferent Types Of Computer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85327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frame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top/Notebook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Digital Assistants/Handheld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ainframe Computer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9000" y="2409840"/>
            <a:ext cx="41893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, fast and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large organisations such as utility companies, banks or multinational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hundreds or thousands of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0960" y="2409840"/>
            <a:ext cx="4190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onnect via terminals which are located in different cities or even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spcBef>
                <a:spcPts val="400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66"/>
                </a:solidFill>
                <a:latin typeface="Arial"/>
              </a:rPr>
              <a:t>Dumb terminal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– these types of terminals cannot be used unless they are connected to the mainfra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spcBef>
                <a:spcPts val="400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66"/>
                </a:solidFill>
                <a:latin typeface="Arial"/>
              </a:rPr>
              <a:t>Intelligent terminal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– e.g. a personal computer connected to a mainframe, can also be used when not connected to the mainfra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60720" y="2327400"/>
            <a:ext cx="45878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3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84400" y="1812960"/>
            <a:ext cx="6659280" cy="4667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Networked Computer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9000" y="2017440"/>
            <a:ext cx="418932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computers connected to a server via network cards and c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ftware and data is stored on the central server rather than installed individually on each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twork also enables a fast Internet connection, printers and scanners to be 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0960" y="1988640"/>
            <a:ext cx="4190760" cy="34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ccess allocated resources via a user name and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popular with small-to-medium-sized businesses, schools and colleges/adult education cen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3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evt="end">
                                        <p:tn val="117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Personal Computer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9000" y="2409840"/>
            <a:ext cx="41893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dispensable tool for managers, humble office workers and home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ain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Deskto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odel – the system unit sits horizontally on a desk and the monitor is placed on top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Towe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odel – the system unit is vertical so can be placed on the floor to save desk spac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0960" y="2409840"/>
            <a:ext cx="4190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vices (screen, keyboard and mouse) attached to the system unit (by a cable) are called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eriph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70680" y="447660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Notebook/Laptop Computer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9000" y="2409840"/>
            <a:ext cx="41893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in specification to a personal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and keyboard are integrated into a singl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from the mains or with a built-in rechargeable bat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0960" y="2409840"/>
            <a:ext cx="4190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xpensive than personal computers due to miniaturisation of computer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computer for business people and ICT trainers who are constantly on the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673440" y="5081760"/>
            <a:ext cx="157788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PDAs/Handheld Computers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9000" y="2062080"/>
            <a:ext cx="418932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held computers which have superseded electronic organi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use a stylus which you use to write or draw on the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very basic cut-down software such as calculator, address book and notepa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0960" y="2075040"/>
            <a:ext cx="4190760" cy="41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be connected to a PC to synchroni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DAs can also be used as mobile phones and can access the Web to send and receive em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00600" y="4968720"/>
            <a:ext cx="10922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11:01:28Z</dcterms:created>
  <dc:creator>Karen Blakeley</dc:creator>
  <dc:description/>
  <dc:language>en-US</dc:language>
  <cp:lastModifiedBy>oliver</cp:lastModifiedBy>
  <dcterms:modified xsi:type="dcterms:W3CDTF">2004-05-26T11:33:38Z</dcterms:modified>
  <cp:revision>18</cp:revision>
  <dc:subject/>
  <dc:title>European Computer Driving Licence</dc:title>
</cp:coreProperties>
</file>