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E21-8933-4A47-A6ED-DEFF1349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DCF-1A4D-418B-9CDA-4F6D477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99E-D5B7-4785-9DB3-0B0DBF34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08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936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08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079-CCA7-4457-BB43-9582751D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CF69-0AFC-4591-98C6-3F57BF63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536-38E0-4416-911D-79AB774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B8E7-B124-4483-A60D-A4F3698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EFEB-8070-4FF7-9735-DEF93F22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FA1-5413-49F0-B852-0869CA7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7320" y="929880"/>
            <a:ext cx="85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D49-6BCE-4B3E-96DE-5AB3AF2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ABDA-1E9D-4528-B1B9-06E9B6D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234-2811-4B97-B4DC-84C9357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9724-0208-404D-8731-DE5667B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A067-4EA0-4D58-9E57-27F9221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5BC-4D5A-4586-8427-40048B1A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A3F4-F300-4EB2-A1BF-C5BE4C9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40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080" y="24098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936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40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080" y="4422240"/>
            <a:ext cx="27471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9E9D-C2F9-4C36-A7D8-6EA77E7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BBA-DD0F-4186-91F9-F031D6BD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47B-A61C-4FE6-A31C-BD12C2FD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2E6-855D-4423-8268-C6582FD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320" y="929880"/>
            <a:ext cx="85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851-98E6-4B24-8A2F-A9748B4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67F-2217-45BE-927A-C1DA6C68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4222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EE9-70F1-4464-86B4-55DF54B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409840"/>
            <a:ext cx="41637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9360" y="4422240"/>
            <a:ext cx="853272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1C9-C5A1-49E1-B0F2-71E1022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60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A11-B206-4DCC-A7DC-E1548C39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23363" r="2025" b="0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FF8-D0D3-4C2A-975D-16335F98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9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odule 1 – Concepts of IT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hapter 1.1 – General Concepts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General Concept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3813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ral term used to describe the use of computers to process and transfer informati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also refer to other office equipment (such as faxes and telephones) which contain tiny compu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70240" y="2425680"/>
            <a:ext cx="4335120" cy="3912480"/>
            <a:chOff x="4170240" y="2425680"/>
            <a:chExt cx="4335120" cy="3912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170240" y="4743720"/>
              <a:ext cx="1604520" cy="15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6631560" y="4719600"/>
              <a:ext cx="1833840" cy="16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6705360" y="2425680"/>
              <a:ext cx="1800000" cy="159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ardware and Software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9000" y="2133360"/>
            <a:ext cx="41893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s to the physical parts of a computer – those parts which you can see or touc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0960" y="2133360"/>
            <a:ext cx="41907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ily a list of instructions coded in a special way that computers can understan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perating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ftware – eg Windows which works in the background and controls your software and hardware de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pplic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ftware – eg Microsoft Word – software used to perform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9600" y="5195880"/>
            <a:ext cx="2477880" cy="140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78680" y="5411880"/>
            <a:ext cx="2076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fferent Types Of Computer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9360" y="2409840"/>
            <a:ext cx="853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frame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/Notebook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igital Assistants/Handhel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inframe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, fast 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large organisations such as utility companies, banks or multinational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hundreds or thousand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onnect via terminals which are located in different cities or even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Dumb terminal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– these types of terminals cannot be used unless they are connected to the mainfra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00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Intelligent terminal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– e.g. a personal computer connected to a mainframe, can also be used when not connected to the mainfra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0720" y="2327400"/>
            <a:ext cx="45878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4400" y="1812960"/>
            <a:ext cx="6659280" cy="466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tworked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9000" y="2017440"/>
            <a:ext cx="418932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mputers connected to a server via network cards and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and data is stored on the central server rather than installed individually on each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also enables a fast Internet connection, printers and scanners to be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960" y="1988640"/>
            <a:ext cx="419076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ccess allocated resources via a user 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popular with small-to-medium-sized businesses, schools and colleges/adult education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Personal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dispensable tool for managers, humble office workers and hom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Desk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l – the system unit sits horizontally on a desk and the monitor is placed on to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spcBef>
                <a:spcPts val="451"/>
              </a:spcBef>
              <a:buClr>
                <a:srgbClr val="ff0066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Tow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odel – the system unit is vertical so can be placed on the floor to save desk spa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vices (screen, keyboard and mouse) attached to the system unit (by a cable) are called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eriph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70680" y="447660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otebook/Laptop Computers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9000" y="2409840"/>
            <a:ext cx="41893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in specification to a personal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and keyboard are integrated into a singl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rom the mains or with a built-in rechargeable bat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0960" y="2409840"/>
            <a:ext cx="41907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ensive than personal computers due to miniaturisation of comput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computer for business people and ICT trainers who are constantly on the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73440" y="5081760"/>
            <a:ext cx="157788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7320" y="92988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DAs/Handheld Compute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9000" y="2062080"/>
            <a:ext cx="41893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held computers which have superseded electronic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use a stylus which you use to write or draw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very basic cut-down software such as calculator, address book and notepa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0960" y="2075040"/>
            <a:ext cx="419076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onnected to a PC to synchroni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As can also be used as mobile phones and can access the Web to send and receive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00600" y="4968720"/>
            <a:ext cx="1092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1:01:28Z</dcterms:created>
  <dc:creator>Karen Blakeley</dc:creator>
  <dc:description/>
  <dc:language>en-US</dc:language>
  <cp:lastModifiedBy>oliver</cp:lastModifiedBy>
  <dcterms:modified xsi:type="dcterms:W3CDTF">2004-05-26T11:33:38Z</dcterms:modified>
  <cp:revision>18</cp:revision>
  <dc:subject/>
  <dc:title>European Computer Driving Licence</dc:title>
</cp:coreProperties>
</file>