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wmf" ContentType="image/x-wmf"/>
  <Override PartName="/ppt/media/image27.png" ContentType="image/png"/>
  <Override PartName="/ppt/media/image33.jpeg" ContentType="image/jpeg"/>
  <Override PartName="/ppt/media/image6.jpeg" ContentType="image/jpeg"/>
  <Override PartName="/ppt/media/image11.png" ContentType="image/pn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7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D24-E906-4278-9D9B-05745100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20A-171D-44CB-B035-C496044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56A-B36E-4C17-94AD-847E60E3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94F-67C5-4B46-94E6-D1476DDE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5BB-6EC7-4CD3-B37E-12D6B246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964-F9A1-4062-B9BE-3072A866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86F-BA7B-4E87-839E-5377C3E1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1FC-E740-4470-B4B0-6CC63E93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2DE-01BA-41EF-8161-6773B79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E8D-79EA-451D-8084-BB4954B7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57BE-C929-4B06-92E5-514A65D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2F8-CF26-4CD6-AEB8-2A3463F6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D5C8-A531-424E-8C92-5D249ADB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549-DB70-4BA6-A17C-D182AD9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21C-CAF3-482F-949E-2703ED5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1A89-07CB-41EF-B24F-EF171C68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D917-D7BF-41EE-B327-3F746CAE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F27-F87A-4E51-9601-6C9B365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431-32D8-4FCD-9B07-E60087F8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4CC-A04F-4B69-8987-6A011FC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08E-8129-4A30-83D8-166A37F3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E83-E8CB-4C38-9B22-07CA6EA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0FE-2EAA-45B4-A2DE-2A25B79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C82-5AED-425F-8BA9-B809152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787-C330-4EDB-878F-92B434A171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B461-C372-46C8-96C0-009717DFCA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buyer.com/customer/products/index.html?action=c2VsZWN0X3Byb2R1Y3Rfb3ZlcnZpZXc=&amp;product_uid=55629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buyer.com/customer/products/index.html?action=c2VsZWN0X3Byb2R1Y3Rfb3ZlcnZpZXc=&amp;product_uid=58436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32F-F941-48CB-9EBA-78FB9C42D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.2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31E-CAE0-4796-B06F-9C4E687DB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How memory is measured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M is divided into millions of units called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byte contains 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bytes = 1 kilobyte (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Kb = 1 megabyte (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Mb = 1 gigabyte (G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24 Gb = 1 terabyte (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egabyte"/>
          <p:cNvPicPr/>
          <p:nvPr/>
        </p:nvPicPr>
        <p:blipFill>
          <a:blip r:embed="rId1"/>
          <a:stretch/>
        </p:blipFill>
        <p:spPr>
          <a:xfrm>
            <a:off x="5462640" y="2852640"/>
            <a:ext cx="28764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6240" y="2468160"/>
            <a:ext cx="43797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By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48 KB = 2048 x 1024 By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097152 By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94400" y="2468160"/>
            <a:ext cx="42861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48 KB = 2048/1024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E0C2-AE48-4F14-B4BC-089F91CB5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2468160"/>
            <a:ext cx="4626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48 KB = 2048 x 1024 x 8   b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16777216 b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94400" y="2468160"/>
            <a:ext cx="42861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2048KB to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48 KB = 2048/(1024x1024)   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2048/1048576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0.0019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485-30A5-4261-BA0B-5F460019C8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A55-7C62-4D01-9DF6-C6156964F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File Siz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193840"/>
            <a:ext cx="3855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mple Word document will measure approx 20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12 page report with pictures will take up much more space – maybe 300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100 page user manual with photos and screenshots could be at least 2Mb 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Excel, for example, takes up approx. 6Mb of hard dis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9"/>
          <p:cNvGraphicFramePr/>
          <p:nvPr/>
        </p:nvGraphicFramePr>
        <p:xfrm>
          <a:off x="5068800" y="2747880"/>
          <a:ext cx="330696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2747880"/>
                    <a:ext cx="330696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A61-484E-4145-8087-8ACCF2C924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tandard PC Memor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4240" y="2234880"/>
            <a:ext cx="385632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computers have improved so has the amount of memory – look at the following minimu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95 requires 8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98 requires 16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Millennium requires 32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dows XP 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quires 128Mb R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22480" y="22348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anted to run additional software, you would need to double the above figur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memory"/>
          <p:cNvPicPr/>
          <p:nvPr/>
        </p:nvPicPr>
        <p:blipFill>
          <a:blip r:embed="rId1"/>
          <a:stretch/>
        </p:blipFill>
        <p:spPr>
          <a:xfrm>
            <a:off x="5229360" y="4151160"/>
            <a:ext cx="291132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758F-B849-4459-8B16-F2843B706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Performa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main factors will determine how quickly your compute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speed of the processor (measured in megahertz or gigahertz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amount of RAM installed (measured in megabytes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time you launch software, the program is transferred to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have several programs running at once, this will slow down your compu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g0412593"/>
          <p:cNvPicPr/>
          <p:nvPr/>
        </p:nvPicPr>
        <p:blipFill>
          <a:blip r:embed="rId1"/>
          <a:stretch/>
        </p:blipFill>
        <p:spPr>
          <a:xfrm>
            <a:off x="3843360" y="4467240"/>
            <a:ext cx="1717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19B-1FF7-4E28-8AD4-6FC4C180E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242532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devices used to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ta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8240" y="3147840"/>
          <a:ext cx="7864560" cy="3035520"/>
        </p:xfrm>
        <a:graphic>
          <a:graphicData uri="http://schemas.openxmlformats.org/drawingml/2006/table">
            <a:tbl>
              <a:tblPr/>
              <a:tblGrid>
                <a:gridCol w="2502000"/>
                <a:gridCol w="1430280"/>
                <a:gridCol w="2171880"/>
                <a:gridCol w="176040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bo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cam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Picture 56" descr="keyboard"/>
          <p:cNvPicPr/>
          <p:nvPr/>
        </p:nvPicPr>
        <p:blipFill>
          <a:blip r:embed="rId1"/>
          <a:srcRect l="0" t="21214" r="0" b="16290"/>
          <a:stretch/>
        </p:blipFill>
        <p:spPr>
          <a:xfrm>
            <a:off x="1390680" y="3208320"/>
            <a:ext cx="882720" cy="550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7" descr="trackball"/>
          <p:cNvPicPr/>
          <p:nvPr/>
        </p:nvPicPr>
        <p:blipFill>
          <a:blip r:embed="rId2"/>
          <a:stretch/>
        </p:blipFill>
        <p:spPr>
          <a:xfrm>
            <a:off x="1579680" y="4727520"/>
            <a:ext cx="509400" cy="58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8" descr="lightpen"/>
          <p:cNvPicPr/>
          <p:nvPr/>
        </p:nvPicPr>
        <p:blipFill>
          <a:blip r:embed="rId3"/>
          <a:stretch/>
        </p:blipFill>
        <p:spPr>
          <a:xfrm>
            <a:off x="5292720" y="3205080"/>
            <a:ext cx="797040" cy="66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9" descr="mouse"/>
          <p:cNvPicPr/>
          <p:nvPr/>
        </p:nvPicPr>
        <p:blipFill>
          <a:blip r:embed="rId4"/>
          <a:stretch/>
        </p:blipFill>
        <p:spPr>
          <a:xfrm>
            <a:off x="1495440" y="4010040"/>
            <a:ext cx="587520" cy="5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0" descr="microphone"/>
          <p:cNvPicPr/>
          <p:nvPr/>
        </p:nvPicPr>
        <p:blipFill>
          <a:blip r:embed="rId5"/>
          <a:stretch/>
        </p:blipFill>
        <p:spPr>
          <a:xfrm>
            <a:off x="1449360" y="5576760"/>
            <a:ext cx="649440" cy="52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1" descr="scanner"/>
          <p:cNvPicPr/>
          <p:nvPr/>
        </p:nvPicPr>
        <p:blipFill>
          <a:blip r:embed="rId6"/>
          <a:srcRect l="-1689" t="18895" r="15087" b="15087"/>
          <a:stretch/>
        </p:blipFill>
        <p:spPr>
          <a:xfrm>
            <a:off x="5235480" y="396540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joystick"/>
          <p:cNvPicPr/>
          <p:nvPr/>
        </p:nvPicPr>
        <p:blipFill>
          <a:blip r:embed="rId7"/>
          <a:stretch/>
        </p:blipFill>
        <p:spPr>
          <a:xfrm>
            <a:off x="5322960" y="4795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3" descr="digicamera"/>
          <p:cNvPicPr/>
          <p:nvPr/>
        </p:nvPicPr>
        <p:blipFill>
          <a:blip r:embed="rId8"/>
          <a:srcRect l="0" t="10097" r="0" b="0"/>
          <a:stretch/>
        </p:blipFill>
        <p:spPr>
          <a:xfrm>
            <a:off x="5278320" y="5597640"/>
            <a:ext cx="84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A98-47DE-40D6-AE9A-86EEF24F7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Monito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2178000"/>
            <a:ext cx="38559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e in 15”, 17”, 19”, 21” screen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ture is made up of millions of dots called pixe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icture quality depends on number of pixels going across and down the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resh rate is the number of times the picture is drawn on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4040" y="2178000"/>
            <a:ext cx="385596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800 x 600 is typical of a 15”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600 x 1200 is typical of larger scree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T monitors – similar to a TV scre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FT monitors – much more slim 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3098880" y="5343480"/>
            <a:ext cx="3006720" cy="1108080"/>
            <a:chOff x="3098880" y="5343480"/>
            <a:chExt cx="3006720" cy="1108080"/>
          </a:xfrm>
        </p:grpSpPr>
        <p:pic>
          <p:nvPicPr>
            <p:cNvPr id="189" name="Picture 5" descr="CTX S962A 19ins TFT 0.29dpi 66khz TCO99 Black &amp; Silver&#10;QuickFind Code: 55629&#10;Mfr part #: S962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388120" y="5435640"/>
              <a:ext cx="71748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6" descr="Ebuyer VC171 17ins CRT 0.27dpi in Ivory&#10;QuickFind Code: 58436&#10;Mfr part #: VC17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098880" y="5343480"/>
              <a:ext cx="95544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1BE8-1CD3-4A70-A658-ACBA31E5E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Prin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kjet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inly used by home us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nochrome and colour prin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k is forced through holes onto the pap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unning cost quite high per p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er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andard in most off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high quality b&amp;w printing, very quick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uitable for large volume printou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unning costs quite low due to high capacity cartridg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p1-12_Pic3"/>
          <p:cNvPicPr/>
          <p:nvPr/>
        </p:nvPicPr>
        <p:blipFill>
          <a:blip r:embed="rId1"/>
          <a:stretch/>
        </p:blipFill>
        <p:spPr>
          <a:xfrm>
            <a:off x="2157480" y="5288040"/>
            <a:ext cx="1268280" cy="118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j0285770"/>
          <p:cNvPicPr/>
          <p:nvPr/>
        </p:nvPicPr>
        <p:blipFill>
          <a:blip r:embed="rId2">
            <a:grayscl/>
          </a:blip>
          <a:stretch/>
        </p:blipFill>
        <p:spPr>
          <a:xfrm>
            <a:off x="5246640" y="5462640"/>
            <a:ext cx="1322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F98E-DFC4-49B6-97B7-1BA5DB309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 - Prin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 matrix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eel pins hit an inked ribb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noisy and poorer print qualit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by businesses for printing out multi-part invoices and wage slips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by architects for printing large scale drawin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veral coloured pens are used to draw output on paper or opaque fil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EPSON DLQ-3500"/>
          <p:cNvPicPr/>
          <p:nvPr/>
        </p:nvPicPr>
        <p:blipFill>
          <a:blip r:embed="rId1"/>
          <a:stretch/>
        </p:blipFill>
        <p:spPr>
          <a:xfrm>
            <a:off x="2048040" y="5208480"/>
            <a:ext cx="1398600" cy="98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p1-13_Pic4"/>
          <p:cNvPicPr/>
          <p:nvPr/>
        </p:nvPicPr>
        <p:blipFill>
          <a:blip r:embed="rId2"/>
          <a:stretch/>
        </p:blipFill>
        <p:spPr>
          <a:xfrm>
            <a:off x="6035760" y="5114880"/>
            <a:ext cx="14554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30C-4AF1-4414-BF03-DF333E9BE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Essential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 – to display results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Unit – this contains all the basic computer components that do all the har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– to enable text and commands to be input into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se – to enable the user to point and click at pictures and 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bs01180_"/>
          <p:cNvPicPr/>
          <p:nvPr/>
        </p:nvPicPr>
        <p:blipFill>
          <a:blip r:embed="rId1"/>
          <a:stretch/>
        </p:blipFill>
        <p:spPr>
          <a:xfrm>
            <a:off x="5292720" y="2979720"/>
            <a:ext cx="32194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1E5-F951-4384-A87A-98A4A2BC9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ut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nect to a soundcard supplied with multimedia PC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of the sound produced can either be controlled on the speakers or from within softwa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speakers"/>
          <p:cNvPicPr/>
          <p:nvPr/>
        </p:nvPicPr>
        <p:blipFill>
          <a:blip r:embed="rId1"/>
          <a:stretch/>
        </p:blipFill>
        <p:spPr>
          <a:xfrm>
            <a:off x="6411960" y="2585880"/>
            <a:ext cx="1900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D80A-E850-4678-A948-E20F3984D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put/Output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ows the user to touch an area of the screen rather than typing from a keyboar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mainly in tourist offices, bus information kiosks </a:t>
            </a:r>
            <a:r>
              <a:rPr b="0" i="1" lang="ar-JO" sz="1800" spc="-1" strike="noStrike">
                <a:solidFill>
                  <a:srgbClr val="000000"/>
                </a:solidFill>
                <a:latin typeface="Arial"/>
              </a:rPr>
              <a:t>كشك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 Job Centr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thes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as an input device to input music to a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as an output device, for example replicating human speech on telephone syste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touchscreen"/>
          <p:cNvPicPr/>
          <p:nvPr/>
        </p:nvPicPr>
        <p:blipFill>
          <a:blip r:embed="rId1"/>
          <a:stretch/>
        </p:blipFill>
        <p:spPr>
          <a:xfrm>
            <a:off x="3151080" y="4861080"/>
            <a:ext cx="201132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2A7-DC5F-4F73-B9E7-4DCFDAC4B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Storage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needed to store data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opular device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rd disk drive – this stores all your programs and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loppy disk drive – this stores smaller fi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D ROM drive – software and games are normally supplied on CD ROM disks.  Information is read-only and canno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DR/CD-RW drive – large amounts of data can be stored on a CDR or a CD-RW dis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VD ROM drive – these can be used to watch films et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8"/>
          <p:cNvGrpSpPr/>
          <p:nvPr/>
        </p:nvGrpSpPr>
        <p:grpSpPr>
          <a:xfrm>
            <a:off x="5646600" y="4510080"/>
            <a:ext cx="3022560" cy="1730520"/>
            <a:chOff x="5646600" y="4510080"/>
            <a:chExt cx="3022560" cy="1730520"/>
          </a:xfrm>
        </p:grpSpPr>
        <p:pic>
          <p:nvPicPr>
            <p:cNvPr id="222" name="Picture 6" descr="hard disk"/>
            <p:cNvPicPr/>
            <p:nvPr/>
          </p:nvPicPr>
          <p:blipFill>
            <a:blip r:embed="rId1"/>
            <a:stretch/>
          </p:blipFill>
          <p:spPr>
            <a:xfrm>
              <a:off x="6580080" y="4510080"/>
              <a:ext cx="12826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" descr="floppy drive"/>
            <p:cNvPicPr/>
            <p:nvPr/>
          </p:nvPicPr>
          <p:blipFill>
            <a:blip r:embed="rId2"/>
            <a:srcRect l="0" t="28189" r="0" b="24659"/>
            <a:stretch/>
          </p:blipFill>
          <p:spPr>
            <a:xfrm>
              <a:off x="5646600" y="5605560"/>
              <a:ext cx="134640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cd drive"/>
            <p:cNvPicPr/>
            <p:nvPr/>
          </p:nvPicPr>
          <p:blipFill>
            <a:blip r:embed="rId3"/>
            <a:srcRect l="0" t="20069" r="0" b="17549"/>
            <a:stretch/>
          </p:blipFill>
          <p:spPr>
            <a:xfrm flipH="1">
              <a:off x="7412040" y="5418000"/>
              <a:ext cx="1257120" cy="78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625-1089-448B-8BCE-DF30A1F258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Other Storage Device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22204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ip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s zip disks which can store either 100Mb or 250Mb of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internal or can plug into a PC’s USB 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z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imilar to a zip drive but can store up to 1Gb of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4040" y="2220480"/>
            <a:ext cx="38559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pe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s data cartridges for backing up data on serv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y slow access compared to other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s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lug into a USB 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ypical storage – 32Mb, 64Mb, 128Mb and 256M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3438360" y="5248440"/>
            <a:ext cx="2666880" cy="1218600"/>
            <a:chOff x="3438360" y="5248440"/>
            <a:chExt cx="2666880" cy="1218600"/>
          </a:xfrm>
        </p:grpSpPr>
        <p:pic>
          <p:nvPicPr>
            <p:cNvPr id="231" name="Picture 6" descr="zip drive"/>
            <p:cNvPicPr/>
            <p:nvPr/>
          </p:nvPicPr>
          <p:blipFill>
            <a:blip r:embed="rId1"/>
            <a:srcRect l="0" t="25136" r="0" b="18809"/>
            <a:stretch/>
          </p:blipFill>
          <p:spPr>
            <a:xfrm>
              <a:off x="3438360" y="5248440"/>
              <a:ext cx="1112040" cy="6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7" descr="jaz drive"/>
            <p:cNvPicPr/>
            <p:nvPr/>
          </p:nvPicPr>
          <p:blipFill>
            <a:blip r:embed="rId2"/>
            <a:srcRect l="0" t="17087" r="0" b="28557"/>
            <a:stretch/>
          </p:blipFill>
          <p:spPr>
            <a:xfrm>
              <a:off x="3804480" y="5968080"/>
              <a:ext cx="79344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8" descr="tape drive"/>
            <p:cNvPicPr/>
            <p:nvPr/>
          </p:nvPicPr>
          <p:blipFill>
            <a:blip r:embed="rId3"/>
            <a:stretch/>
          </p:blipFill>
          <p:spPr>
            <a:xfrm>
              <a:off x="4981680" y="5301360"/>
              <a:ext cx="630360" cy="4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9" descr="flash drive"/>
            <p:cNvPicPr/>
            <p:nvPr/>
          </p:nvPicPr>
          <p:blipFill>
            <a:blip r:embed="rId4"/>
            <a:srcRect l="0" t="20204" r="0" b="21655"/>
            <a:stretch/>
          </p:blipFill>
          <p:spPr>
            <a:xfrm>
              <a:off x="4947840" y="5878440"/>
              <a:ext cx="1157400" cy="58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D794-4B15-4687-A3C1-A892547E4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Removable Storage Comparison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468520"/>
          <a:ext cx="7864560" cy="3794040"/>
        </p:xfrm>
        <a:graphic>
          <a:graphicData uri="http://schemas.openxmlformats.org/drawingml/2006/table">
            <a:tbl>
              <a:tblPr/>
              <a:tblGrid>
                <a:gridCol w="1967040"/>
                <a:gridCol w="1965240"/>
                <a:gridCol w="1967040"/>
                <a:gridCol w="1965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ice of D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ice of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ppy di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dr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3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2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1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50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£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CFD9-803B-44A9-8C57-0D13AFB38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System Uni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contained in a tower case or desktop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s of a motherboard which contains complex electronic circuits and silic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computer components plug into the motherboard either directly into slots or by 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1276200" y="4375080"/>
            <a:ext cx="6583680" cy="1908360"/>
            <a:chOff x="1276200" y="4375080"/>
            <a:chExt cx="6583680" cy="1908360"/>
          </a:xfrm>
        </p:grpSpPr>
        <p:pic>
          <p:nvPicPr>
            <p:cNvPr id="99" name="Picture 8" descr="j0250630"/>
            <p:cNvPicPr/>
            <p:nvPr/>
          </p:nvPicPr>
          <p:blipFill>
            <a:blip r:embed="rId1"/>
            <a:stretch/>
          </p:blipFill>
          <p:spPr>
            <a:xfrm>
              <a:off x="5754600" y="4375080"/>
              <a:ext cx="21052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pc tower"/>
            <p:cNvPicPr/>
            <p:nvPr/>
          </p:nvPicPr>
          <p:blipFill>
            <a:blip r:embed="rId2"/>
            <a:stretch/>
          </p:blipFill>
          <p:spPr>
            <a:xfrm>
              <a:off x="3327480" y="4807080"/>
              <a:ext cx="1384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1" descr="pc desktop"/>
            <p:cNvPicPr/>
            <p:nvPr/>
          </p:nvPicPr>
          <p:blipFill>
            <a:blip r:embed="rId3"/>
            <a:stretch/>
          </p:blipFill>
          <p:spPr>
            <a:xfrm>
              <a:off x="1276200" y="4665600"/>
              <a:ext cx="1295640" cy="143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2CAC-8710-414F-876A-87725C3EEB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entral Processing Uni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50720"/>
            <a:ext cx="38559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brain of the computer which is a small silicon chip with two main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control unit – fetches computer instructions from the computer’s memory, decodes them and synchronises the computer’s opera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arithmetic /logic unit (ALU) where all the work is carried ou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ed is measured in Megahertz or Gigahe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6099120" y="2271600"/>
            <a:ext cx="1446120" cy="3365640"/>
            <a:chOff x="6099120" y="2271600"/>
            <a:chExt cx="1446120" cy="3365640"/>
          </a:xfrm>
        </p:grpSpPr>
        <p:pic>
          <p:nvPicPr>
            <p:cNvPr id="107" name="Picture 7" descr="cpuamd"/>
            <p:cNvPicPr/>
            <p:nvPr/>
          </p:nvPicPr>
          <p:blipFill>
            <a:blip r:embed="rId1"/>
            <a:stretch/>
          </p:blipFill>
          <p:spPr>
            <a:xfrm>
              <a:off x="6099120" y="227160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" descr="cpuintelceleron"/>
            <p:cNvPicPr/>
            <p:nvPr/>
          </p:nvPicPr>
          <p:blipFill>
            <a:blip r:embed="rId2"/>
            <a:stretch/>
          </p:blipFill>
          <p:spPr>
            <a:xfrm>
              <a:off x="6207120" y="4343400"/>
              <a:ext cx="1338120" cy="129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2683-F07E-467E-843C-E8298BC9C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Computer Memory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two kinds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M (Random Access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the computer’s working memo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more you have installed, the faster your computer will wor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 (Read Only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d to start your computer and load Window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OM can only be accessed by the CPU and canno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546200" y="5513400"/>
            <a:ext cx="5456160" cy="812880"/>
            <a:chOff x="1546200" y="5513400"/>
            <a:chExt cx="5456160" cy="812880"/>
          </a:xfrm>
        </p:grpSpPr>
        <p:pic>
          <p:nvPicPr>
            <p:cNvPr id="115" name="Picture 5" descr="bios chip"/>
            <p:cNvPicPr/>
            <p:nvPr/>
          </p:nvPicPr>
          <p:blipFill>
            <a:blip r:embed="rId1"/>
            <a:stretch/>
          </p:blipFill>
          <p:spPr>
            <a:xfrm>
              <a:off x="5979960" y="5587920"/>
              <a:ext cx="10224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ram"/>
            <p:cNvPicPr/>
            <p:nvPr/>
          </p:nvPicPr>
          <p:blipFill>
            <a:blip r:embed="rId2"/>
            <a:stretch/>
          </p:blipFill>
          <p:spPr>
            <a:xfrm>
              <a:off x="1546200" y="5513400"/>
              <a:ext cx="1384200" cy="81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D98F-3E4F-4E13-8A7D-6C485932A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RAM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236320"/>
            <a:ext cx="45975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to store information on a temporary basis (eg software, text document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U transfers information from the hard disk drive to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can then be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stored in RAM is tempo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computer is switched off, anything stored in RAM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ype of memory is called volatil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oftware"/>
          <p:cNvPicPr/>
          <p:nvPr/>
        </p:nvPicPr>
        <p:blipFill>
          <a:blip r:embed="rId1"/>
          <a:stretch/>
        </p:blipFill>
        <p:spPr>
          <a:xfrm>
            <a:off x="6388200" y="2911320"/>
            <a:ext cx="21859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35B-2529-4E15-8460-07BEFE9C7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n Example of RAM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357280"/>
            <a:ext cx="38559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 on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operating system software from the hard disk drive to R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indows desktop appe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-click on the Word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the software from the hard disk drive to R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4040" y="2329920"/>
            <a:ext cx="38559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a Word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processor transfers the file information into RAM so you can see it and make changes to 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don’t SAVE the document, the changes will be lost when you switch off the compu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DE0-0A8A-438D-A8A0-5F2546216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hat is ROM?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63680"/>
            <a:ext cx="385596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to store important information that the CPU needs to keep the PC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stored in R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only be accessed by the CPU and can’t be chang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s permanent and is retained after the computer is switched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used repeatedl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ype of memory is called non-vol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s chip"/>
          <p:cNvPicPr/>
          <p:nvPr/>
        </p:nvPicPr>
        <p:blipFill>
          <a:blip r:embed="rId1"/>
          <a:stretch/>
        </p:blipFill>
        <p:spPr>
          <a:xfrm>
            <a:off x="5759280" y="3097080"/>
            <a:ext cx="2400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9C1-56F5-4133-8F0B-D141BA1524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n Example of ROM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witch on your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Power On Self Test (POST) and boot-up are carried out to make sure your CPU, memory chips and other vital components are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 they are, then information is transferred to RAM to start up your operating softwa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f not, then an error message will appear on scre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C start-up software is stored in ROM so it can be used time and time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22:27:07Z</dcterms:created>
  <dc:creator>Karen B</dc:creator>
  <dc:description/>
  <dc:language>en-US</dc:language>
  <cp:lastModifiedBy> </cp:lastModifiedBy>
  <dcterms:modified xsi:type="dcterms:W3CDTF">2009-10-13T18:15:08Z</dcterms:modified>
  <cp:revision>9</cp:revision>
  <dc:subject/>
  <dc:title>European Computer Driving Licence</dc:title>
</cp:coreProperties>
</file>