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wmf" ContentType="image/x-wmf"/>
  <Override PartName="/ppt/media/image27.png" ContentType="image/png"/>
  <Override PartName="/ppt/media/image33.jpeg" ContentType="image/jpeg"/>
  <Override PartName="/ppt/media/image6.jpeg" ContentType="image/jpeg"/>
  <Override PartName="/ppt/media/image11.png" ContentType="image/pn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7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3.jpeg" ContentType="image/jpeg"/>
  <Override PartName="/ppt/media/image1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4DA-5C31-4AE6-8307-631296DB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82E-38CA-4956-9D8C-5C02FFA3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F9D-64DF-4A85-9984-DE7006F2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68E-8293-4658-AB74-CCAE33B6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BDA9-1974-446D-A45C-D781F6A0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4C6D-7730-496F-97BF-EEF591C5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7AF5-A355-4FB3-B462-51D56187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A519-7F70-4F1C-8EC0-9A4242F5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2315-C066-4664-B356-F20F6435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7375-B940-4F97-B2A0-B6BA5AEA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0308-71F1-40C4-BB9A-8ED54CF3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B9E-4A53-47AF-9DA5-36AE7593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C4E2-4C4D-4533-8209-F74CD881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6291-F3E2-4156-A51B-0F52A8D3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534A-CDEE-4FF3-B1EB-69F3D46B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DD42-70FC-44F2-B3FE-7152CC7C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F384-297C-456E-B3E6-E57AD29B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4E8-048C-4B48-B577-8BD59899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CC6-89C1-498F-AC82-473A7486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3AB-C313-4C9D-A5CD-0A8A3C0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11B-C40E-4055-BCDE-F33FD76D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B90-B8F7-49F4-9D82-8618D1E9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6C2-BA9F-4EB1-BD1D-35DDB99C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079-30D1-46CB-BE80-BF777A65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816F-D82D-4B5E-8BB2-35C3740861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1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7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1CBD-BB5F-40E8-9756-FC62C987D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buyer.com/customer/products/index.html?action=c2VsZWN0X3Byb2R1Y3Rfb3ZlcnZpZXc=&amp;product_uid=55629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buyer.com/customer/products/index.html?action=c2VsZWN0X3Byb2R1Y3Rfb3ZlcnZpZXc=&amp;product_uid=58436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56CE-9122-45DA-ADC9-290BE232A1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1493640"/>
            <a:ext cx="79092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3880" y="440532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.2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033E-7842-424A-924D-7CA757B829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How memory is measured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M is divided into millions of units called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byte contains 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24 bytes = 1 kilobyte (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24 Kb = 1 megabyte (M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24 Mb = 1 gigabyte (G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24 Gb = 1 terabyte (T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megabyte"/>
          <p:cNvPicPr/>
          <p:nvPr/>
        </p:nvPicPr>
        <p:blipFill>
          <a:blip r:embed="rId1"/>
          <a:stretch/>
        </p:blipFill>
        <p:spPr>
          <a:xfrm>
            <a:off x="5462640" y="2852640"/>
            <a:ext cx="287640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xampl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46240" y="2468160"/>
            <a:ext cx="43797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t 2048KB to By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48 KB = 2048 x 1024 By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2097152 Byt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94400" y="2468160"/>
            <a:ext cx="42861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t 2048KB to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48 KB = 2048/1024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E2B4-FD49-4C5A-BE39-3DD6E0BE9C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xampl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2468160"/>
            <a:ext cx="4626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t 2048KB to 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48 KB = 2048 x 1024 x 8   b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16777216 bi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94400" y="2468160"/>
            <a:ext cx="42861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t 2048KB to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48 KB = 2048/(1024x1024)    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2048/1048576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0.0019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C6D9-61C4-4D7E-98B0-9A5D943AE7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B9A3-D423-4C50-857D-D134F2CF8C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File Siz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840"/>
            <a:ext cx="3855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imple Word document will measure approx 20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12 page report with pictures will take up much more space – maybe 300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100 page user manual with photos and screenshots could be at least 2Mb i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 Excel, for example, takes up approx. 6Mb of hard disk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9"/>
          <p:cNvGraphicFramePr/>
          <p:nvPr/>
        </p:nvGraphicFramePr>
        <p:xfrm>
          <a:off x="5068800" y="2747880"/>
          <a:ext cx="330696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8800" y="2747880"/>
                    <a:ext cx="330696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5CB7-F7AF-4814-A168-F4BF29555E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Standard PC Memory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4240" y="2234880"/>
            <a:ext cx="385632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computers have improved so has the amount of memory – look at the following minimu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ndows 95 requires 8Mb RA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ndows 98 requires 16Mb RA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ndows Millennium requires 32Mb RA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ndows XP 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quires 128Mb RA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22480" y="2234880"/>
            <a:ext cx="385596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wanted to run additional software, you would need to double the above figur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memory"/>
          <p:cNvPicPr/>
          <p:nvPr/>
        </p:nvPicPr>
        <p:blipFill>
          <a:blip r:embed="rId1"/>
          <a:stretch/>
        </p:blipFill>
        <p:spPr>
          <a:xfrm>
            <a:off x="5229360" y="4151160"/>
            <a:ext cx="2911320" cy="15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01D5-C6C1-494E-9322-15E1A6798C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 Performa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main factors will determine how quickly your computer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speed of the processor (measured in megahertz or gigahertz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amount of RAM installed (measured in megabytes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time you launch software, the program is transferred to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have several programs running at once, this will slow down your compu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g0412593"/>
          <p:cNvPicPr/>
          <p:nvPr/>
        </p:nvPicPr>
        <p:blipFill>
          <a:blip r:embed="rId1"/>
          <a:stretch/>
        </p:blipFill>
        <p:spPr>
          <a:xfrm>
            <a:off x="3843360" y="4467240"/>
            <a:ext cx="1717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5099-F84C-4FCE-90EC-51D235AD61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Input devic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242532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devices used to 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p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ata 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8240" y="3147840"/>
          <a:ext cx="7864560" cy="3035520"/>
        </p:xfrm>
        <a:graphic>
          <a:graphicData uri="http://schemas.openxmlformats.org/drawingml/2006/table">
            <a:tbl>
              <a:tblPr/>
              <a:tblGrid>
                <a:gridCol w="2502000"/>
                <a:gridCol w="1430280"/>
                <a:gridCol w="2171880"/>
                <a:gridCol w="176040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bo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cam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5" name="Picture 56" descr="keyboard"/>
          <p:cNvPicPr/>
          <p:nvPr/>
        </p:nvPicPr>
        <p:blipFill>
          <a:blip r:embed="rId1"/>
          <a:srcRect l="0" t="21214" r="0" b="16290"/>
          <a:stretch/>
        </p:blipFill>
        <p:spPr>
          <a:xfrm>
            <a:off x="1390680" y="3208320"/>
            <a:ext cx="882720" cy="550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7" descr="trackball"/>
          <p:cNvPicPr/>
          <p:nvPr/>
        </p:nvPicPr>
        <p:blipFill>
          <a:blip r:embed="rId2"/>
          <a:stretch/>
        </p:blipFill>
        <p:spPr>
          <a:xfrm>
            <a:off x="1579680" y="4727520"/>
            <a:ext cx="509400" cy="58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8" descr="lightpen"/>
          <p:cNvPicPr/>
          <p:nvPr/>
        </p:nvPicPr>
        <p:blipFill>
          <a:blip r:embed="rId3"/>
          <a:stretch/>
        </p:blipFill>
        <p:spPr>
          <a:xfrm>
            <a:off x="5292720" y="3205080"/>
            <a:ext cx="797040" cy="662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9" descr="mouse"/>
          <p:cNvPicPr/>
          <p:nvPr/>
        </p:nvPicPr>
        <p:blipFill>
          <a:blip r:embed="rId4"/>
          <a:stretch/>
        </p:blipFill>
        <p:spPr>
          <a:xfrm>
            <a:off x="1495440" y="4010040"/>
            <a:ext cx="587520" cy="58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0" descr="microphone"/>
          <p:cNvPicPr/>
          <p:nvPr/>
        </p:nvPicPr>
        <p:blipFill>
          <a:blip r:embed="rId5"/>
          <a:stretch/>
        </p:blipFill>
        <p:spPr>
          <a:xfrm>
            <a:off x="1449360" y="5576760"/>
            <a:ext cx="649440" cy="528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1" descr="scanner"/>
          <p:cNvPicPr/>
          <p:nvPr/>
        </p:nvPicPr>
        <p:blipFill>
          <a:blip r:embed="rId6"/>
          <a:srcRect l="-1689" t="18895" r="15087" b="15087"/>
          <a:stretch/>
        </p:blipFill>
        <p:spPr>
          <a:xfrm>
            <a:off x="5235480" y="396540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2" descr="joystick"/>
          <p:cNvPicPr/>
          <p:nvPr/>
        </p:nvPicPr>
        <p:blipFill>
          <a:blip r:embed="rId7"/>
          <a:stretch/>
        </p:blipFill>
        <p:spPr>
          <a:xfrm>
            <a:off x="5322960" y="479592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3" descr="digicamera"/>
          <p:cNvPicPr/>
          <p:nvPr/>
        </p:nvPicPr>
        <p:blipFill>
          <a:blip r:embed="rId8"/>
          <a:srcRect l="0" t="10097" r="0" b="0"/>
          <a:stretch/>
        </p:blipFill>
        <p:spPr>
          <a:xfrm>
            <a:off x="5278320" y="5597640"/>
            <a:ext cx="846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D3C5-F45C-42A4-B118-222C96C2AC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utput Devices - Monito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2178000"/>
            <a:ext cx="385596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 in 15”, 17”, 19”, 21” screen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icture is made up of millions of dots called pixel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icture quality depends on number of pixels going across and down the scre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fresh rate is the number of times the picture is drawn on scre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4040" y="2178000"/>
            <a:ext cx="385596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800 x 600 is typical of a 15” scre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600 x 1200 is typical of larger scree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differ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T monitors – similar to a TV scre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FT monitors – much more slim lin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3098880" y="5343480"/>
            <a:ext cx="3006720" cy="1108080"/>
            <a:chOff x="3098880" y="5343480"/>
            <a:chExt cx="3006720" cy="1108080"/>
          </a:xfrm>
        </p:grpSpPr>
        <p:pic>
          <p:nvPicPr>
            <p:cNvPr id="189" name="Picture 5" descr="CTX S962A 19ins TFT 0.29dpi 66khz TCO99 Black &amp; Silver&#10;QuickFind Code: 55629&#10;Mfr part #: S962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388120" y="5435640"/>
              <a:ext cx="717480" cy="10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6" descr="Ebuyer VC171 17ins CRT 0.27dpi in Ivory&#10;QuickFind Code: 58436&#10;Mfr part #: VC17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098880" y="5343480"/>
              <a:ext cx="955440" cy="10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E106-5068-40A8-B403-1729301E81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utput Devices - Prin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kjet 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inly used by home us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nochrome and colour print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k is forced through holes onto the pap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unning cost quite high per pag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ser 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andard in most offic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y high quality b&amp;w printing, very quickl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uitable for large volume printou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unning costs quite low due to high capacity cartridg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p1-12_Pic3"/>
          <p:cNvPicPr/>
          <p:nvPr/>
        </p:nvPicPr>
        <p:blipFill>
          <a:blip r:embed="rId1"/>
          <a:stretch/>
        </p:blipFill>
        <p:spPr>
          <a:xfrm>
            <a:off x="2157480" y="5288040"/>
            <a:ext cx="1268280" cy="1182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j0285770"/>
          <p:cNvPicPr/>
          <p:nvPr/>
        </p:nvPicPr>
        <p:blipFill>
          <a:blip r:embed="rId2">
            <a:grayscl/>
          </a:blip>
          <a:stretch/>
        </p:blipFill>
        <p:spPr>
          <a:xfrm>
            <a:off x="5246640" y="5462640"/>
            <a:ext cx="13222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78F2-4820-4BDC-A6AF-10121E209F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utput Devices - Prin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 matrix 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eel pins hit an inked ribb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y noisy and poorer print qualit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d mainly by businesses for printing out multi-part invoices and wage slips etc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d mainly by architects for printing large scale drawing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veral coloured pens are used to draw output on paper or opaque fil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EPSON DLQ-3500"/>
          <p:cNvPicPr/>
          <p:nvPr/>
        </p:nvPicPr>
        <p:blipFill>
          <a:blip r:embed="rId1"/>
          <a:stretch/>
        </p:blipFill>
        <p:spPr>
          <a:xfrm>
            <a:off x="2048040" y="5208480"/>
            <a:ext cx="1398600" cy="987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p1-13_Pic4"/>
          <p:cNvPicPr/>
          <p:nvPr/>
        </p:nvPicPr>
        <p:blipFill>
          <a:blip r:embed="rId2"/>
          <a:stretch/>
        </p:blipFill>
        <p:spPr>
          <a:xfrm>
            <a:off x="6035760" y="5114880"/>
            <a:ext cx="14554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41BE-18AC-4865-8F54-176583ED75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 Essential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 – to display results of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Unit – this contains all the basic computer components that do all the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board – to enable text and commands to be input into the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use – to enable the user to point and click at pictures and m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bs01180_"/>
          <p:cNvPicPr/>
          <p:nvPr/>
        </p:nvPicPr>
        <p:blipFill>
          <a:blip r:embed="rId1"/>
          <a:stretch/>
        </p:blipFill>
        <p:spPr>
          <a:xfrm>
            <a:off x="5292720" y="2979720"/>
            <a:ext cx="321948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BE50-E4F3-4F88-8A41-494F9E78BE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utput Devic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nect to a soundcard supplied with multimedia PC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of the sound produced can either be controlled on the speakers or from within softwa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speakers"/>
          <p:cNvPicPr/>
          <p:nvPr/>
        </p:nvPicPr>
        <p:blipFill>
          <a:blip r:embed="rId1"/>
          <a:stretch/>
        </p:blipFill>
        <p:spPr>
          <a:xfrm>
            <a:off x="6411960" y="2585880"/>
            <a:ext cx="1900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018C-DF21-4A37-ACAC-4024859048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Input/Output Devic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ch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ows the user to touch an area of the screen rather than typing from a keyboar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d mainly in tourist offices, bus information kiosks </a:t>
            </a:r>
            <a:r>
              <a:rPr b="0" i="1" lang="ar-JO" sz="1800" spc="-1" strike="noStrike">
                <a:solidFill>
                  <a:srgbClr val="000000"/>
                </a:solidFill>
                <a:latin typeface="Arial"/>
              </a:rPr>
              <a:t>كشك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d Job Centr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nthes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be used as an input device to input music to a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be used as an output device, for example replicating human speech on telephone system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touchscreen"/>
          <p:cNvPicPr/>
          <p:nvPr/>
        </p:nvPicPr>
        <p:blipFill>
          <a:blip r:embed="rId1"/>
          <a:stretch/>
        </p:blipFill>
        <p:spPr>
          <a:xfrm>
            <a:off x="3151080" y="4861080"/>
            <a:ext cx="201132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518A-5C72-4591-954D-0C186BA63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Storage Devic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needed to store data on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opular device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ard disk drive – this stores all your programs and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loppy disk drive – this stores smaller fil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D ROM drive – software and games are normally supplied on CD ROM disks.  Information is read-only and cannot be chang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DR/CD-RW drive – large amounts of data can be stored on a CDR or a CD-RW dis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VD ROM drive – these can be used to watch films etc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8"/>
          <p:cNvGrpSpPr/>
          <p:nvPr/>
        </p:nvGrpSpPr>
        <p:grpSpPr>
          <a:xfrm>
            <a:off x="5646600" y="4510080"/>
            <a:ext cx="3022560" cy="1730520"/>
            <a:chOff x="5646600" y="4510080"/>
            <a:chExt cx="3022560" cy="1730520"/>
          </a:xfrm>
        </p:grpSpPr>
        <p:pic>
          <p:nvPicPr>
            <p:cNvPr id="222" name="Picture 6" descr="hard disk"/>
            <p:cNvPicPr/>
            <p:nvPr/>
          </p:nvPicPr>
          <p:blipFill>
            <a:blip r:embed="rId1"/>
            <a:stretch/>
          </p:blipFill>
          <p:spPr>
            <a:xfrm>
              <a:off x="6580080" y="4510080"/>
              <a:ext cx="128268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7" descr="floppy drive"/>
            <p:cNvPicPr/>
            <p:nvPr/>
          </p:nvPicPr>
          <p:blipFill>
            <a:blip r:embed="rId2"/>
            <a:srcRect l="0" t="28189" r="0" b="24659"/>
            <a:stretch/>
          </p:blipFill>
          <p:spPr>
            <a:xfrm>
              <a:off x="5646600" y="5605560"/>
              <a:ext cx="13464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5" descr="cd drive"/>
            <p:cNvPicPr/>
            <p:nvPr/>
          </p:nvPicPr>
          <p:blipFill>
            <a:blip r:embed="rId3"/>
            <a:srcRect l="0" t="20069" r="0" b="17549"/>
            <a:stretch/>
          </p:blipFill>
          <p:spPr>
            <a:xfrm flipH="1">
              <a:off x="7412040" y="5418000"/>
              <a:ext cx="1257120" cy="78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EB55-0E54-459F-A381-56CAADAB70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ther Storage Devic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2220480"/>
            <a:ext cx="385596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ip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s zip disks which can store either 100Mb or 250Mb of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be internal or can plug into a PC’s USB por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z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imilar to a zip drive but can store up to 1Gb of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4040" y="2220480"/>
            <a:ext cx="385596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pe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s data cartridges for backing up data on serv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y slow access compared to other op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s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lug into a USB por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ypical storage – 32Mb, 64Mb, 128Mb and 256M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0"/>
          <p:cNvGrpSpPr/>
          <p:nvPr/>
        </p:nvGrpSpPr>
        <p:grpSpPr>
          <a:xfrm>
            <a:off x="3438360" y="5248440"/>
            <a:ext cx="2666880" cy="1218600"/>
            <a:chOff x="3438360" y="5248440"/>
            <a:chExt cx="2666880" cy="1218600"/>
          </a:xfrm>
        </p:grpSpPr>
        <p:pic>
          <p:nvPicPr>
            <p:cNvPr id="231" name="Picture 6" descr="zip drive"/>
            <p:cNvPicPr/>
            <p:nvPr/>
          </p:nvPicPr>
          <p:blipFill>
            <a:blip r:embed="rId1"/>
            <a:srcRect l="0" t="25136" r="0" b="18809"/>
            <a:stretch/>
          </p:blipFill>
          <p:spPr>
            <a:xfrm>
              <a:off x="3438360" y="5248440"/>
              <a:ext cx="1112040" cy="6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7" descr="jaz drive"/>
            <p:cNvPicPr/>
            <p:nvPr/>
          </p:nvPicPr>
          <p:blipFill>
            <a:blip r:embed="rId2"/>
            <a:srcRect l="0" t="17087" r="0" b="28557"/>
            <a:stretch/>
          </p:blipFill>
          <p:spPr>
            <a:xfrm>
              <a:off x="3804480" y="5968080"/>
              <a:ext cx="79344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8" descr="tape drive"/>
            <p:cNvPicPr/>
            <p:nvPr/>
          </p:nvPicPr>
          <p:blipFill>
            <a:blip r:embed="rId3"/>
            <a:stretch/>
          </p:blipFill>
          <p:spPr>
            <a:xfrm>
              <a:off x="4981680" y="5301360"/>
              <a:ext cx="630360" cy="4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9" descr="flash drive"/>
            <p:cNvPicPr/>
            <p:nvPr/>
          </p:nvPicPr>
          <p:blipFill>
            <a:blip r:embed="rId4"/>
            <a:srcRect l="0" t="20204" r="0" b="21655"/>
            <a:stretch/>
          </p:blipFill>
          <p:spPr>
            <a:xfrm>
              <a:off x="4947840" y="5878440"/>
              <a:ext cx="1157400" cy="58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D7EC-5146-45AE-B3E0-7574CF7250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Removable Storage Comparison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468520"/>
          <a:ext cx="7864560" cy="3794040"/>
        </p:xfrm>
        <a:graphic>
          <a:graphicData uri="http://schemas.openxmlformats.org/drawingml/2006/table">
            <a:tbl>
              <a:tblPr/>
              <a:tblGrid>
                <a:gridCol w="1967040"/>
                <a:gridCol w="1965240"/>
                <a:gridCol w="1967040"/>
                <a:gridCol w="19652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De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rice of Dr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rice of 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ppy di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4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0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 dr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3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2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2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50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4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BC53-5574-4137-BFF8-6499D8593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System Uni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contained in a tower case or desktop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sts of a motherboard which contains complex electronic circuits and silic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e computer components plug into the motherboard either directly into slots or by 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1276200" y="4375080"/>
            <a:ext cx="6583680" cy="1908360"/>
            <a:chOff x="1276200" y="4375080"/>
            <a:chExt cx="6583680" cy="1908360"/>
          </a:xfrm>
        </p:grpSpPr>
        <p:pic>
          <p:nvPicPr>
            <p:cNvPr id="99" name="Picture 8" descr="j0250630"/>
            <p:cNvPicPr/>
            <p:nvPr/>
          </p:nvPicPr>
          <p:blipFill>
            <a:blip r:embed="rId1"/>
            <a:stretch/>
          </p:blipFill>
          <p:spPr>
            <a:xfrm>
              <a:off x="5754600" y="4375080"/>
              <a:ext cx="210528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pc tower"/>
            <p:cNvPicPr/>
            <p:nvPr/>
          </p:nvPicPr>
          <p:blipFill>
            <a:blip r:embed="rId2"/>
            <a:stretch/>
          </p:blipFill>
          <p:spPr>
            <a:xfrm>
              <a:off x="3327480" y="4807080"/>
              <a:ext cx="13842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1" descr="pc desktop"/>
            <p:cNvPicPr/>
            <p:nvPr/>
          </p:nvPicPr>
          <p:blipFill>
            <a:blip r:embed="rId3"/>
            <a:stretch/>
          </p:blipFill>
          <p:spPr>
            <a:xfrm>
              <a:off x="1276200" y="4665600"/>
              <a:ext cx="1295640" cy="143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186B-AC92-457E-801B-E15283D193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entral Processing Uni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250720"/>
            <a:ext cx="38559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brain of the computer which is a small silicon chip with two main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control unit – fetches computer instructions from the computer’s memory, decodes them and synchronises the computer’s opera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arithmetic /logic unit (ALU) where all the work is carried ou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ed is measured in Megahertz or Gigahe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6099120" y="2271600"/>
            <a:ext cx="1446120" cy="3365640"/>
            <a:chOff x="6099120" y="2271600"/>
            <a:chExt cx="1446120" cy="3365640"/>
          </a:xfrm>
        </p:grpSpPr>
        <p:pic>
          <p:nvPicPr>
            <p:cNvPr id="107" name="Picture 7" descr="cpuamd"/>
            <p:cNvPicPr/>
            <p:nvPr/>
          </p:nvPicPr>
          <p:blipFill>
            <a:blip r:embed="rId1"/>
            <a:stretch/>
          </p:blipFill>
          <p:spPr>
            <a:xfrm>
              <a:off x="6099120" y="2271600"/>
              <a:ext cx="140976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8" descr="cpuintelceleron"/>
            <p:cNvPicPr/>
            <p:nvPr/>
          </p:nvPicPr>
          <p:blipFill>
            <a:blip r:embed="rId2"/>
            <a:stretch/>
          </p:blipFill>
          <p:spPr>
            <a:xfrm>
              <a:off x="6207120" y="4343400"/>
              <a:ext cx="1338120" cy="1293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EAC5-2020-49CF-ABA3-D3CF0CE1B3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 Memory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two kinds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M (Random Access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s is the computer’s working memor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more you have installed, the faster your computer will wor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 (Read Only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d to start your computer and load Window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OM can only be accessed by the CPU and cannot be chang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1546200" y="5513400"/>
            <a:ext cx="5456160" cy="812880"/>
            <a:chOff x="1546200" y="5513400"/>
            <a:chExt cx="5456160" cy="812880"/>
          </a:xfrm>
        </p:grpSpPr>
        <p:pic>
          <p:nvPicPr>
            <p:cNvPr id="115" name="Picture 5" descr="bios chip"/>
            <p:cNvPicPr/>
            <p:nvPr/>
          </p:nvPicPr>
          <p:blipFill>
            <a:blip r:embed="rId1"/>
            <a:stretch/>
          </p:blipFill>
          <p:spPr>
            <a:xfrm>
              <a:off x="5979960" y="5587920"/>
              <a:ext cx="102240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ram"/>
            <p:cNvPicPr/>
            <p:nvPr/>
          </p:nvPicPr>
          <p:blipFill>
            <a:blip r:embed="rId2"/>
            <a:stretch/>
          </p:blipFill>
          <p:spPr>
            <a:xfrm>
              <a:off x="1546200" y="5513400"/>
              <a:ext cx="1384200" cy="81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5348-256B-42DC-999F-DD930F79CB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What is RAM?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236320"/>
            <a:ext cx="459756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to store information on a temporary basis (eg software, text document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PU transfers information from the hard disk drive to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can then be 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stored in RAM is tempo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computer is switched off, anything stored in RAM is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ype of memory is called volatil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software"/>
          <p:cNvPicPr/>
          <p:nvPr/>
        </p:nvPicPr>
        <p:blipFill>
          <a:blip r:embed="rId1"/>
          <a:stretch/>
        </p:blipFill>
        <p:spPr>
          <a:xfrm>
            <a:off x="6388200" y="2911320"/>
            <a:ext cx="218592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A98B-756A-493A-8F72-BE09D56741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An Example of RAM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357280"/>
            <a:ext cx="385596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ch on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processor transfers operating system software from the hard disk drive to R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Windows desktop appea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ble-click on the Word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processor transfers the software from the hard disk drive to R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4040" y="2329920"/>
            <a:ext cx="385596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a Word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processor transfers the file information into RAM so you can see it and make changes to 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don’t SAVE the document, the changes will be lost when you switch off the compu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0ADB-C5AB-499A-B1CF-30AF70B68D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What is ROM?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263680"/>
            <a:ext cx="385596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to store important information that the CPU needs to keep the PC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stored in RO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only be accessed by the CPU and can’t be chang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s permanent and is retained after the computer is switched off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be used repeatedl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ype of memory is called non-vola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s chip"/>
          <p:cNvPicPr/>
          <p:nvPr/>
        </p:nvPicPr>
        <p:blipFill>
          <a:blip r:embed="rId1"/>
          <a:stretch/>
        </p:blipFill>
        <p:spPr>
          <a:xfrm>
            <a:off x="5759280" y="3097080"/>
            <a:ext cx="240048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CF19-7E00-42E6-9149-0BE4CA4ECC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An Example of ROM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witch on your comp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Power On Self Test (POST) and boot-up are carried out to make sure your CPU, memory chips and other vital components are wo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f they are, then information is transferred to RAM to start up your operating softwa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f not, then an error message will appear on scre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C start-up software is stored in ROM so it can be used time and time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22:27:07Z</dcterms:created>
  <dc:creator>Karen B</dc:creator>
  <dc:description/>
  <dc:language>en-US</dc:language>
  <cp:lastModifiedBy> </cp:lastModifiedBy>
  <dcterms:modified xsi:type="dcterms:W3CDTF">2009-10-13T18:15:08Z</dcterms:modified>
  <cp:revision>9</cp:revision>
  <dc:subject/>
  <dc:title>European Computer Driving Licence</dc:title>
</cp:coreProperties>
</file>