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681-FD8D-48A1-B92C-1145489A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C6E-21FD-4D8B-85F2-D62AB8F7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65CF-0A68-4536-B0DF-0B3CEDB9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923-633D-4239-9529-348054CE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138D-81F7-4531-A866-47895C7A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2CF3-B05E-469D-A098-E59A36DD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8F6D-E9B4-4224-BD35-D22578BF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7E16-C5D3-4FDE-A458-97BE0915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DD0B-F744-498A-8EDD-B6BADCA8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4960" y="11426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4483-EEA5-4323-B76C-EB873230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0FD2-AD1F-4EA6-8D0D-816762ED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67C2-42AA-4493-9ADE-B8C81D9E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B21C-7110-4E2A-8DB6-546808D6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DDEF-4A90-4B31-B0CC-71079503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1A88-5EC4-40B0-9E24-F2A74B02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CF9D-8052-4025-896E-F663C027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512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444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512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444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93D0-2FE4-4C24-9A95-50C3B2F9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70B-5B13-4642-8496-ED324BF0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EF7-954F-43F6-92A2-D338AE8D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2BD-411A-4B59-9051-52AD2402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4960" y="11426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88D-F557-415B-BE0F-884FBD6D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4A2-7F8E-4110-8CA6-CD8BC00D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D44-EF50-4240-ACAA-2150B7D8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EB5-E827-47FA-B5C2-BAD33C61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4B76-131E-4908-BCCB-DB818BDB86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61" descr="banner"/>
          <p:cNvPicPr/>
          <p:nvPr/>
        </p:nvPicPr>
        <p:blipFill>
          <a:blip r:embed="rId2"/>
          <a:srcRect l="0" t="15619" r="0" b="0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7" descr="banner"/>
          <p:cNvPicPr/>
          <p:nvPr/>
        </p:nvPicPr>
        <p:blipFill>
          <a:blip r:embed="rId2"/>
          <a:srcRect l="0" t="15619" r="0" b="0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20B2-DF0A-4BDA-9F32-36EFCA1B1E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4B98-3F67-42B8-B817-9BD124691F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1493640"/>
            <a:ext cx="79092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23880" y="440532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Module 1 – Concepts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Chapter 1.3 -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5E2C-D7FC-4DC9-991A-C172147E92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The Systems Life Cycl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1477800" y="3429000"/>
            <a:ext cx="1621080" cy="1065240"/>
          </a:xfrm>
          <a:prstGeom prst="ellipse">
            <a:avLst/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2192400" y="5448240"/>
            <a:ext cx="1620720" cy="1065240"/>
          </a:xfrm>
          <a:prstGeom prst="ellipse">
            <a:avLst/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6026040" y="3429000"/>
            <a:ext cx="1621080" cy="1065240"/>
          </a:xfrm>
          <a:prstGeom prst="ellipse">
            <a:avLst/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3760920" y="2363760"/>
            <a:ext cx="1620720" cy="1065240"/>
          </a:xfrm>
          <a:prstGeom prst="ellipse">
            <a:avLst/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5248440" y="5442120"/>
            <a:ext cx="1620720" cy="1066680"/>
          </a:xfrm>
          <a:prstGeom prst="ellipse">
            <a:avLst/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5624640" y="2878200"/>
            <a:ext cx="664920" cy="384120"/>
          </a:xfrm>
          <a:prstGeom prst="line">
            <a:avLst/>
          </a:prstGeom>
          <a:ln cap="sq" w="507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6393960" y="4768920"/>
            <a:ext cx="249480" cy="550800"/>
          </a:xfrm>
          <a:prstGeom prst="line">
            <a:avLst/>
          </a:prstGeom>
          <a:ln cap="sq" w="507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4199040" y="6027840"/>
            <a:ext cx="815760" cy="11160"/>
          </a:xfrm>
          <a:prstGeom prst="line">
            <a:avLst/>
          </a:prstGeom>
          <a:ln cap="sq" w="507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7"/>
          <p:cNvSpPr/>
          <p:nvPr/>
        </p:nvSpPr>
        <p:spPr>
          <a:xfrm flipH="1" flipV="1">
            <a:off x="2476440" y="4718160"/>
            <a:ext cx="455760" cy="528480"/>
          </a:xfrm>
          <a:prstGeom prst="line">
            <a:avLst/>
          </a:prstGeom>
          <a:ln cap="sq" w="507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8"/>
          <p:cNvSpPr/>
          <p:nvPr/>
        </p:nvSpPr>
        <p:spPr>
          <a:xfrm flipV="1">
            <a:off x="2865600" y="2847960"/>
            <a:ext cx="679320" cy="387360"/>
          </a:xfrm>
          <a:prstGeom prst="line">
            <a:avLst/>
          </a:prstGeom>
          <a:ln cap="sq" w="507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99D6-4DA0-46C1-BEA3-6F43E77FD7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The Different Stag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hen the need for a computer system is identified, a systems analyst will analyse the requirements – how will information be input? What processing is required? What output is required?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overall system is designed with each subsection in fine detail, including screen layouts, user interfaces, format of stored data, processing and outpu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 team of programmers will each work on a module of the final package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FCCA-D8BA-43E6-9B25-F0074AC1F7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The Different Stages (cont’d)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ach section is tested individually and then as part of the whole suite.  Data is supplied (including ‘normal’ and ‘erroneous’) to test the system to make sure it is stable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nce the system has been put into operation, it must be evaluated to see how well it perform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new system may be needed and the whole process starts agai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B9AE-DB28-4446-B3B2-E192FA6CBF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What is software?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468520"/>
            <a:ext cx="786456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arily a list of instructions coded in a special way that computers can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66"/>
                </a:solidFill>
                <a:latin typeface="Arial"/>
              </a:rPr>
              <a:t>Operating system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software – eg Windows which works in the background and controls your software and hardware devices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66"/>
                </a:solidFill>
                <a:latin typeface="Arial"/>
              </a:rPr>
              <a:t>Applications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software – eg Microsoft Word – software used to perform task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j0238259"/>
          <p:cNvPicPr/>
          <p:nvPr/>
        </p:nvPicPr>
        <p:blipFill>
          <a:blip r:embed="rId1"/>
          <a:stretch/>
        </p:blipFill>
        <p:spPr>
          <a:xfrm>
            <a:off x="3697200" y="5160960"/>
            <a:ext cx="168912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980E-7935-4A8E-BF0C-34175FA069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Software Updat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tware is constantly updated to give the user improved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software manufacturers will provide updates to solve problem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tware manufacturers will provide new versions to comply with new operat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careful with software versions – a file created in Word 2003 may not be opened on a PC running Word 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downloadupdates"/>
          <p:cNvPicPr/>
          <p:nvPr/>
        </p:nvPicPr>
        <p:blipFill>
          <a:blip r:embed="rId1"/>
          <a:stretch/>
        </p:blipFill>
        <p:spPr>
          <a:xfrm>
            <a:off x="6004080" y="4332240"/>
            <a:ext cx="13078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7B67-7F8F-4388-B1C4-66CC528BA7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Operating System Softwar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ies of programs that organise and control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vides an interface so that the user can communicate with the comput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municates between software and hardware devic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rganises the storage and retrieval of informati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nages the smooth running of programs running in RAM by allocating the required resourc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opsystem"/>
          <p:cNvPicPr/>
          <p:nvPr/>
        </p:nvPicPr>
        <p:blipFill>
          <a:blip r:embed="rId1"/>
          <a:stretch/>
        </p:blipFill>
        <p:spPr>
          <a:xfrm>
            <a:off x="5564160" y="3979800"/>
            <a:ext cx="3219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3E80-A717-48F9-936B-7DA020FD2A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pular Operating System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217600"/>
            <a:ext cx="385596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soft Windows is the most widely-used operating system (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2 is an OS created by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cintosh (MacOS) was created by Ap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ux is a popular alternative open-sourc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S-DOS was precursor of Windows but text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x is another OS used in companies or 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otheross"/>
          <p:cNvPicPr/>
          <p:nvPr/>
        </p:nvPicPr>
        <p:blipFill>
          <a:blip r:embed="rId1"/>
          <a:stretch/>
        </p:blipFill>
        <p:spPr>
          <a:xfrm>
            <a:off x="5041800" y="3081240"/>
            <a:ext cx="28861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98BB-9EE3-458E-96C8-2072729B4B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Graphical User Interfac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468520"/>
            <a:ext cx="786456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ables users to click and point at icons and menus on screen, instead of typing in computer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2108160" y="3300480"/>
            <a:ext cx="478944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03BC-7AB3-452B-9A36-CC4E97AC7A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Applications Softwar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ord process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used for typing letters, memos, report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Spreadshe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used for performing calculations (eg Accounts) and for creating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Databa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used for storing large quantities of data which can be interrogated to display specified pieces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Desktop Publish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used for creating newsletters, booklets, posters, card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Present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used for creating presentations which can either be displayed on screen, or printed onto overhead projection film or 35 mm sl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eb brows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allows users to view and download information from the world wid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0816-9031-4893-9F4E-A4F35D8712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Examples of Application Software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soft Office – which compri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Word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(word processing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xcel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(spreadsheet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Acces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(database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owerPoint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(presentation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ublishe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(desktop publishing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utlook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(e-mail software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Frontpag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(web page creation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et Explorer / Netscape Navigator / Mozilla / Opera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web browser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lDraw!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raph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g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ccounts and payro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g0412512"/>
          <p:cNvPicPr/>
          <p:nvPr/>
        </p:nvPicPr>
        <p:blipFill>
          <a:blip r:embed="rId1"/>
          <a:stretch/>
        </p:blipFill>
        <p:spPr>
          <a:xfrm>
            <a:off x="5940360" y="4699080"/>
            <a:ext cx="130356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E410-CC19-4D7B-A08B-05AD118709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Systems Developmen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r-based systems are developed by specialist teams of system analysts and program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of large computer-based systems can involve dozens of people working over a few months or even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l methods and procedures are applied to ensure the project is delivered 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process is known as the Systems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08:18:38Z</dcterms:created>
  <dc:creator>Karen B</dc:creator>
  <dc:description/>
  <dc:language>en-US</dc:language>
  <cp:lastModifiedBy>Ahmad Aseeri</cp:lastModifiedBy>
  <dcterms:modified xsi:type="dcterms:W3CDTF">2011-10-01T14:37:02Z</dcterms:modified>
  <cp:revision>10</cp:revision>
  <dc:subject/>
  <dc:title>European Computer Driving Licence</dc:title>
</cp:coreProperties>
</file>