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jpeg" ContentType="image/jpe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0030-15BE-49F8-8BD4-ED656800E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786456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450320"/>
            <a:ext cx="786456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3422-87DB-44EC-9A0F-C3BB22A5F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564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45032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5640" y="445032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FB9E-00BD-4F73-BB03-2BF2A8876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5120" y="246816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4440" y="246816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45032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5120" y="445032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4440" y="445032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316E-C3A4-459E-BB02-CC5124264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7B976-30D3-4420-A8FF-967FCF828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2468160"/>
            <a:ext cx="7864560" cy="379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2B5F1-36CD-420F-8655-B02DB8163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786456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3C264-0AC1-4516-9793-89B7660F4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383760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5640" y="2468160"/>
            <a:ext cx="383760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DD795-62E3-4CC3-9856-A64BAF2EB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E8FE2-793B-47CE-BE0F-8829F6A9A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24960" y="1142640"/>
            <a:ext cx="7923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3A8DE-AD60-4145-A662-5B4F6EDF1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5640" y="2468160"/>
            <a:ext cx="383760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45032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83BC9-2175-4199-8008-B6603F9C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468160"/>
            <a:ext cx="7864560" cy="379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027C-666A-4E6A-9F38-658BD30D0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383760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564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15640" y="445032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21D48-7834-499F-AE1D-BDE77B8F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564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450320"/>
            <a:ext cx="786456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E4E11-B184-4FDA-8A9A-8D39D31C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786456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450320"/>
            <a:ext cx="786456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DC9B3-7F78-466A-ABCA-3A072674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564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45032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15640" y="445032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93C60-C52A-4B01-BAC7-3E4BCFFFF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45120" y="246816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4440" y="246816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45032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45120" y="445032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4440" y="445032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08552-BCCD-453A-911E-993F5DC3C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786456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54D1-6632-4D46-8000-E98B9BA74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383760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5640" y="2468160"/>
            <a:ext cx="383760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5476-80F2-455F-8A50-5736E12D3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83B4-7B66-42DF-A5CC-831287A24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4960" y="1142640"/>
            <a:ext cx="7923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D2E9-8755-456A-8CC1-EE2D5D156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5640" y="2468160"/>
            <a:ext cx="383760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45032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39A5-1876-4B9D-9D63-872597BF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383760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564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5640" y="445032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6D4E-7F71-4A63-A5B5-9F2EE0CE0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564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450320"/>
            <a:ext cx="786456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A998-45DD-418E-9170-2681E36D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468160"/>
            <a:ext cx="786456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5E61C-9A32-4D48-B2FF-F2B7505263D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61" descr="banner"/>
          <p:cNvPicPr/>
          <p:nvPr/>
        </p:nvPicPr>
        <p:blipFill>
          <a:blip r:embed="rId2"/>
          <a:srcRect l="0" t="15619" r="0" b="0"/>
          <a:stretch/>
        </p:blipFill>
        <p:spPr>
          <a:xfrm>
            <a:off x="0" y="0"/>
            <a:ext cx="9144000" cy="12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7" descr="banner"/>
          <p:cNvPicPr/>
          <p:nvPr/>
        </p:nvPicPr>
        <p:blipFill>
          <a:blip r:embed="rId2"/>
          <a:srcRect l="0" t="15619" r="0" b="0"/>
          <a:stretch/>
        </p:blipFill>
        <p:spPr>
          <a:xfrm>
            <a:off x="0" y="0"/>
            <a:ext cx="9144000" cy="1236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2468160"/>
            <a:ext cx="786456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98520-67B2-468B-9C42-96387B02B5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95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96"/>
          <p:cNvSpPr/>
          <p:nvPr/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C5E9A-D790-4EE0-AF2A-B45F335855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1400" y="1493640"/>
            <a:ext cx="7909200" cy="23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Arial"/>
              </a:rPr>
              <a:t>European Computer Driving Licence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23880" y="4405320"/>
            <a:ext cx="79264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Module 1 – Concepts of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Chapter 1.3 -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7CFC-B298-4C2F-8918-9EEC7BB6FC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The Systems Life Cycle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32" name="Oval 9"/>
          <p:cNvSpPr/>
          <p:nvPr/>
        </p:nvSpPr>
        <p:spPr>
          <a:xfrm>
            <a:off x="1477800" y="3429000"/>
            <a:ext cx="1621080" cy="1065240"/>
          </a:xfrm>
          <a:prstGeom prst="ellipse">
            <a:avLst/>
          </a:prstGeom>
          <a:solidFill>
            <a:srgbClr val="ff00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Oval 10"/>
          <p:cNvSpPr/>
          <p:nvPr/>
        </p:nvSpPr>
        <p:spPr>
          <a:xfrm>
            <a:off x="2192400" y="5448240"/>
            <a:ext cx="1620720" cy="1065240"/>
          </a:xfrm>
          <a:prstGeom prst="ellipse">
            <a:avLst/>
          </a:prstGeom>
          <a:solidFill>
            <a:srgbClr val="ff00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Oval 11"/>
          <p:cNvSpPr/>
          <p:nvPr/>
        </p:nvSpPr>
        <p:spPr>
          <a:xfrm>
            <a:off x="6026040" y="3429000"/>
            <a:ext cx="1621080" cy="1065240"/>
          </a:xfrm>
          <a:prstGeom prst="ellipse">
            <a:avLst/>
          </a:prstGeom>
          <a:solidFill>
            <a:srgbClr val="ff00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12"/>
          <p:cNvSpPr/>
          <p:nvPr/>
        </p:nvSpPr>
        <p:spPr>
          <a:xfrm>
            <a:off x="3760920" y="2363760"/>
            <a:ext cx="1620720" cy="1065240"/>
          </a:xfrm>
          <a:prstGeom prst="ellipse">
            <a:avLst/>
          </a:prstGeom>
          <a:solidFill>
            <a:srgbClr val="ff00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val 13"/>
          <p:cNvSpPr/>
          <p:nvPr/>
        </p:nvSpPr>
        <p:spPr>
          <a:xfrm>
            <a:off x="5248440" y="5442120"/>
            <a:ext cx="1620720" cy="1066680"/>
          </a:xfrm>
          <a:prstGeom prst="ellipse">
            <a:avLst/>
          </a:prstGeom>
          <a:solidFill>
            <a:srgbClr val="ff00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gramm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14"/>
          <p:cNvSpPr/>
          <p:nvPr/>
        </p:nvSpPr>
        <p:spPr>
          <a:xfrm>
            <a:off x="5624640" y="2878200"/>
            <a:ext cx="664920" cy="384120"/>
          </a:xfrm>
          <a:prstGeom prst="line">
            <a:avLst/>
          </a:prstGeom>
          <a:ln cap="sq" w="50760">
            <a:solidFill>
              <a:srgbClr val="0000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5"/>
          <p:cNvSpPr/>
          <p:nvPr/>
        </p:nvSpPr>
        <p:spPr>
          <a:xfrm flipH="1">
            <a:off x="6393960" y="4768920"/>
            <a:ext cx="249480" cy="550800"/>
          </a:xfrm>
          <a:prstGeom prst="line">
            <a:avLst/>
          </a:prstGeom>
          <a:ln cap="sq" w="50760">
            <a:solidFill>
              <a:srgbClr val="0000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6"/>
          <p:cNvSpPr/>
          <p:nvPr/>
        </p:nvSpPr>
        <p:spPr>
          <a:xfrm flipH="1">
            <a:off x="4199040" y="6027840"/>
            <a:ext cx="815760" cy="11160"/>
          </a:xfrm>
          <a:prstGeom prst="line">
            <a:avLst/>
          </a:prstGeom>
          <a:ln cap="sq" w="50760">
            <a:solidFill>
              <a:srgbClr val="0000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17"/>
          <p:cNvSpPr/>
          <p:nvPr/>
        </p:nvSpPr>
        <p:spPr>
          <a:xfrm flipH="1" flipV="1">
            <a:off x="2476440" y="4718160"/>
            <a:ext cx="455760" cy="528480"/>
          </a:xfrm>
          <a:prstGeom prst="line">
            <a:avLst/>
          </a:prstGeom>
          <a:ln cap="sq" w="50760">
            <a:solidFill>
              <a:srgbClr val="0000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8"/>
          <p:cNvSpPr/>
          <p:nvPr/>
        </p:nvSpPr>
        <p:spPr>
          <a:xfrm flipV="1">
            <a:off x="2865600" y="2847960"/>
            <a:ext cx="679320" cy="387360"/>
          </a:xfrm>
          <a:prstGeom prst="line">
            <a:avLst/>
          </a:prstGeom>
          <a:ln cap="sq" w="50760">
            <a:solidFill>
              <a:srgbClr val="0000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45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6245A-3E52-49E6-B011-9FA8004750C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The Different Stages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78645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When the need for a computer system is identified, a systems analyst will analyse the requirements – how will information be input? What processing is required? What output is required?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he overall system is designed with each subsection in fine detail, including screen layouts, user interfaces, format of stored data, processing and outpu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gram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 team of programmers will each work on a module of the final package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38BB3-6248-41AC-8BFB-2224DFA3A2A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The Different Stages (cont’d)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78645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Each section is tested individually and then as part of the whole suite.  Data is supplied (including ‘normal’ and ‘erroneous’) to test the system to make sure it is stable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Once the system has been put into operation, it must be evaluated to see how well it performs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 new system may be needed and the whole process starts agai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4E8B-C7C4-47F9-B011-CBEA731642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What is software?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468520"/>
            <a:ext cx="786456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imarily a list of instructions coded in a special way that computers can under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66"/>
                </a:solidFill>
                <a:latin typeface="Arial"/>
              </a:rPr>
              <a:t>Operating system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software – eg Windows which works in the background and controls your software and hardware devices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66"/>
                </a:solidFill>
                <a:latin typeface="Arial"/>
              </a:rPr>
              <a:t>Applications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software – eg Microsoft Word – software used to perform task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j0238259"/>
          <p:cNvPicPr/>
          <p:nvPr/>
        </p:nvPicPr>
        <p:blipFill>
          <a:blip r:embed="rId1"/>
          <a:stretch/>
        </p:blipFill>
        <p:spPr>
          <a:xfrm>
            <a:off x="3697200" y="5160960"/>
            <a:ext cx="168912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FC2AB-FF6E-4BB0-A164-FFE5F53C36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Software Updates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2468160"/>
            <a:ext cx="38559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ftware is constantly updated to give the user improved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software manufacturers will provide updates to solve problem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ftware manufacturers will provide new versions to comply with new operating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4040" y="2468160"/>
            <a:ext cx="38559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 careful with software versions – a file created in Word 2003 may not be opened on a PC running Word 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downloadupdates"/>
          <p:cNvPicPr/>
          <p:nvPr/>
        </p:nvPicPr>
        <p:blipFill>
          <a:blip r:embed="rId1"/>
          <a:stretch/>
        </p:blipFill>
        <p:spPr>
          <a:xfrm>
            <a:off x="6004080" y="4332240"/>
            <a:ext cx="1307880" cy="14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D56A7-41BD-41B2-9DB9-611D6EB66C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Operating System Software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2468160"/>
            <a:ext cx="38559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ries of programs that organise and control a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rovides an interface so that the user can communicate with the compute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ommunicates between software and hardware device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Organises the storage and retrieval of informatio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94040" y="2468160"/>
            <a:ext cx="38559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Manages the smooth running of programs running in RAM by allocating the required resource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opsystem"/>
          <p:cNvPicPr/>
          <p:nvPr/>
        </p:nvPicPr>
        <p:blipFill>
          <a:blip r:embed="rId1"/>
          <a:stretch/>
        </p:blipFill>
        <p:spPr>
          <a:xfrm>
            <a:off x="5564160" y="3979800"/>
            <a:ext cx="321948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65C4A-5573-4B91-9D26-F8D4358C25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Popular Operating Systems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2217600"/>
            <a:ext cx="3855960" cy="40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crosoft Windows is the most widely-used operating system (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S2 is an OS created by IB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cintosh (MacOS) was created by Ap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nux is a popular alternative open-source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S-DOS was precursor of Windows but text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ix is another OS used in companies or univers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otheross"/>
          <p:cNvPicPr/>
          <p:nvPr/>
        </p:nvPicPr>
        <p:blipFill>
          <a:blip r:embed="rId1"/>
          <a:stretch/>
        </p:blipFill>
        <p:spPr>
          <a:xfrm>
            <a:off x="5041800" y="3081240"/>
            <a:ext cx="288612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EF418-AD52-4E1A-A161-A93623C0D0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Graphical User Interface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468520"/>
            <a:ext cx="7864560" cy="18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ables users to click and point at icons and menus on screen, instead of typing in computer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tretch/>
        </p:blipFill>
        <p:spPr>
          <a:xfrm>
            <a:off x="2108160" y="3300480"/>
            <a:ext cx="478944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BE203-ED7E-40CB-B30A-0FB22B9E6A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Applications Software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78645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"/>
              </a:rPr>
              <a:t>Word processo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– used for typing letters, memos, reports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"/>
              </a:rPr>
              <a:t>Spreadshee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– used for performing calculations (eg Accounts) and for creating Ch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"/>
              </a:rPr>
              <a:t>Databas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– used for storing large quantities of data which can be interrogated to display specified pieces of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"/>
              </a:rPr>
              <a:t>Desktop Publish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– used for creating newsletters, booklets, posters, cards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"/>
              </a:rPr>
              <a:t>Presenta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– used for creating presentations which can either be displayed on screen, or printed onto overhead projection film or 35 mm sli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"/>
              </a:rPr>
              <a:t>Web browser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– allows users to view and download information from the world wide w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59DDC-AFE1-4F0C-BF36-AADEEBACDA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Arial"/>
              </a:rPr>
              <a:t>Examples of Application Software</a:t>
            </a:r>
            <a:endParaRPr b="1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2468160"/>
            <a:ext cx="38559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crosoft Office – which compri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Word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(word processing)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Excel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(spreadsheet)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Access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(database)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PowerPoint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(presentation)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Publisher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(desktop publishing)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Outlook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(e-mail software)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Frontpage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(web page creation)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94040" y="2468160"/>
            <a:ext cx="38559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net Explorer / Netscape Navigator / Mozilla / Opera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web browsers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relDraw!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graphic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g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accounts and payro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g0412512"/>
          <p:cNvPicPr/>
          <p:nvPr/>
        </p:nvPicPr>
        <p:blipFill>
          <a:blip r:embed="rId1"/>
          <a:stretch/>
        </p:blipFill>
        <p:spPr>
          <a:xfrm>
            <a:off x="5940360" y="4699080"/>
            <a:ext cx="130356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96E70-2081-48B4-9FB1-2E03CA2BC2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Systems Development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78645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uter-based systems are developed by specialist teams of system analysts and program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of large computer-based systems can involve dozens of people working over a few months or even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mal methods and procedures are applied to ensure the project is delivered on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process is known as the Systems Life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2T08:18:38Z</dcterms:created>
  <dc:creator>Karen B</dc:creator>
  <dc:description/>
  <dc:language>en-US</dc:language>
  <cp:lastModifiedBy>Ahmad Aseeri</cp:lastModifiedBy>
  <dcterms:modified xsi:type="dcterms:W3CDTF">2011-10-01T14:37:02Z</dcterms:modified>
  <cp:revision>10</cp:revision>
  <dc:subject/>
  <dc:title>European Computer Driving Licence</dc:title>
</cp:coreProperties>
</file>