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E254-0D05-41D2-986A-7AF902A3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E591-AB30-4F57-A7EE-01B452E3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3C04-7AB9-4681-87F1-DB2417A8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5F80-1D44-40F0-A49A-FC1B02CE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F12A-E115-4457-815E-4CB8788A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5628-57A5-419F-ACBD-00FCFBBE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8413-EBF5-4D9C-8BE2-8BC57EE3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D7C9-A64E-461E-BFB5-C7AD8402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4D4E-AEF8-43F0-BFD3-1758704F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4960" y="11426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7627-787F-402D-BFC6-8F121E12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83A9-D8B6-41C9-BB78-72C82E57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E54-99BE-4F98-B8C4-3F134F47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8013-CB32-407B-B539-B3013760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8367-B8CF-476F-9F2F-FEE8A353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EAA2-1B3C-4B67-872C-68FDAC76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6452-5289-4930-B58E-CAC3A6FC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512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444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512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444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E696-80CD-4E45-AB8D-522D0378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D3C6-2780-4659-9612-38258695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5C37-2F89-4880-A069-90C7DC40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786C-2CB6-404C-B24F-EDE46074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4960" y="11426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FAA-CD23-4037-9278-80C2EEB0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AC9-86A2-4E32-B58C-1FA7669C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E7A2-4E21-4132-B811-9448A6F4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830-865E-480F-B289-DF0D1337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A597-4069-476B-B9BC-2ABC4AA2C4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61" descr="banner"/>
          <p:cNvPicPr/>
          <p:nvPr/>
        </p:nvPicPr>
        <p:blipFill>
          <a:blip r:embed="rId2"/>
          <a:srcRect l="0" t="15619" r="0" b="0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7" descr="banner"/>
          <p:cNvPicPr/>
          <p:nvPr/>
        </p:nvPicPr>
        <p:blipFill>
          <a:blip r:embed="rId2"/>
          <a:srcRect l="0" t="15619" r="0" b="0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EE8A-7CB1-44BE-B17A-5065FD542E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ochex.co.uk/" TargetMode="External"/><Relationship Id="rId2" Type="http://schemas.openxmlformats.org/officeDocument/2006/relationships/hyperlink" Target="http://www.paypal.com/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9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B8D0-1737-4A11-B028-BFE4847C26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1493640"/>
            <a:ext cx="79092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23880" y="440532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Module 1 – Concepts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Chapter 1.4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Information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P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AA9C-97F8-47EB-ADFC-542EFA3384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The Interne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ge network of computers connected together (including yo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um requirements are a 486 processor with Windows 95, modem, an account with an Internet Service Provider (ISP) and a telephon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SP provides access to the Internet through their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ISPs do not charge as users will normally pay for the access via their telephone b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ISPs offer flat-rate access at fixed co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.g. A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DE01-3C58-41EB-9B6C-BDEED001FA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E-Commerce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2188800"/>
            <a:ext cx="43131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wth of the Internet in the last few years has been phenome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rtually any organisation has their own web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rtually anything can be bought or sold over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banks offer online banking – you can access your bank account 24/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ternet is available 365 days a year – it never clos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ecommerce"/>
          <p:cNvPicPr/>
          <p:nvPr/>
        </p:nvPicPr>
        <p:blipFill>
          <a:blip r:embed="rId1"/>
          <a:stretch/>
        </p:blipFill>
        <p:spPr>
          <a:xfrm>
            <a:off x="5994360" y="2671920"/>
            <a:ext cx="1917720" cy="25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ABEE-74CE-448D-819F-8CE4B9F4FA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urchasing Over The Interne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have to enter your name, address and credit/debit card details to purchase goods/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sites will offer a secure site which will scramble your details so it can’t be intercepted by thie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re sites will start with the prefix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s:/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look out for the padlock symbol at the bottom of your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have the same consumer rights as buying from a 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1"/>
          <a:stretch/>
        </p:blipFill>
        <p:spPr>
          <a:xfrm>
            <a:off x="4892760" y="3781440"/>
            <a:ext cx="3717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014F-CCDD-4D28-9480-7BC5FC6DCC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urchasing Over The Interne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2144880"/>
            <a:ext cx="3855960" cy="41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You can shop 24 hours a day, 7 days a wee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You can shop from the comfort of your own ho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You can surf the web to find the best bargai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ny dealers will offer discounted prices for shopping onlin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2144880"/>
            <a:ext cx="3855960" cy="41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You cannot see or try goods before purchas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You may have to pay extra for deliver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You cannot speak to a person for sales advic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re is some degree of risk giving out your debit/credit card details over the Intern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8"/>
          <p:cNvGrpSpPr/>
          <p:nvPr/>
        </p:nvGrpSpPr>
        <p:grpSpPr>
          <a:xfrm>
            <a:off x="2104920" y="5270400"/>
            <a:ext cx="5631120" cy="1220760"/>
            <a:chOff x="2104920" y="5270400"/>
            <a:chExt cx="5631120" cy="1220760"/>
          </a:xfrm>
        </p:grpSpPr>
        <p:pic>
          <p:nvPicPr>
            <p:cNvPr id="153" name="Picture 6" descr="BUS11"/>
            <p:cNvPicPr/>
            <p:nvPr/>
          </p:nvPicPr>
          <p:blipFill>
            <a:blip r:embed="rId1"/>
            <a:stretch/>
          </p:blipFill>
          <p:spPr>
            <a:xfrm>
              <a:off x="2104920" y="5270400"/>
              <a:ext cx="153684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7" descr="BUS12"/>
            <p:cNvPicPr/>
            <p:nvPr/>
          </p:nvPicPr>
          <p:blipFill>
            <a:blip r:embed="rId2"/>
            <a:stretch/>
          </p:blipFill>
          <p:spPr>
            <a:xfrm>
              <a:off x="6705720" y="5362560"/>
              <a:ext cx="1030320" cy="11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58FA-1767-44C5-8CB5-12909FDCF4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Alternative Payment Method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use online services to send money, as opposed to sending che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CHEX (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nochex.co.u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lets you send and receive money from anyone with an email address and a debit 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ypal (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paypal.c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offers a similar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7"/>
          <p:cNvGrpSpPr/>
          <p:nvPr/>
        </p:nvGrpSpPr>
        <p:grpSpPr>
          <a:xfrm>
            <a:off x="5564160" y="2801880"/>
            <a:ext cx="2594160" cy="3144960"/>
            <a:chOff x="5564160" y="2801880"/>
            <a:chExt cx="2594160" cy="3144960"/>
          </a:xfrm>
        </p:grpSpPr>
        <p:pic>
          <p:nvPicPr>
            <p:cNvPr id="160" name="Picture 5" descr="nochex"/>
            <p:cNvPicPr/>
            <p:nvPr/>
          </p:nvPicPr>
          <p:blipFill>
            <a:blip r:embed="rId3"/>
            <a:stretch/>
          </p:blipFill>
          <p:spPr>
            <a:xfrm>
              <a:off x="5564160" y="2801880"/>
              <a:ext cx="1538280" cy="15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6" descr="paypal"/>
            <p:cNvPicPr/>
            <p:nvPr/>
          </p:nvPicPr>
          <p:blipFill>
            <a:blip r:embed="rId4"/>
            <a:stretch/>
          </p:blipFill>
          <p:spPr>
            <a:xfrm>
              <a:off x="6637320" y="4443480"/>
              <a:ext cx="1521000" cy="150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C78E-195C-4C2D-9FE9-00247A77A5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E-mail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far the most popular use of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-mail messages arrive almost instantaneously, anywhere in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ame message can be sent to more than one person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very easy to reply to and forward e-mai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cuments or photos can be sent as attach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-mail software is required or you can access webmail providers online (e.g. Hotmail, Yahoo, Lyc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email"/>
          <p:cNvPicPr/>
          <p:nvPr/>
        </p:nvPicPr>
        <p:blipFill>
          <a:blip r:embed="rId1"/>
          <a:stretch/>
        </p:blipFill>
        <p:spPr>
          <a:xfrm>
            <a:off x="6108840" y="4594320"/>
            <a:ext cx="14032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7FA1-1D95-480C-ABC2-6DCF6C68F6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Local Area Network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468520"/>
            <a:ext cx="786456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uters which are linked by cabling in the same room or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erver controls the network and stores data which is used by other users on the network (clients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2658960" y="4441680"/>
            <a:ext cx="391644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15DE-E360-41E0-973E-2705E9AA27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Network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070000"/>
            <a:ext cx="38559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inters, scanners etc can be shar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ork is stored on the server and can be accessed from any of the client comput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Users can communicate and exchange dat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oftware is loaded once onto the server rather than on individual comput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4040" y="2070000"/>
            <a:ext cx="38559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curity measures are needed to stop users accessing programs and dat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n be complicated to set up and requires support from skilled technicia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aults affecting the server will affect the client comput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9"/>
          <p:cNvGrpSpPr/>
          <p:nvPr/>
        </p:nvGrpSpPr>
        <p:grpSpPr>
          <a:xfrm>
            <a:off x="2238480" y="5513400"/>
            <a:ext cx="5349600" cy="977760"/>
            <a:chOff x="2238480" y="5513400"/>
            <a:chExt cx="5349600" cy="977760"/>
          </a:xfrm>
        </p:grpSpPr>
        <p:pic>
          <p:nvPicPr>
            <p:cNvPr id="99" name="Picture 7" descr="BUS11"/>
            <p:cNvPicPr/>
            <p:nvPr/>
          </p:nvPicPr>
          <p:blipFill>
            <a:blip r:embed="rId1"/>
            <a:stretch/>
          </p:blipFill>
          <p:spPr>
            <a:xfrm>
              <a:off x="2238480" y="5513400"/>
              <a:ext cx="136368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8" descr="BUS12"/>
            <p:cNvPicPr/>
            <p:nvPr/>
          </p:nvPicPr>
          <p:blipFill>
            <a:blip r:embed="rId2"/>
            <a:stretch/>
          </p:blipFill>
          <p:spPr>
            <a:xfrm>
              <a:off x="6673680" y="5586480"/>
              <a:ext cx="914400" cy="904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BE5A-CA35-4F02-9E33-3CA4402853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Wide Area Network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WAN connects computers in different geographic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are connected via the telepho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d by multinational companies to communicate between different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orld’s largest WAN is the Interne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wan2"/>
          <p:cNvPicPr/>
          <p:nvPr/>
        </p:nvPicPr>
        <p:blipFill>
          <a:blip r:embed="rId1"/>
          <a:stretch/>
        </p:blipFill>
        <p:spPr>
          <a:xfrm>
            <a:off x="5332320" y="3132000"/>
            <a:ext cx="25243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3C8C-B2F3-4F45-A6D9-A02E143DE8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The Telephone Network in Computing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4109760"/>
            <a:ext cx="786456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odem is required for a computer to communicate over telephone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is converted from digital to analogue and then back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peed at which data is transmitted and/or received is measured in bits per 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urrent standard is 56,000 bits per 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62120" y="2792520"/>
            <a:ext cx="78642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1181-08EB-435A-A335-CC8DAB7376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Public Switched Telephone Network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TN for shor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ternational telephone system used for making day-to-day telephone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the main reason why computers have become so popular in recent yea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pstn"/>
          <p:cNvPicPr/>
          <p:nvPr/>
        </p:nvPicPr>
        <p:blipFill>
          <a:blip r:embed="rId1"/>
          <a:stretch/>
        </p:blipFill>
        <p:spPr>
          <a:xfrm>
            <a:off x="5092560" y="2576520"/>
            <a:ext cx="256716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4847-75BD-49C3-AE5D-28F33863B2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Integrated Services Digital Network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DN for 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 a greater range of frequencies than PST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least as twice as fast as PST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ypical transfer rate of 128,000 bits per 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is transmitted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al connection and modem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isdn"/>
          <p:cNvPicPr/>
          <p:nvPr/>
        </p:nvPicPr>
        <p:blipFill>
          <a:blip r:embed="rId1"/>
          <a:stretch/>
        </p:blipFill>
        <p:spPr>
          <a:xfrm>
            <a:off x="5549760" y="2989440"/>
            <a:ext cx="17337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DA87-F89A-4B87-91AC-44E059AE07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Asymmetric Digital Subscriber Line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428472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SL for 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s telephone lines to transmit data at very fast speeds (512,000 bits per seco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SL modem and splitters required to separate telephone signal from the ADSL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still make telephone calls when surfing the web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adsl"/>
          <p:cNvPicPr/>
          <p:nvPr/>
        </p:nvPicPr>
        <p:blipFill>
          <a:blip r:embed="rId1"/>
          <a:stretch/>
        </p:blipFill>
        <p:spPr>
          <a:xfrm>
            <a:off x="5961240" y="3057480"/>
            <a:ext cx="1874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E52B-236B-4096-8337-737F707F79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Intranets and Extranet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anet is similar to the Internet but is internal to an org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rs access the Intranet through a user name and pass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ables users to share information and communicate via electronic mess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xtranet can be accessed from outside the Intranet by authorised users via a user name and pass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extranet"/>
          <p:cNvPicPr/>
          <p:nvPr/>
        </p:nvPicPr>
        <p:blipFill>
          <a:blip r:embed="rId1"/>
          <a:stretch/>
        </p:blipFill>
        <p:spPr>
          <a:xfrm>
            <a:off x="5881680" y="3949560"/>
            <a:ext cx="168120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2T09:06:49Z</dcterms:created>
  <dc:creator>Karen B</dc:creator>
  <dc:description/>
  <dc:language>en-US</dc:language>
  <cp:lastModifiedBy>Ahmad Aseeri</cp:lastModifiedBy>
  <dcterms:modified xsi:type="dcterms:W3CDTF">2011-10-07T14:07:16Z</dcterms:modified>
  <cp:revision>9</cp:revision>
  <dc:subject/>
  <dc:title>European Computer Driving Licence</dc:title>
</cp:coreProperties>
</file>