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6.png" ContentType="image/png"/>
  <Override PartName="/ppt/media/image7.jpeg" ContentType="image/jpeg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2083-B83F-4CC7-A260-061A92A17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7864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50320"/>
            <a:ext cx="7864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26A7-E412-4EED-8D71-06B209F6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564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C1E3-8EE2-49BB-A930-C260A31E1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5120" y="246816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4440" y="246816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5032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5120" y="445032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4440" y="445032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E47F-58EA-44C0-B85C-0C1400E6E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F4CD-F79E-4CF7-8105-21FD33B3F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8D57-ADCF-45E9-BCCB-626F5D2F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DA44F-49A7-4652-B47A-4C926E9B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C5A6-2D3F-4EA7-A15E-6C079866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6FB5-B550-4FFF-A580-11B07943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24960" y="1142640"/>
            <a:ext cx="7923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BC86-6FC0-444B-8558-A9BC72D0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CDA5-80C7-462C-A3B9-E9DF0C3E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B2C1-593C-49B6-8524-DAB36471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564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91F9-4138-49C4-8FA0-249B6981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450320"/>
            <a:ext cx="7864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F1D8-9B17-455A-97CE-539CB7EE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7864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450320"/>
            <a:ext cx="7864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70DC2-8228-4151-B22F-644EBCE8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564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1DAC-79C1-4DEB-AF1D-38EC60345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45120" y="246816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4440" y="246816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45032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45120" y="445032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4440" y="4450320"/>
            <a:ext cx="25322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A6B2-6F29-4E4D-A513-FBB855529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E4A9-EA71-42ED-B559-2ADBB39A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5F8C-10CB-4E6D-9AE2-A24CE3CB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632A-22C7-4275-8F74-400A654F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4960" y="1142640"/>
            <a:ext cx="7923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DC61-8EC8-4E14-A0DE-4E6F52C5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1661-83C3-47F1-8628-BCDD91DD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5640" y="445032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3228-605A-4374-933A-6A47417E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5640" y="2468160"/>
            <a:ext cx="38376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50320"/>
            <a:ext cx="786456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1A7A-A476-4C0A-800F-2D678E70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2520-7FC4-4E6D-AB11-2DAA384A05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61" descr="banner"/>
          <p:cNvPicPr/>
          <p:nvPr/>
        </p:nvPicPr>
        <p:blipFill>
          <a:blip r:embed="rId2"/>
          <a:srcRect l="0" t="15619" r="0" b="0"/>
          <a:stretch/>
        </p:blipFill>
        <p:spPr>
          <a:xfrm>
            <a:off x="0" y="0"/>
            <a:ext cx="9144000" cy="12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7" descr="banner"/>
          <p:cNvPicPr/>
          <p:nvPr/>
        </p:nvPicPr>
        <p:blipFill>
          <a:blip r:embed="rId2"/>
          <a:srcRect l="0" t="15619" r="0" b="0"/>
          <a:stretch/>
        </p:blipFill>
        <p:spPr>
          <a:xfrm>
            <a:off x="0" y="0"/>
            <a:ext cx="9144000" cy="1236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AF50-27F7-4F2C-B566-E2A9534324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nochex.co.uk/" TargetMode="External"/><Relationship Id="rId2" Type="http://schemas.openxmlformats.org/officeDocument/2006/relationships/hyperlink" Target="http://www.paypal.com/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95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96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06C3-631C-4710-81BF-A3EFB4279F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1493640"/>
            <a:ext cx="790920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European Computer Driving Licence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23880" y="4405320"/>
            <a:ext cx="7926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Module 1 – Concepts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Chapter 1.4 </a:t>
            </a:r>
            <a:r>
              <a:rPr b="1" lang="en-GB" sz="2400" spc="-1" strike="noStrike">
                <a:solidFill>
                  <a:srgbClr val="ff0066"/>
                </a:solidFill>
                <a:latin typeface="Arial"/>
              </a:rPr>
              <a:t>Information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66"/>
                </a:solidFill>
                <a:latin typeface="Arial"/>
              </a:rPr>
              <a:t>P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917A-CF06-47D4-BE54-892B1A90AB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The Internet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78645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ge network of computers connected together (including you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nimum requirements are a 486 processor with Windows 95, modem, an account with an Internet Service Provider (ISP) and a telephone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ISP provides access to the Internet through their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ISPs do not charge as users will normally pay for the access via their telephone b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ISPs offer flat-rate access at fixed co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e.g. A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22B1-EE01-4D3C-BEAE-4D5C5F40E1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E-Commerce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2188800"/>
            <a:ext cx="431316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wth of the Internet in the last few years has been phenome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rtually any organisation has their own web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rtually anything can be bought or sold over th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banks offer online banking – you can access your bank account 24/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Internet is available 365 days a year – it never close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ecommerce"/>
          <p:cNvPicPr/>
          <p:nvPr/>
        </p:nvPicPr>
        <p:blipFill>
          <a:blip r:embed="rId1"/>
          <a:stretch/>
        </p:blipFill>
        <p:spPr>
          <a:xfrm>
            <a:off x="5994360" y="2671920"/>
            <a:ext cx="1917720" cy="25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914F-DB32-49DF-81F9-40AE095DDD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Purchasing Over The Internet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have to enter your name, address and credit/debit card details to purchase goods/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sites will offer a secure site which will scramble your details so it can’t be intercepted by thie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ure sites will start with the prefix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ttps:/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- look out for the padlock symbol at the bottom of your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940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have the same consumer rights as buying from a 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"/>
          <p:cNvPicPr/>
          <p:nvPr/>
        </p:nvPicPr>
        <p:blipFill>
          <a:blip r:embed="rId1"/>
          <a:stretch/>
        </p:blipFill>
        <p:spPr>
          <a:xfrm>
            <a:off x="4892760" y="3781440"/>
            <a:ext cx="3717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CEE4-91CF-42D1-AD12-073B493F71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Purchasing Over The Internet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2144880"/>
            <a:ext cx="3855960" cy="41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You can shop 24 hours a day, 7 days a week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You can shop from the comfort of your own ho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You can surf the web to find the best bargain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any dealers will offer discounted prices for shopping onlin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4040" y="2144880"/>
            <a:ext cx="3855960" cy="41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You cannot see or try goods before purchas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You may have to pay extra for delivery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You cannot speak to a person for sales advic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here is some degree of risk giving out your debit/credit card details over the Interne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8"/>
          <p:cNvGrpSpPr/>
          <p:nvPr/>
        </p:nvGrpSpPr>
        <p:grpSpPr>
          <a:xfrm>
            <a:off x="2104920" y="5270400"/>
            <a:ext cx="5631120" cy="1220760"/>
            <a:chOff x="2104920" y="5270400"/>
            <a:chExt cx="5631120" cy="1220760"/>
          </a:xfrm>
        </p:grpSpPr>
        <p:pic>
          <p:nvPicPr>
            <p:cNvPr id="153" name="Picture 6" descr="BUS11"/>
            <p:cNvPicPr/>
            <p:nvPr/>
          </p:nvPicPr>
          <p:blipFill>
            <a:blip r:embed="rId1"/>
            <a:stretch/>
          </p:blipFill>
          <p:spPr>
            <a:xfrm>
              <a:off x="2104920" y="5270400"/>
              <a:ext cx="153684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7" descr="BUS12"/>
            <p:cNvPicPr/>
            <p:nvPr/>
          </p:nvPicPr>
          <p:blipFill>
            <a:blip r:embed="rId2"/>
            <a:stretch/>
          </p:blipFill>
          <p:spPr>
            <a:xfrm>
              <a:off x="6705720" y="5362560"/>
              <a:ext cx="1030320" cy="11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EE8A-4C3E-4D47-A094-74A7F486EB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Alternative Payment Methods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can use online services to send money, as opposed to sending che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CHEX (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nochex.co.u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lets you send and receive money from anyone with an email address and a debit c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ypal (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paypal.co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offers a similar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7"/>
          <p:cNvGrpSpPr/>
          <p:nvPr/>
        </p:nvGrpSpPr>
        <p:grpSpPr>
          <a:xfrm>
            <a:off x="5564160" y="2801880"/>
            <a:ext cx="2594160" cy="3144960"/>
            <a:chOff x="5564160" y="2801880"/>
            <a:chExt cx="2594160" cy="3144960"/>
          </a:xfrm>
        </p:grpSpPr>
        <p:pic>
          <p:nvPicPr>
            <p:cNvPr id="160" name="Picture 5" descr="nochex"/>
            <p:cNvPicPr/>
            <p:nvPr/>
          </p:nvPicPr>
          <p:blipFill>
            <a:blip r:embed="rId3"/>
            <a:stretch/>
          </p:blipFill>
          <p:spPr>
            <a:xfrm>
              <a:off x="5564160" y="2801880"/>
              <a:ext cx="1538280" cy="15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6" descr="paypal"/>
            <p:cNvPicPr/>
            <p:nvPr/>
          </p:nvPicPr>
          <p:blipFill>
            <a:blip r:embed="rId4"/>
            <a:stretch/>
          </p:blipFill>
          <p:spPr>
            <a:xfrm>
              <a:off x="6637320" y="4443480"/>
              <a:ext cx="1521000" cy="1503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4BA5-6BA2-48F8-B20F-119E8F03BC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E-mail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far the most popular use of th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-mail messages arrive almost instantaneously, anywhere in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ame message can be sent to more than one person at the sam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very easy to reply to and forward e-mai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940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cuments or photos can be sent as attach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-mail software is required or you can access webmail providers online (e.g. Hotmail, Yahoo, Lyc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email"/>
          <p:cNvPicPr/>
          <p:nvPr/>
        </p:nvPicPr>
        <p:blipFill>
          <a:blip r:embed="rId1"/>
          <a:stretch/>
        </p:blipFill>
        <p:spPr>
          <a:xfrm>
            <a:off x="6108840" y="4594320"/>
            <a:ext cx="140328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5FA8-80FC-4282-BCDB-98BB955832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Local Area Network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468520"/>
            <a:ext cx="7864560" cy="18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uters which are linked by cabling in the same room or 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erver controls the network and stores data which is used by other users on the network (clients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2658960" y="4441680"/>
            <a:ext cx="391644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22E1-F7C9-48FA-9FAC-8F6DEC282B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Networks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2070000"/>
            <a:ext cx="385596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inters, scanners etc can be shared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Work is stored on the server and can be accessed from any of the client computer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Users can communicate and exchange data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oftware is loaded once onto the server rather than on individual computer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4040" y="2070000"/>
            <a:ext cx="385596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ecurity measures are needed to stop users accessing programs and data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an be complicated to set up and requires support from skilled technician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Faults affecting the server will affect the client computer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9"/>
          <p:cNvGrpSpPr/>
          <p:nvPr/>
        </p:nvGrpSpPr>
        <p:grpSpPr>
          <a:xfrm>
            <a:off x="2238480" y="5513400"/>
            <a:ext cx="5349600" cy="977760"/>
            <a:chOff x="2238480" y="5513400"/>
            <a:chExt cx="5349600" cy="977760"/>
          </a:xfrm>
        </p:grpSpPr>
        <p:pic>
          <p:nvPicPr>
            <p:cNvPr id="99" name="Picture 7" descr="BUS11"/>
            <p:cNvPicPr/>
            <p:nvPr/>
          </p:nvPicPr>
          <p:blipFill>
            <a:blip r:embed="rId1"/>
            <a:stretch/>
          </p:blipFill>
          <p:spPr>
            <a:xfrm>
              <a:off x="2238480" y="5513400"/>
              <a:ext cx="1363680" cy="97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8" descr="BUS12"/>
            <p:cNvPicPr/>
            <p:nvPr/>
          </p:nvPicPr>
          <p:blipFill>
            <a:blip r:embed="rId2"/>
            <a:stretch/>
          </p:blipFill>
          <p:spPr>
            <a:xfrm>
              <a:off x="6673680" y="5586480"/>
              <a:ext cx="914400" cy="904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8D4F-CA60-43FA-AA98-DBE65D906F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Wide Area Networks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WAN connects computers in different geographical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se are connected via the telephon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d by multinational companies to communicate between different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world’s largest WAN is the Interne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wan2"/>
          <p:cNvPicPr/>
          <p:nvPr/>
        </p:nvPicPr>
        <p:blipFill>
          <a:blip r:embed="rId1"/>
          <a:stretch/>
        </p:blipFill>
        <p:spPr>
          <a:xfrm>
            <a:off x="5332320" y="3132000"/>
            <a:ext cx="252432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AF25-0254-4A08-8543-ABB95E2FE6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Arial"/>
              </a:rPr>
              <a:t>The Telephone Network in Computing</a:t>
            </a:r>
            <a:endParaRPr b="1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4109760"/>
            <a:ext cx="7864560" cy="21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modem is required for a computer to communicate over telephone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 is converted from digital to analogue and then back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peed at which data is transmitted and/or received is measured in bits per sec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urrent standard is 56,000 bits per sec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762120" y="2792520"/>
            <a:ext cx="78642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FFCE-2E5F-4308-85D3-272A8182FC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Arial"/>
              </a:rPr>
              <a:t>Public Switched Telephone Network</a:t>
            </a:r>
            <a:endParaRPr b="1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TN for shor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international telephone system used for making day-to-day telephone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the main reason why computers have become so popular in recent year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pstn"/>
          <p:cNvPicPr/>
          <p:nvPr/>
        </p:nvPicPr>
        <p:blipFill>
          <a:blip r:embed="rId1"/>
          <a:stretch/>
        </p:blipFill>
        <p:spPr>
          <a:xfrm>
            <a:off x="5092560" y="2576520"/>
            <a:ext cx="256716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E6AD-DC9F-4EE0-97ED-1080D2E078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Arial"/>
              </a:rPr>
              <a:t>Integrated Services Digital Network</a:t>
            </a:r>
            <a:endParaRPr b="1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DN for sh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s a greater range of frequencies than PST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least as twice as fast as PST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ypical transfer rate of 128,000 bits per sec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 is transmitted simultaneous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al connection and modem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isdn"/>
          <p:cNvPicPr/>
          <p:nvPr/>
        </p:nvPicPr>
        <p:blipFill>
          <a:blip r:embed="rId1"/>
          <a:stretch/>
        </p:blipFill>
        <p:spPr>
          <a:xfrm>
            <a:off x="5549760" y="2989440"/>
            <a:ext cx="173376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0ADB-2E07-4E4D-8F0D-6AF23C5D40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Arial"/>
              </a:rPr>
              <a:t>Asymmetric Digital Subscriber Line</a:t>
            </a:r>
            <a:endParaRPr b="1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468160"/>
            <a:ext cx="428472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SL for sh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s telephone lines to transmit data at very fast speeds (512,000 bits per seco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SL modem and splitters required to separate telephone signal from the ADSL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can still make telephone calls when surfing the web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adsl"/>
          <p:cNvPicPr/>
          <p:nvPr/>
        </p:nvPicPr>
        <p:blipFill>
          <a:blip r:embed="rId1"/>
          <a:stretch/>
        </p:blipFill>
        <p:spPr>
          <a:xfrm>
            <a:off x="5961240" y="3057480"/>
            <a:ext cx="18745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ss ECDL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6D00-BB09-49BF-A4D7-FF223EE890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4960" y="11426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Intranets and Extranets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anet is similar to the Internet but is internal to an organ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rs access the Intranet through a user name and pass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ables users to share information and communicate via electronic mess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94040" y="2468160"/>
            <a:ext cx="38559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Extranet can be accessed from outside the Intranet by authorised users via a user name and pass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extranet"/>
          <p:cNvPicPr/>
          <p:nvPr/>
        </p:nvPicPr>
        <p:blipFill>
          <a:blip r:embed="rId1"/>
          <a:stretch/>
        </p:blipFill>
        <p:spPr>
          <a:xfrm>
            <a:off x="5881680" y="3949560"/>
            <a:ext cx="168120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2T09:06:49Z</dcterms:created>
  <dc:creator>Karen B</dc:creator>
  <dc:description/>
  <dc:language>en-US</dc:language>
  <cp:lastModifiedBy>Ahmad Aseeri</cp:lastModifiedBy>
  <dcterms:modified xsi:type="dcterms:W3CDTF">2011-10-07T14:07:16Z</dcterms:modified>
  <cp:revision>9</cp:revision>
  <dc:subject/>
  <dc:title>European Computer Driving Licence</dc:title>
</cp:coreProperties>
</file>