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FA79-1E59-433B-8A65-831972EC5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5032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99E0-40DB-4764-842B-05F4EDD2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789B-BC55-4F67-BF8A-93A892FC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655B-9D1E-4614-9E4E-3E876FC71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D15B-4F0B-43E2-B71D-A13994BD1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8320-54A2-43F5-8999-9B247C10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0484-AC38-457F-BDE7-1D8BCD98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CC88-E16E-455D-AD3A-12F6BBF1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C938-A88B-4F63-9921-585E9282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24960" y="1142640"/>
            <a:ext cx="7923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1B71-8765-4EE1-926E-F0B2F2A4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D264-380D-4F40-AA26-B029B827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427C-8EA4-472A-8BDC-65718348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564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4233-3DB9-46F3-9960-4EA40C23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B786-0065-4D96-9218-F9827226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45032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3FB0-7A98-4369-BC4B-48516E31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564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D68C-5AFA-4B7A-A309-8FE01618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512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444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512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444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5587-605E-4CC7-A345-FF5613EF9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FA16-69F0-4CE0-AE80-5F78E610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EDB8-863A-4A67-BD7F-9A5EDA47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EF01-6261-4563-9E1A-01A2D74F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4960" y="1142640"/>
            <a:ext cx="7923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56B8-55F8-43BF-AD2D-2312E6EC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CB22-59A4-4FCD-BD93-9012BF5D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3E52-B0C5-4191-8753-1B75B187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8EC6-5DA6-4A24-97F2-841A2A6F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E7AE-94F1-40FE-AC26-87D63A319F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61" descr="banner"/>
          <p:cNvPicPr/>
          <p:nvPr/>
        </p:nvPicPr>
        <p:blipFill>
          <a:blip r:embed="rId2"/>
          <a:srcRect l="0" t="15619" r="0" b="0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7" descr="banner"/>
          <p:cNvPicPr/>
          <p:nvPr/>
        </p:nvPicPr>
        <p:blipFill>
          <a:blip r:embed="rId2"/>
          <a:srcRect l="0" t="15619" r="0" b="0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C7AA-A0AC-43D2-A12F-A6F196B4D4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95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96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FDAE-DBB4-4698-BEFE-E7219795A5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1493640"/>
            <a:ext cx="79092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23880" y="440532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Module 1 – Concepts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Chapter 1.5 – </a:t>
            </a: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The Use of IT in Everyday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P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5509-F088-4DD8-877F-18E2986B86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Health Issue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2114640"/>
            <a:ext cx="3855960" cy="41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etitive Strain Injury (R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llective name for a range of disorders affecting neck, limbs and back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esults in numbness and tingling in limb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yestr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aused by long periods in front of a computer scre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aused also by poor light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4040" y="2114640"/>
            <a:ext cx="3855960" cy="41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ck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aused by poor seating and postur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aused by prolonged use of a comput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fety Preca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ables should be safely secure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Keep work surfaces tidy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ake frequent short break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Wear your glasses!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armsandwrists"/>
          <p:cNvPicPr/>
          <p:nvPr/>
        </p:nvPicPr>
        <p:blipFill>
          <a:blip r:embed="rId1"/>
          <a:stretch/>
        </p:blipFill>
        <p:spPr>
          <a:xfrm>
            <a:off x="3889440" y="5318280"/>
            <a:ext cx="1270080" cy="11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A2FD-DF6B-42CF-9E94-7D6CEEEA7B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The Environment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454968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ycle printer cartri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ycle printer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Print Preview facility to check your work before pri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you REALLY need a printout?  Print for a purpos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power schemes to reduce amount of electricity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D-ROMs, electronic documents all reduce the need for printed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computer"/>
          <p:cNvPicPr/>
          <p:nvPr/>
        </p:nvPicPr>
        <p:blipFill>
          <a:blip r:embed="rId1"/>
          <a:stretch/>
        </p:blipFill>
        <p:spPr>
          <a:xfrm>
            <a:off x="6188040" y="3141720"/>
            <a:ext cx="168912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34F0-31CD-4256-9657-DFA052EF10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Computers or People?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460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uters 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alculate millions of times faster than human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ever get tire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an do jobs which are dangerous for human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tore large amounts of information in one plac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find information quickly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ever lose or misplace informatio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g0409414"/>
          <p:cNvPicPr/>
          <p:nvPr/>
        </p:nvPicPr>
        <p:blipFill>
          <a:blip r:embed="rId1"/>
          <a:stretch/>
        </p:blipFill>
        <p:spPr>
          <a:xfrm>
            <a:off x="5570640" y="2508120"/>
            <a:ext cx="310032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CC55-46BA-444F-AFAA-0ADFFF5A4D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People versus Computer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uters canno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write a book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fort a person in distres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hink for themselv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hink of new idea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BUS35"/>
          <p:cNvPicPr/>
          <p:nvPr/>
        </p:nvPicPr>
        <p:blipFill>
          <a:blip r:embed="rId1"/>
          <a:stretch/>
        </p:blipFill>
        <p:spPr>
          <a:xfrm>
            <a:off x="4905360" y="2593800"/>
            <a:ext cx="35002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D372-8CD3-4F0F-AEF0-58DCD89A82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Computers in busines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siness Admin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ayrol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Keeping customer record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ocessing sales order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Keeping account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tock managemen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irline Booking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ookings instantly recorded to avoid double book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vailability of flights instantly accessibl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40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ine Ba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ccess your account 24/7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o need to travel to a branch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eduction in overheads for the bank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urance Claims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aintain databases to prevent duplicate claims/frau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end automatic renewal notices to customer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47E9-6A74-4A59-A831-D6B11FD8C4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Computers in Government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2158560"/>
            <a:ext cx="38559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n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ecording of information including statistics on age, ethnic origin etc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nsures schools, hospitals and other facilities are made availabl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ctronic Vo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ting register is update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ting by computer either at home or at polling station is likely to take off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irman"/>
          <p:cNvPicPr/>
          <p:nvPr/>
        </p:nvPicPr>
        <p:blipFill>
          <a:blip r:embed="rId1"/>
          <a:stretch/>
        </p:blipFill>
        <p:spPr>
          <a:xfrm>
            <a:off x="4497480" y="5046840"/>
            <a:ext cx="907920" cy="13204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94040" y="2158560"/>
            <a:ext cx="38559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hicle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DVLC has records of all registered vehicl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enue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land Revenue keeps records of every taxpay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axpayers can fill in a tax return onlin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ax credits can also be applied for onlin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FA56-35C0-4DFC-9B26-FBAA59B3B9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Computers in Healthcare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055600"/>
            <a:ext cx="3855960" cy="42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tient Record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Doctors’ surgeries are computerised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ppointment system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Print out prescription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mbulance Control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ll-taking, accepting and verifying incident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Sending out nearest ambulance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mmunicating incidents to chosen ambulance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Positioning suitably equipped ambulances to where they are likely to be needed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4040" y="2055600"/>
            <a:ext cx="3855960" cy="42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gnostic tools and instr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puterised tools to scan and analyse sampl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onitor vital signs such as heart rate and temperatur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acemakers and artificial limbs have changed the lives of many peopl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alist surgical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ssist surgeons with carrying out delicate surgery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ovide 3D vision to eliminate hand-tremo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firstcall"/>
          <p:cNvPicPr/>
          <p:nvPr/>
        </p:nvPicPr>
        <p:blipFill>
          <a:blip r:embed="rId1"/>
          <a:stretch/>
        </p:blipFill>
        <p:spPr>
          <a:xfrm>
            <a:off x="4370400" y="5373720"/>
            <a:ext cx="12063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6934-269B-4CCC-8FEA-62036C64EE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Computers in Education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ent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Keep student record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nable computerised timetabl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wipe-cards to monitor student attendanc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uter-Based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Wide range of software packages to aid learn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an teach a wide range of subject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940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ine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tudent resources made available over the Interne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ssignments can be submitted via emai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tance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computertraining"/>
          <p:cNvPicPr/>
          <p:nvPr/>
        </p:nvPicPr>
        <p:blipFill>
          <a:blip r:embed="rId1"/>
          <a:stretch/>
        </p:blipFill>
        <p:spPr>
          <a:xfrm>
            <a:off x="5764320" y="4610160"/>
            <a:ext cx="1887480" cy="15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1C5D-8A6F-4966-AE8A-340166C3FE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Teleworking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2830320"/>
            <a:ext cx="3855960" cy="34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3538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o travelling ti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void traffic jam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Work in the comfort of your own ho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Flexible schedul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educed office space requirement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asier childcar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4040" y="2865600"/>
            <a:ext cx="3855960" cy="33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Lack of personal contact with colleagu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Lack of teamwork in shared project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Home distraction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Lesser employee benefits (medical plans, bonuses etc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939960" y="2017800"/>
            <a:ext cx="75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eople choose to work at home rather than commuting to the off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6" descr="teleworking"/>
          <p:cNvPicPr/>
          <p:nvPr/>
        </p:nvPicPr>
        <p:blipFill>
          <a:blip r:embed="rId1"/>
          <a:stretch/>
        </p:blipFill>
        <p:spPr>
          <a:xfrm>
            <a:off x="3782880" y="5167440"/>
            <a:ext cx="149724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8FF6-1356-49C7-8A33-56622B98AE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Ergonomic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3294000"/>
            <a:ext cx="3855960" cy="29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ghting – rooms should be well lit and windows should have blinds to avoid sun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ntilation – windows should  open to allow free circulation of fresh 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itors – should be positioned away from sunlight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94040" y="3294000"/>
            <a:ext cx="3855960" cy="29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rniture – use an adjustable chair with good back support set to the correct height for comfortable use of keyboard and m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essories – use copyholders and footrests where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614520" y="2239920"/>
            <a:ext cx="80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rgonomics refers to design and functionality which includes the following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3:21:53Z</dcterms:created>
  <dc:creator>Karen Blakeley</dc:creator>
  <dc:description/>
  <dc:language>en-US</dc:language>
  <cp:lastModifiedBy>Ahmad Aseeri</cp:lastModifiedBy>
  <dcterms:modified xsi:type="dcterms:W3CDTF">2011-10-07T14:13:01Z</dcterms:modified>
  <cp:revision>8</cp:revision>
  <dc:subject/>
  <dc:title>European Computer Driving Licence</dc:title>
</cp:coreProperties>
</file>