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102-49B7-40D2-83E4-C26FAD3F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4C7-FC95-4D33-9F34-904A5239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F259-6CAA-4533-AA36-2C2DAE61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827-1767-491F-8F98-D005A65C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F0F3-D11D-4BBB-B7A9-6CB7B125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B7D6-C824-496F-A410-A669EC51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E5AD-528F-4CAC-A759-1F100B6F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7791-889F-49E6-8568-A8943D8D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5084-6EBD-46FF-9CBD-2FE12167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3069-4503-421B-90E0-9AB826E1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ABBA-237B-48EB-BE6D-1DD506A3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EB9-EAFE-46F5-BD2F-33BBFE1D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FA72-3B1C-4AB1-AB3A-D4C7A0B9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37A1-050A-4BA6-89DE-63AD5085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E81B-CF56-4F69-957A-725B5B15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BCB7-85C0-4FF9-B83F-3B327111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9D97-DA95-43C5-BFB3-3C0FEA6E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273-DC2D-424B-B50D-6624C236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815-1B6D-46D9-AB57-B258BAA3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6FF-0596-4E2E-B038-764BC6CA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7F9-540C-4F02-A716-D0BC05E9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676-4592-4258-9C3C-BDFA8951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E3F-6F75-410C-8F52-F716062C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70A-C26A-47A9-8696-8CB8A68E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E41C-B50F-435C-963E-3D895A86F6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61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7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5AC9-A598-4A99-BD20-3073AF6A15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BF2D-9977-4290-9ACD-B78D81EECC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1493640"/>
            <a:ext cx="79092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3880" y="440532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Module 1 – Concepts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Chapter 1.5 –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The Use of IT in Everyda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P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6425-3A4D-4D6C-B904-EB1492D984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Health Issu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114640"/>
            <a:ext cx="385596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etitive Strain Injury (R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llective name for a range of disorders affecting neck, limbs and bac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sults in numbness and tingling in limb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yest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used by long periods in front of a computer scre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used also by poor light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2114640"/>
            <a:ext cx="385596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used by poor seating and postu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used by prolonged use of a compu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fety Preca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bles should be safely secur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eep work surfaces tid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ke frequent short brea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ear your glasses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armsandwrists"/>
          <p:cNvPicPr/>
          <p:nvPr/>
        </p:nvPicPr>
        <p:blipFill>
          <a:blip r:embed="rId1"/>
          <a:stretch/>
        </p:blipFill>
        <p:spPr>
          <a:xfrm>
            <a:off x="3889440" y="5318280"/>
            <a:ext cx="127008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97B0-9957-49CF-893B-8E304D3761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The Environmen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454968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ycle printer cartri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ycle printer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Print Preview facility to check your work before pr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REALLY need a printout?  Print for a purpo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power schemes to reduce amount of electricity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D-ROMs, electronic documents all reduce the need for printed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computer"/>
          <p:cNvPicPr/>
          <p:nvPr/>
        </p:nvPicPr>
        <p:blipFill>
          <a:blip r:embed="rId1"/>
          <a:stretch/>
        </p:blipFill>
        <p:spPr>
          <a:xfrm>
            <a:off x="6188040" y="3141720"/>
            <a:ext cx="16891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8D77-4588-4D78-BD85-5E045EF0D3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s or People?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460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uters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lculate millions of times faster than huma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ever get tir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 do jobs which are dangerous for huma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re large amounts of information in one plac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ind information quickl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ever lose or misplace informati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g0409414"/>
          <p:cNvPicPr/>
          <p:nvPr/>
        </p:nvPicPr>
        <p:blipFill>
          <a:blip r:embed="rId1"/>
          <a:stretch/>
        </p:blipFill>
        <p:spPr>
          <a:xfrm>
            <a:off x="5570640" y="2508120"/>
            <a:ext cx="31003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3453-FA71-4ECD-B2EB-30EC4FB2A4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eople versus Computer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uters can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rite a boo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fort a person in distres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ink for themselv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ink of new idea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BUS35"/>
          <p:cNvPicPr/>
          <p:nvPr/>
        </p:nvPicPr>
        <p:blipFill>
          <a:blip r:embed="rId1"/>
          <a:stretch/>
        </p:blipFill>
        <p:spPr>
          <a:xfrm>
            <a:off x="4905360" y="2593800"/>
            <a:ext cx="35002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2E1E-FB52-4C0A-8230-787D2F9C69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s in busines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eeping customer record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cessing sales ord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eeping accoun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ck manag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irline Book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ookings instantly recorded to avoid double book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vailability of flights instantly accessibl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ine 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ccess your account 24/7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need to travel to a branch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duction in overheads for the ban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urance Claims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intain databases to prevent duplicate claims/frau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nd automatic renewal notices to custom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2A6A-7BCF-4DCA-BB51-3CF664EF3E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s in Governmen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158560"/>
            <a:ext cx="38559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cording of information including statistics on age, ethnic origin etc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nsures schools, hospitals and other facilities are made availabl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ronic 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ting register is updat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ting by computer either at home or at polling station is likely to take off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irman"/>
          <p:cNvPicPr/>
          <p:nvPr/>
        </p:nvPicPr>
        <p:blipFill>
          <a:blip r:embed="rId1"/>
          <a:stretch/>
        </p:blipFill>
        <p:spPr>
          <a:xfrm>
            <a:off x="4497480" y="5046840"/>
            <a:ext cx="907920" cy="1320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4040" y="2158560"/>
            <a:ext cx="38559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hicl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VLC has records of all registered vehicl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enue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land Revenue keeps records of every taxpay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xpayers can fill in a tax return onlin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x credits can also be applied for onlin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6CD4-9BFB-44B4-93FD-E02654EEC5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s in Healthcar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5600"/>
            <a:ext cx="385596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ient Recor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Doctors’ surgeries are computerise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ppointment system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rint out prescription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bulance Contro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ll-taking, accepting and verifying incident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ending out nearest ambulanc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ng incidents to chosen ambulanc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ositioning suitably equipped ambulances to where they are likely to be neede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4040" y="2055600"/>
            <a:ext cx="385596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 tools and instr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uterised tools to scan and analyse sampl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nitor vital signs such as heart rate and temperatu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cemakers and artificial limbs have changed the lives of many peopl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ist surgic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ssist surgeons with carrying out delicate surger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vide 3D vision to eliminate hand-tremo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firstcall"/>
          <p:cNvPicPr/>
          <p:nvPr/>
        </p:nvPicPr>
        <p:blipFill>
          <a:blip r:embed="rId1"/>
          <a:stretch/>
        </p:blipFill>
        <p:spPr>
          <a:xfrm>
            <a:off x="4370400" y="5373720"/>
            <a:ext cx="12063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FF07-67AB-4933-AE7A-72EF7602DD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s in Education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eep student record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nable computerised timetabl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wipe-cards to monitor student attendanc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uter-Base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ide range of software packages to aid learn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 teach a wide range of subjec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in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udent resources made available over the Inter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ssignments can be submitted via emai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anc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computertraining"/>
          <p:cNvPicPr/>
          <p:nvPr/>
        </p:nvPicPr>
        <p:blipFill>
          <a:blip r:embed="rId1"/>
          <a:stretch/>
        </p:blipFill>
        <p:spPr>
          <a:xfrm>
            <a:off x="5764320" y="4610160"/>
            <a:ext cx="18874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6B80-3710-4742-A696-D73A64DBBA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Teleworking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830320"/>
            <a:ext cx="3855960" cy="34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travelling ti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void traffic jam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ork in the comfort of your own ho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lexible schedul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duced office space requiremen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asier childca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4040" y="2865600"/>
            <a:ext cx="3855960" cy="33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ack of personal contact with colleagu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ack of teamwork in shared projec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ome distract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esser employee benefits (medical plans, bonuses etc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939960" y="2017800"/>
            <a:ext cx="75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choose to work at home rather than commuting to the off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teleworking"/>
          <p:cNvPicPr/>
          <p:nvPr/>
        </p:nvPicPr>
        <p:blipFill>
          <a:blip r:embed="rId1"/>
          <a:stretch/>
        </p:blipFill>
        <p:spPr>
          <a:xfrm>
            <a:off x="3782880" y="5167440"/>
            <a:ext cx="149724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D0EA-3070-4985-B8F4-E010DA06D8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Ergonomic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3294000"/>
            <a:ext cx="385596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ghting – rooms should be well lit and windows should have blinds to avoid sun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ilation – windows should  open to allow free circulation of fresh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s – should be positioned away from sunlight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94040" y="3294000"/>
            <a:ext cx="385596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rniture – use an adjustable chair with good back support set to the correct height for comfortable use of keyboard and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ories – use copyholders and footrests where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14520" y="2239920"/>
            <a:ext cx="80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gonomics refers to design and functionality which includes the following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3:21:53Z</dcterms:created>
  <dc:creator>Karen Blakeley</dc:creator>
  <dc:description/>
  <dc:language>en-US</dc:language>
  <cp:lastModifiedBy>Ahmad Aseeri</cp:lastModifiedBy>
  <dcterms:modified xsi:type="dcterms:W3CDTF">2011-10-07T14:13:01Z</dcterms:modified>
  <cp:revision>8</cp:revision>
  <dc:subject/>
  <dc:title>European Computer Driving Licence</dc:title>
</cp:coreProperties>
</file>