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144E-1E4D-4AF3-9F95-587AB774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D2E-7CB5-48B2-865A-79A41337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924-D1FD-4C7E-9301-78344346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318-EFD6-43BD-AE82-EC1F39EE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7FCF-C759-473F-8639-EDDCEB1A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701E-8860-4D12-8DB0-E69C1DA5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0E2E-79DB-4850-AB98-ED4B30F8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1C4E-9C73-4436-8DDD-A2546753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BA8A-0943-4F4F-A203-E5DFB09A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4960" y="11426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0161-5C80-49E0-8EDF-6E43966C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1968-1161-4F78-AAD2-2054CD22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DB8-6C4A-4B51-B13C-BD502BDC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3D18-10A9-4F46-B01D-744AC644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8F6C-8673-4951-AB15-74029D5D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A46D-5A7F-45E6-84C4-D4225EC1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2A78-4116-4364-91F0-FF939665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512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444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512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444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F34E-A1C5-495D-86E7-92CED666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E49-4AAA-4D6C-BE32-029AB3B1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684E-0640-45C3-A2C6-7C13CF57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40B-E41C-43C7-8101-A0DF250F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4960" y="11426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741-9526-45D4-BBC6-6B743914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9CA4-7A0A-495B-BA51-D661DEFA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7EF-3330-439A-BA0D-C3164B1A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21D-A511-414D-A19C-0B76D193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1CEB-E6C7-4BED-9109-FECA03A235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61" descr="banner"/>
          <p:cNvPicPr/>
          <p:nvPr/>
        </p:nvPicPr>
        <p:blipFill>
          <a:blip r:embed="rId2"/>
          <a:srcRect l="0" t="15619" r="0" b="0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7" descr="banner"/>
          <p:cNvPicPr/>
          <p:nvPr/>
        </p:nvPicPr>
        <p:blipFill>
          <a:blip r:embed="rId2"/>
          <a:srcRect l="0" t="15619" r="0" b="0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BFBE-4F52-4F45-A569-7E20BB2F6F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4F5B-BDD9-4C6D-9E39-D1E907C5D6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1493640"/>
            <a:ext cx="79092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23880" y="440532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Module 1 – Concepts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Chapter 1.6 –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Legal Issues an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4DAD-9E78-4F17-9790-911F03C368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Copyrigh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uter software is copyright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vered by Copyright, Designs and Patents Act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don’t “buy”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pay for a licence to install and use the software on one machine – see the End User Licence Agreement (EU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are breaking the law if you make a copy of software and give/sell it to someone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0"/>
          <p:cNvGrpSpPr/>
          <p:nvPr/>
        </p:nvGrpSpPr>
        <p:grpSpPr>
          <a:xfrm>
            <a:off x="5105520" y="2244600"/>
            <a:ext cx="3749400" cy="3268800"/>
            <a:chOff x="5105520" y="2244600"/>
            <a:chExt cx="3749400" cy="3268800"/>
          </a:xfrm>
        </p:grpSpPr>
        <p:pic>
          <p:nvPicPr>
            <p:cNvPr id="93" name="Picture 8" descr="g0412567"/>
            <p:cNvPicPr/>
            <p:nvPr/>
          </p:nvPicPr>
          <p:blipFill>
            <a:blip r:embed="rId1"/>
            <a:stretch/>
          </p:blipFill>
          <p:spPr>
            <a:xfrm>
              <a:off x="6492960" y="2244600"/>
              <a:ext cx="236196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9" descr="dqsaatvo[1]"/>
            <p:cNvPicPr/>
            <p:nvPr/>
          </p:nvPicPr>
          <p:blipFill>
            <a:blip r:embed="rId2"/>
            <a:stretch/>
          </p:blipFill>
          <p:spPr>
            <a:xfrm>
              <a:off x="5105520" y="3687840"/>
              <a:ext cx="1212840" cy="182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BFBF-18FC-4EDA-BE82-070774BD3F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ersonal Privacy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54492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ght to privacy is a fundamental human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dvance in computerised technology makes it easier to store and sha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what can go wrong with some case studi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kkx0vw2y[1]"/>
          <p:cNvPicPr/>
          <p:nvPr/>
        </p:nvPicPr>
        <p:blipFill>
          <a:blip r:embed="rId1"/>
          <a:stretch/>
        </p:blipFill>
        <p:spPr>
          <a:xfrm>
            <a:off x="6033960" y="2554200"/>
            <a:ext cx="243684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445E-3B13-43BB-9B74-0993A80417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The Data Protection Act 1998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e into force in March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s rules for the processing of person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s to paper records as well as computerised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nded to protect the privacy of indiv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details can be found at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www.dataprotection.gov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rcRect l="0" t="14579" r="38555" b="3486"/>
          <a:stretch/>
        </p:blipFill>
        <p:spPr>
          <a:xfrm>
            <a:off x="4700520" y="2467080"/>
            <a:ext cx="37544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62CB-BF45-48A4-B401-4C4A8FC4F1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Data Protection Principl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232000"/>
            <a:ext cx="3855960" cy="40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8 enforceable principles – data must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airly and lawfully process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btained for specific purposes onl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dequate, relevant and not excessiv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ccurate and up-to-dat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2232000"/>
            <a:ext cx="3855960" cy="40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Kept no longer than necessar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cessed in accordance with the data subject’s righ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nnot be transferred to other countries without similar protecti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Kept safe and secure from outsid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g0703916"/>
          <p:cNvPicPr/>
          <p:nvPr/>
        </p:nvPicPr>
        <p:blipFill>
          <a:blip r:embed="rId1"/>
          <a:stretch/>
        </p:blipFill>
        <p:spPr>
          <a:xfrm>
            <a:off x="3824280" y="4665600"/>
            <a:ext cx="20574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3015-522C-4913-BF77-887603654B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Data Security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dential information must be kept secur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uthorised personnel should have access to confiden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privacy"/>
          <p:cNvPicPr/>
          <p:nvPr/>
        </p:nvPicPr>
        <p:blipFill>
          <a:blip r:embed="rId1"/>
          <a:stretch/>
        </p:blipFill>
        <p:spPr>
          <a:xfrm>
            <a:off x="5135400" y="2409840"/>
            <a:ext cx="3367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FBF2-67F4-4945-9C58-34BA951775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Backing Up Data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43434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should always back up your data on a regular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ep a second copy of important files on a floppy disk, zip disk or CD and store it separately from your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data is much more valuable than your computer equipment - it’s pric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protect your PC equipment with insurance, but this will not replace your da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g0412518"/>
          <p:cNvPicPr/>
          <p:nvPr/>
        </p:nvPicPr>
        <p:blipFill>
          <a:blip r:embed="rId1"/>
          <a:stretch/>
        </p:blipFill>
        <p:spPr>
          <a:xfrm>
            <a:off x="5945040" y="2570040"/>
            <a:ext cx="23720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30B1-CC19-4C04-828D-F316361007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Computer Virus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ruses are small programs which are designed to cause damage to a computer or whole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PC can catch a virus by sharing files on disks/CDs, viewing/downloading files on the web and from e-mail attach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nly protection against this is having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anti-virus softwa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lled on your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g0409441"/>
          <p:cNvPicPr/>
          <p:nvPr/>
        </p:nvPicPr>
        <p:blipFill>
          <a:blip r:embed="rId1"/>
          <a:stretch/>
        </p:blipFill>
        <p:spPr>
          <a:xfrm>
            <a:off x="5286240" y="2970360"/>
            <a:ext cx="327672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833C-C702-4BB1-8575-43947D1739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rotection against virus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454968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Sc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iles for viruses </a:t>
            </a:r>
            <a:r>
              <a:rPr b="1" i="1" lang="en-GB" sz="2000" spc="-1" strike="noStrike">
                <a:solidFill>
                  <a:srgbClr val="ff0066"/>
                </a:solidFill>
                <a:latin typeface="Arial"/>
              </a:rPr>
              <a:t>befo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peni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sure you keep your antivirus software </a:t>
            </a: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up to d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300 viruses are released into the wild every month – it only takes one to wreak havoc on your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on broadband, install a </a:t>
            </a: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firewa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keep hackers away from your perso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vkxz4wuc[1]"/>
          <p:cNvPicPr/>
          <p:nvPr/>
        </p:nvPicPr>
        <p:blipFill>
          <a:blip r:embed="rId1"/>
          <a:stretch/>
        </p:blipFill>
        <p:spPr>
          <a:xfrm>
            <a:off x="6518160" y="2752560"/>
            <a:ext cx="21402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9:50:24Z</dcterms:created>
  <dc:creator>Karen Blakeley</dc:creator>
  <dc:description/>
  <dc:language>en-US</dc:language>
  <cp:lastModifiedBy>Ahmad Aseeri</cp:lastModifiedBy>
  <dcterms:modified xsi:type="dcterms:W3CDTF">2011-10-07T14:17:52Z</dcterms:modified>
  <cp:revision>6</cp:revision>
  <dc:subject/>
  <dc:title>European Computer Driving Licence</dc:title>
</cp:coreProperties>
</file>