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jpeg" ContentType="image/jpeg"/>
  <Override PartName="/ppt/media/image10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0B71-E3CE-43BB-B07E-CE7B3D18F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786456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450320"/>
            <a:ext cx="786456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06A9-C5ED-40F9-936B-9D4325F8D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5640" y="246816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45032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5640" y="445032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93B9-FC45-488D-B18F-F22586D8F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2532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5120" y="2468160"/>
            <a:ext cx="2532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4440" y="2468160"/>
            <a:ext cx="2532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450320"/>
            <a:ext cx="2532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5120" y="4450320"/>
            <a:ext cx="2532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4440" y="4450320"/>
            <a:ext cx="2532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CC2D-0EFF-429E-9446-BC96AD392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D9E20-6CD4-4CCD-A53F-FB496BDA4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2468160"/>
            <a:ext cx="7864560" cy="379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2F759-6975-46C2-A82C-7E4C55C97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786456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5E7AA-D570-4349-A166-B0246D761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383760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5640" y="2468160"/>
            <a:ext cx="383760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5A9C8-C50A-41FA-9CB4-152A5366B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B6F52-D1F5-4069-9A5D-A69B49085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24960" y="1142640"/>
            <a:ext cx="7923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80BD2-2828-43D8-8FBF-20B5159DA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5640" y="2468160"/>
            <a:ext cx="383760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45032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12325-35D2-47EE-992D-2DDE4E521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468160"/>
            <a:ext cx="7864560" cy="379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AEC7-1FF9-465B-9B16-659C777C5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383760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5640" y="246816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15640" y="445032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BE037-CC98-4392-983D-D6A40612D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5640" y="246816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450320"/>
            <a:ext cx="786456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461EA-4764-4A54-8A0E-40A44DE6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786456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450320"/>
            <a:ext cx="786456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03507-F103-4393-BA0E-1027266F2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5640" y="246816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45032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15640" y="445032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7AB5B-57D6-43A9-861F-9B5BAA839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2532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45120" y="2468160"/>
            <a:ext cx="2532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4440" y="2468160"/>
            <a:ext cx="2532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450320"/>
            <a:ext cx="2532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45120" y="4450320"/>
            <a:ext cx="2532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4440" y="4450320"/>
            <a:ext cx="2532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FCC5C-5AEC-421C-962D-E8984A977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786456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9434-841A-4018-B5F2-ABA945549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383760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5640" y="2468160"/>
            <a:ext cx="383760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E751-CE91-4862-A820-742A77E70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69DF-AA3A-4616-B4C6-52EA59719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4960" y="1142640"/>
            <a:ext cx="7923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DF15-4681-4753-A920-4347A91D3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5640" y="2468160"/>
            <a:ext cx="383760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45032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CEF0-E870-490D-A81F-507C3E02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383760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5640" y="246816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5640" y="445032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C838-D3B4-47A7-A48E-3DDC2CB15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5640" y="246816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450320"/>
            <a:ext cx="786456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93DC-4ADA-44A1-80DB-C758C02DA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468160"/>
            <a:ext cx="786456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AA82E-9907-4B46-B318-360E88A2019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61" descr="banner"/>
          <p:cNvPicPr/>
          <p:nvPr/>
        </p:nvPicPr>
        <p:blipFill>
          <a:blip r:embed="rId2"/>
          <a:srcRect l="0" t="15619" r="0" b="0"/>
          <a:stretch/>
        </p:blipFill>
        <p:spPr>
          <a:xfrm>
            <a:off x="0" y="0"/>
            <a:ext cx="9144000" cy="12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7" descr="banner"/>
          <p:cNvPicPr/>
          <p:nvPr/>
        </p:nvPicPr>
        <p:blipFill>
          <a:blip r:embed="rId2"/>
          <a:srcRect l="0" t="15619" r="0" b="0"/>
          <a:stretch/>
        </p:blipFill>
        <p:spPr>
          <a:xfrm>
            <a:off x="0" y="0"/>
            <a:ext cx="9144000" cy="12366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2468160"/>
            <a:ext cx="786456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0B8B0-E093-4BCA-AF41-3EE46250106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95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96"/>
          <p:cNvSpPr/>
          <p:nvPr/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F63DB-34C4-4655-82A2-6733C34CB45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1400" y="1493640"/>
            <a:ext cx="7909200" cy="23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Arial"/>
              </a:rPr>
              <a:t>European Computer Driving Licence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23880" y="4405320"/>
            <a:ext cx="79264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Module 1 – Concepts of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Chapter 1.6 – </a:t>
            </a:r>
            <a:r>
              <a:rPr b="1" lang="en-GB" sz="2400" spc="-1" strike="noStrike">
                <a:solidFill>
                  <a:srgbClr val="ff0066"/>
                </a:solidFill>
                <a:latin typeface="Arial"/>
              </a:rPr>
              <a:t>Legal Issues and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B3424-BA70-49E8-BA8D-DD286A377A1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Copyright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2468160"/>
            <a:ext cx="38559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uter software is copyright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vered by Copyright, Designs and Patents Act 19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ou don’t “buy” the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ou pay for a licence to install and use the software on one machine – see the End User Licence Agreement (EUL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ou are breaking the law if you make a copy of software and give/sell it to someone 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10"/>
          <p:cNvGrpSpPr/>
          <p:nvPr/>
        </p:nvGrpSpPr>
        <p:grpSpPr>
          <a:xfrm>
            <a:off x="5105520" y="2244600"/>
            <a:ext cx="3749400" cy="3268800"/>
            <a:chOff x="5105520" y="2244600"/>
            <a:chExt cx="3749400" cy="3268800"/>
          </a:xfrm>
        </p:grpSpPr>
        <p:pic>
          <p:nvPicPr>
            <p:cNvPr id="93" name="Picture 8" descr="g0412567"/>
            <p:cNvPicPr/>
            <p:nvPr/>
          </p:nvPicPr>
          <p:blipFill>
            <a:blip r:embed="rId1"/>
            <a:stretch/>
          </p:blipFill>
          <p:spPr>
            <a:xfrm>
              <a:off x="6492960" y="2244600"/>
              <a:ext cx="2361960" cy="19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9" descr="dqsaatvo[1]"/>
            <p:cNvPicPr/>
            <p:nvPr/>
          </p:nvPicPr>
          <p:blipFill>
            <a:blip r:embed="rId2"/>
            <a:stretch/>
          </p:blipFill>
          <p:spPr>
            <a:xfrm>
              <a:off x="5105520" y="3687840"/>
              <a:ext cx="1212840" cy="1825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B3510-6C84-4143-8DA2-A683905CE14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Personal Privacy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2468160"/>
            <a:ext cx="354492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ight to privacy is a fundamental human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advance in computerised technology makes it easier to store and share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e what can go wrong with some case studie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0" descr="kkx0vw2y[1]"/>
          <p:cNvPicPr/>
          <p:nvPr/>
        </p:nvPicPr>
        <p:blipFill>
          <a:blip r:embed="rId1"/>
          <a:stretch/>
        </p:blipFill>
        <p:spPr>
          <a:xfrm>
            <a:off x="6033960" y="2554200"/>
            <a:ext cx="2436840" cy="24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7FF2F-E5C3-45BF-8909-DAB1DEC0F95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The Data Protection Act 1998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2468160"/>
            <a:ext cx="38559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me into force in March 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s rules for the processing of personal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ies to paper records as well as computerised 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nded to protect the privacy of individ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ll details can be found at </a:t>
            </a:r>
            <a:r>
              <a:rPr b="0" lang="en-GB" sz="2000" spc="-1" strike="noStrike" u="sng">
                <a:solidFill>
                  <a:srgbClr val="0000ff"/>
                </a:solidFill>
                <a:uFillTx/>
                <a:latin typeface="Arial"/>
              </a:rPr>
              <a:t>www.dataprotection.gov.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"/>
          <p:cNvPicPr/>
          <p:nvPr/>
        </p:nvPicPr>
        <p:blipFill>
          <a:blip r:embed="rId1"/>
          <a:srcRect l="0" t="14579" r="38555" b="3486"/>
          <a:stretch/>
        </p:blipFill>
        <p:spPr>
          <a:xfrm>
            <a:off x="4700520" y="2467080"/>
            <a:ext cx="375444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2430D-B708-440D-BC9D-D2C55C9D167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Data Protection Principles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2232000"/>
            <a:ext cx="3855960" cy="403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are 8 enforceable principles – data must b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Fairly and lawfully processed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Obtained for specific purposes only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dequate, relevant and not excessiv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ccurate and up-to-dat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94040" y="2232000"/>
            <a:ext cx="3855960" cy="403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Kept no longer than necessary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rocessed in accordance with the data subject’s right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annot be transferred to other countries without similar protectio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Kept safe and secure from outsider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g0703916"/>
          <p:cNvPicPr/>
          <p:nvPr/>
        </p:nvPicPr>
        <p:blipFill>
          <a:blip r:embed="rId1"/>
          <a:stretch/>
        </p:blipFill>
        <p:spPr>
          <a:xfrm>
            <a:off x="3824280" y="4665600"/>
            <a:ext cx="20574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67248-271A-4BB4-A61E-0E3CAFE7B6B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Data Security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2468160"/>
            <a:ext cx="38559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fidential information must be kept secur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ly authorised personnel should have access to confidential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privacy"/>
          <p:cNvPicPr/>
          <p:nvPr/>
        </p:nvPicPr>
        <p:blipFill>
          <a:blip r:embed="rId1"/>
          <a:stretch/>
        </p:blipFill>
        <p:spPr>
          <a:xfrm>
            <a:off x="5135400" y="2409840"/>
            <a:ext cx="336708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32533-9703-4A12-87DE-7D9FEBEC523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Backing Up Data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2468160"/>
            <a:ext cx="434340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should always back up your data on a regular ba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eep a second copy of important files on a floppy disk, zip disk or CD and store it separately from your P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r data is much more valuable than your computer equipment - it’s pricel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can protect your PC equipment with insurance, but this will not replace your dat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g0412518"/>
          <p:cNvPicPr/>
          <p:nvPr/>
        </p:nvPicPr>
        <p:blipFill>
          <a:blip r:embed="rId1"/>
          <a:stretch/>
        </p:blipFill>
        <p:spPr>
          <a:xfrm>
            <a:off x="5945040" y="2570040"/>
            <a:ext cx="237204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50FDC-308E-48CB-A870-3E9FAA00F59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Computer Viruses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2468160"/>
            <a:ext cx="38559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iruses are small programs which are designed to cause damage to a computer or whole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r PC can catch a virus by sharing files on disks/CDs, viewing/downloading files on the web and from e-mail attach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only protection against this is having </a:t>
            </a: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anti-virus softwa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nstalled on your mach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8" descr="g0409441"/>
          <p:cNvPicPr/>
          <p:nvPr/>
        </p:nvPicPr>
        <p:blipFill>
          <a:blip r:embed="rId1"/>
          <a:stretch/>
        </p:blipFill>
        <p:spPr>
          <a:xfrm>
            <a:off x="5286240" y="2970360"/>
            <a:ext cx="327672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85B56-F2FC-4AD5-8BF7-0BFF2FC2615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Protection against viruses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454968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Sca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iles for viruses </a:t>
            </a:r>
            <a:r>
              <a:rPr b="1" i="1" lang="en-GB" sz="2000" spc="-1" strike="noStrike">
                <a:solidFill>
                  <a:srgbClr val="ff0066"/>
                </a:solidFill>
                <a:latin typeface="Arial"/>
              </a:rPr>
              <a:t>befo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pening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sure you keep your antivirus software </a:t>
            </a: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up to dat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– 300 viruses are released into the wild every month – it only takes one to wreak havoc on your 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on broadband, install a </a:t>
            </a: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firewal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o keep hackers away from your personal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vkxz4wuc[1]"/>
          <p:cNvPicPr/>
          <p:nvPr/>
        </p:nvPicPr>
        <p:blipFill>
          <a:blip r:embed="rId1"/>
          <a:stretch/>
        </p:blipFill>
        <p:spPr>
          <a:xfrm>
            <a:off x="6518160" y="2752560"/>
            <a:ext cx="214020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9:50:24Z</dcterms:created>
  <dc:creator>Karen Blakeley</dc:creator>
  <dc:description/>
  <dc:language>en-US</dc:language>
  <cp:lastModifiedBy>Ahmad Aseeri</cp:lastModifiedBy>
  <dcterms:modified xsi:type="dcterms:W3CDTF">2011-10-07T14:17:52Z</dcterms:modified>
  <cp:revision>6</cp:revision>
  <dc:subject/>
  <dc:title>European Computer Driving Licence</dc:title>
</cp:coreProperties>
</file>