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06A-3572-4B5F-AE26-C0B27C0F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B0B-64AE-4DAC-A8DF-F77647A1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B17-555E-4D21-BD9F-D92B37A4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E19-D8E8-41BF-AA46-DAEB0348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452C-A75D-41EF-B0D5-470CCCD8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EBAB-C43E-4589-BCD0-EFF87157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4332-9B24-4B69-832A-7214ED2B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A737-CE5F-4EEB-BD0A-E8520E51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CBBB-6CF2-40C1-AC65-BA3596CC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4616-6EBE-432B-B0E0-DA647CE6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DDFB-E3F6-4DA0-986E-F58ECCDA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BCB-1DD0-41A1-95EF-E1791277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3D6D-4780-4A82-8B9E-47B869CE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5D4A-BA78-4F95-9999-65B160E2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1711-8C1C-4077-A36E-47EB5C0D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F85F-B23C-41F7-BC24-16029AC1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FF45-CC79-4E88-85C0-C16ED0E6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BDD-86E2-41E9-B090-8D84C5F4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C24E-8626-48A1-BA2B-EC4A8A9D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610-F06E-417E-9017-0EFE743B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CAC7-656F-4681-B860-CEBB5E69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878-2151-4B62-BCBE-5F8A6480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D8F-D1E3-4A16-99C4-54522113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E827-EF20-4DE6-A985-BEE2D596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1155-5E0A-4C94-8704-446A854E6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4C12-0B5C-4D98-AAE1-9F475017C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dule 2 – Using the Computer and Managing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apter 2.1 – The Desk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hat They All Mea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2276640"/>
          <a:ext cx="7864560" cy="4006800"/>
        </p:xfrm>
        <a:graphic>
          <a:graphicData uri="http://schemas.openxmlformats.org/drawingml/2006/table">
            <a:tbl>
              <a:tblPr/>
              <a:tblGrid>
                <a:gridCol w="1725480"/>
                <a:gridCol w="613908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shows the name of the progra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u 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labels which when clicked on produce drop down menus with options to choose fr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s information about the current status of the program you are working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ise i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ing on this makes the window disappear but a button appears on the taskbar.  To restore the window, click once on the taskbar butt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ise but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ing on this makes the window fill the screen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ore but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on the restore icon will restore a maximised window to its previous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 but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ck this once to close a window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oving and Resizing a Window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a window, 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itle b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drag the window to its new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size a window, move the mouse pointer to any of the borders – a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wo-hea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row will appear – drag to make the window bigger or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076720" y="4724280"/>
            <a:ext cx="3456000" cy="1298520"/>
            <a:chOff x="5076720" y="4724280"/>
            <a:chExt cx="3456000" cy="129852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rcRect l="0" t="50691" r="0" b="7558"/>
            <a:stretch/>
          </p:blipFill>
          <p:spPr>
            <a:xfrm>
              <a:off x="5076720" y="4724280"/>
              <a:ext cx="309564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596360" y="4724280"/>
              <a:ext cx="936360" cy="649440"/>
            </a:xfrm>
            <a:prstGeom prst="ellipse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971640" y="4076640"/>
            <a:ext cx="3219480" cy="2036880"/>
            <a:chOff x="971640" y="4076640"/>
            <a:chExt cx="3219480" cy="203688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rcRect l="0" t="0" r="0" b="3720"/>
            <a:stretch/>
          </p:blipFill>
          <p:spPr>
            <a:xfrm>
              <a:off x="971640" y="4221000"/>
              <a:ext cx="3219480" cy="18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627280" y="4076640"/>
              <a:ext cx="576360" cy="647640"/>
            </a:xfrm>
            <a:prstGeom prst="ellipse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croll Bar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409480"/>
            <a:ext cx="38559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window is too small to display the full contents,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croll b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to the top of the window, click on the up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to the bottom of the window, click on the dow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ve quickly up or down, drag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croll 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scroll from left to right if a window isn’t wide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012000" y="2492280"/>
            <a:ext cx="2710800" cy="3384720"/>
            <a:chOff x="6012000" y="2492280"/>
            <a:chExt cx="2710800" cy="338472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rcRect l="15869" t="0" r="0" b="0"/>
            <a:stretch/>
          </p:blipFill>
          <p:spPr>
            <a:xfrm>
              <a:off x="6012000" y="2492280"/>
              <a:ext cx="3808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732720" y="2657520"/>
              <a:ext cx="177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here to scroll 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32720" y="3716280"/>
              <a:ext cx="1819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rag the scrollbar up and down to move quick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33080" y="5589720"/>
              <a:ext cx="198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here to scroll d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Working with more than one window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462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two windows on screen, you can switch between them by clicking anywhere inside each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you can click on the taskbar but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isplay 2 windows side by side,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askb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lec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ile Windows Horizont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ile Windows Ver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2376360" cy="1781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796000" y="4508640"/>
            <a:ext cx="2371680" cy="17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witching off your comput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all ope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urn Off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urn 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modern computers will switch themselves off aut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y Hi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ll also bring up the Turn Off Computer Dialogue box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148360" y="2592360"/>
            <a:ext cx="3024000" cy="2813040"/>
            <a:chOff x="5148360" y="2592360"/>
            <a:chExt cx="3024000" cy="281304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5148360" y="3500280"/>
              <a:ext cx="299088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5148360" y="2592360"/>
              <a:ext cx="3024000" cy="563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starting your comput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urn Off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dialogue box that appears, click o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y Hint:  Pressing</a:t>
            </a:r>
            <a:br>
              <a:rPr sz="2000"/>
            </a:b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tr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Al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Delet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wice in quick succession will do the same job on a stand-alone PC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148360" y="2592360"/>
            <a:ext cx="3024000" cy="2813040"/>
            <a:chOff x="5148360" y="2592360"/>
            <a:chExt cx="3024000" cy="281304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5148360" y="3500280"/>
              <a:ext cx="299088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5148360" y="2592360"/>
              <a:ext cx="3024000" cy="563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witching O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at the floppy disk drive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Power switch on the front of the system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also need to switch on the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on a network, you will need to type in a user name and password (for security reasons the password will not displ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 short period, the Windows desktop will 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 Windows Desktop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4000" y="2421000"/>
            <a:ext cx="7864200" cy="385272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468360" y="2565360"/>
            <a:ext cx="8227800" cy="3895560"/>
            <a:chOff x="468360" y="2565360"/>
            <a:chExt cx="8227800" cy="38955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2052360" y="2565360"/>
              <a:ext cx="5472360" cy="34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flipH="1">
              <a:off x="1186920" y="3068640"/>
              <a:ext cx="865080" cy="3222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186920" y="3429000"/>
              <a:ext cx="86508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9800" y="314172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c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98160" y="609264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skb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8360" y="5300640"/>
              <a:ext cx="95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rt but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96000" y="4941720"/>
              <a:ext cx="110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 T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7164000" y="5518080"/>
              <a:ext cx="647640" cy="3729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60360" y="5589360"/>
              <a:ext cx="719280" cy="2876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sktop Icon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2409840"/>
          <a:ext cx="7864560" cy="4086360"/>
        </p:xfrm>
        <a:graphic>
          <a:graphicData uri="http://schemas.openxmlformats.org/drawingml/2006/table">
            <a:tbl>
              <a:tblPr/>
              <a:tblGrid>
                <a:gridCol w="861840"/>
                <a:gridCol w="2160720"/>
                <a:gridCol w="4842000"/>
              </a:tblGrid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rectory/folder ic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-click on one of these to open the folder and select a 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ile ic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-click on this to open the file in the application that created it, eg 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pplication ic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-click on this to launch the appl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ycle b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you delete a file, it is stored here.  You can retrieve it later if you change your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er ic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ill learn more about printing later in this mod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390600" cy="371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5640" y="4006800"/>
            <a:ext cx="720720" cy="668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00000" y="3284640"/>
            <a:ext cx="507960" cy="595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55640" y="4869000"/>
            <a:ext cx="635040" cy="507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826920" y="5805360"/>
            <a:ext cx="584280" cy="6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askba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3428640"/>
            <a:ext cx="38559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important part of the taskbar is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 but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lick on this to access all programs, documents and computer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Quick launch toolb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ws icons for frequently used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4040" y="3428640"/>
            <a:ext cx="38559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part of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askb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show which programs are currently running – each button represents 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bottom right hand corner is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ystem T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if you hover your mouse over the time, today’s date will app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87480" y="2152800"/>
            <a:ext cx="55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……………Main taskbar area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1280" y="1773360"/>
            <a:ext cx="8288280" cy="1395360"/>
            <a:chOff x="611280" y="1773360"/>
            <a:chExt cx="8288280" cy="13953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684360" y="2637000"/>
              <a:ext cx="784836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11280" y="1773360"/>
              <a:ext cx="95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rt but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0920" y="2781360"/>
              <a:ext cx="297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ick launch toolb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62360" y="280044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 T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2349360"/>
              <a:ext cx="165240" cy="2876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1638000" y="2781360"/>
              <a:ext cx="485640" cy="2160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Using the mous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409480"/>
            <a:ext cx="385596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where the mouse pointer is on screen, a different icon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51640" y="2133720"/>
            <a:ext cx="1778040" cy="16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900000" y="4149720"/>
          <a:ext cx="7274160" cy="2346480"/>
        </p:xfrm>
        <a:graphic>
          <a:graphicData uri="http://schemas.openxmlformats.org/drawingml/2006/table">
            <a:tbl>
              <a:tblPr/>
              <a:tblGrid>
                <a:gridCol w="1584360"/>
                <a:gridCol w="568980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is the general pointer and means that the computer is ready to do some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hourglass shows that the computer is busy, so you should wait until it goes back to 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the pointer changes to a two-headed arrow you can resize a wind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" descr=""/>
          <p:cNvPicPr/>
          <p:nvPr/>
        </p:nvPicPr>
        <p:blipFill>
          <a:blip r:embed="rId2"/>
          <a:srcRect l="5389" t="20098" r="9381" b="0"/>
          <a:stretch/>
        </p:blipFill>
        <p:spPr>
          <a:xfrm>
            <a:off x="1360440" y="422100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32000" y="5013360"/>
            <a:ext cx="561960" cy="57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1600" y="5805360"/>
            <a:ext cx="48420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ouse click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79040" y="2133360"/>
            <a:ext cx="385596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Left cli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is means press the left mouse button once.  Clicking once selects an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ouble cli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is means press the left mouse button twice quickly.  Double-clicking is used to launch a program from the Desk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87640" y="2133360"/>
            <a:ext cx="385596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ight cli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is means press the right mouse button once.  This opens a pop-up menu.  Left click on a menu item to perform that 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r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Click on the item, hold down the left mouse button and move the mouse – as soon as you release the mouse button, the item will move to its new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11280" y="4581360"/>
            <a:ext cx="4392360" cy="1872000"/>
            <a:chOff x="611280" y="4581360"/>
            <a:chExt cx="4392360" cy="187200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2268360" y="4724280"/>
              <a:ext cx="763920" cy="17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763640" y="5516640"/>
              <a:ext cx="64764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771640" y="5516640"/>
              <a:ext cx="72072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1280" y="4581360"/>
              <a:ext cx="13158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ngle click – press this button o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uble click – press this button tw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16200" y="5033880"/>
              <a:ext cx="1387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ight click – press this button once, a pop-up menu app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 Start Butto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46782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to start a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mouse pointer over it and click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rt me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r chosen application doesn’t appear in the Start menu, click on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l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mouse pointer to your required application and click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lication will star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341520" cy="40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 Parts of a Window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57080" y="2276640"/>
            <a:ext cx="8066880" cy="4132440"/>
            <a:chOff x="757080" y="2276640"/>
            <a:chExt cx="8066880" cy="41324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2268720" y="2853000"/>
              <a:ext cx="4753080" cy="35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901440" y="242136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tle b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63800" y="604080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us B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7080" y="314028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nu b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64000" y="2708640"/>
              <a:ext cx="433080" cy="2509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908360" y="3211560"/>
              <a:ext cx="360360" cy="1443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021440" y="6237720"/>
              <a:ext cx="43164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17440" y="2276640"/>
              <a:ext cx="410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mise, maximise &amp; close butt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64360" y="2637000"/>
              <a:ext cx="1008000" cy="2876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61440" y="2564280"/>
              <a:ext cx="0" cy="2887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021800" y="2637000"/>
              <a:ext cx="503280" cy="2905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21:41:44Z</dcterms:created>
  <dc:creator>Karen Blakeley</dc:creator>
  <dc:description/>
  <dc:language>en-US</dc:language>
  <cp:lastModifiedBy>oliver</cp:lastModifiedBy>
  <dcterms:modified xsi:type="dcterms:W3CDTF">2004-05-26T13:44:42Z</dcterms:modified>
  <cp:revision>9</cp:revision>
  <dc:subject/>
  <dc:title>European Computer Driving Licence</dc:title>
</cp:coreProperties>
</file>