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77E-61EA-42F5-BF89-C1950C5B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FDB-A7BC-414A-A984-AD307283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2BA-7C81-4EB9-8991-68E8FBA5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CD0-60E2-42EA-B8E1-3FC837BF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172D-5E8C-4496-9AB2-48F7FC3E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F947-DA87-4CCF-979B-D6F953C9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A83B-E0C6-452C-858F-DB3FA0D7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04D6-92CE-4746-A70D-C998056F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2BCD-AFAF-4EF8-8E07-B57F12E7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475D-A69F-4ADC-AAE3-E3508256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87F3-02FF-41BD-A2A9-36C6B31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206-29A7-4F8D-B8AC-A84E3370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F8AE-50CA-4149-B6BC-6A936370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0811-3B4F-4416-9A36-9E7A72F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5764-7F37-437E-9B3A-F31E925D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1701-67AB-4A26-AF93-EC5AED04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F23A-CEB9-4180-A8AE-0FE8F87B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5AE-A2C8-445B-997F-D3694DA7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528-FEA2-4DEB-8F96-49C1C6E0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41B-4C0F-44F8-BD52-072A03B7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398-B1AC-4494-BC21-BDCCEC6C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0D9-E179-47FA-B1C7-0F47976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E88-FC3C-4C27-89F4-5CCCCB27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AEA-B7C0-4C3F-B595-28A2C06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7A98-9CB5-4DDC-A72E-4C3B41DAB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1239-BD59-4D51-BC51-7099420E6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1 – Th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at They All Mea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2276640"/>
          <a:ext cx="7864560" cy="4006800"/>
        </p:xfrm>
        <a:graphic>
          <a:graphicData uri="http://schemas.openxmlformats.org/drawingml/2006/table">
            <a:tbl>
              <a:tblPr/>
              <a:tblGrid>
                <a:gridCol w="1725480"/>
                <a:gridCol w="613908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shows the name of the progr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u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labels which when clicked on produce drop down menus with options to choose 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s information about the current status of the program you are working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se i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ing on this makes the window disappear but a button appears on the taskbar.  To restore the window, click once on the taskbar butt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se but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ing on this makes the window fill the screen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ore but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on the restore icon will restore a maximised window to its previous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 but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is once to close a window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oving and Resizing a Window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a window,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itle 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drag the window to its new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size a window, move the mouse pointer to any of the borders –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wo-hea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row will appear – drag to make the window bigger or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076720" y="4724280"/>
            <a:ext cx="3456000" cy="1298520"/>
            <a:chOff x="5076720" y="4724280"/>
            <a:chExt cx="3456000" cy="129852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0" t="50691" r="0" b="7558"/>
            <a:stretch/>
          </p:blipFill>
          <p:spPr>
            <a:xfrm>
              <a:off x="5076720" y="4724280"/>
              <a:ext cx="30956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96360" y="4724280"/>
              <a:ext cx="936360" cy="649440"/>
            </a:xfrm>
            <a:prstGeom prst="ellipse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971640" y="4076640"/>
            <a:ext cx="3219480" cy="2036880"/>
            <a:chOff x="971640" y="4076640"/>
            <a:chExt cx="3219480" cy="203688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rcRect l="0" t="0" r="0" b="3720"/>
            <a:stretch/>
          </p:blipFill>
          <p:spPr>
            <a:xfrm>
              <a:off x="971640" y="4221000"/>
              <a:ext cx="321948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627280" y="4076640"/>
              <a:ext cx="576360" cy="647640"/>
            </a:xfrm>
            <a:prstGeom prst="ellipse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croll Ba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window is too small to display the full contents,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roll b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o the top of the window, click on the up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o the bottom of the window, click on the dow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quickly up or down, drag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roll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scroll from left to right if a window isn’t wide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12000" y="2492280"/>
            <a:ext cx="2710800" cy="3384720"/>
            <a:chOff x="6012000" y="2492280"/>
            <a:chExt cx="2710800" cy="338472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rcRect l="15869" t="0" r="0" b="0"/>
            <a:stretch/>
          </p:blipFill>
          <p:spPr>
            <a:xfrm>
              <a:off x="6012000" y="2492280"/>
              <a:ext cx="3808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32720" y="2657520"/>
              <a:ext cx="177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here to scroll 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32720" y="3716280"/>
              <a:ext cx="181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rag the scrollbar up and down to move quick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3080" y="5589720"/>
              <a:ext cx="198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here to scroll 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orking with more than one window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462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two windows on screen, you can switch between them by clicking anywhere inside each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you can click on the taskbar but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play 2 windows side by side,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ask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ile Windows Horizont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ile Windows Ver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376360" cy="178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96000" y="4508640"/>
            <a:ext cx="2371680" cy="17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witching off your compu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all ope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urn Off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urn 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odern computers will switch themselves off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ll also bring up the Turn Off Computer Dialogue bo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148360" y="2592360"/>
            <a:ext cx="3024000" cy="2813040"/>
            <a:chOff x="5148360" y="2592360"/>
            <a:chExt cx="3024000" cy="28130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148360" y="3500280"/>
              <a:ext cx="29908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148360" y="2592360"/>
              <a:ext cx="302400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arting your compu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urn Off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dialogue box that appears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Pressing</a:t>
            </a:r>
            <a:br>
              <a:rPr sz="2000"/>
            </a:b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Dele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wice in quick succession will do the same job on a stand-alone P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48360" y="2592360"/>
            <a:ext cx="3024000" cy="2813040"/>
            <a:chOff x="5148360" y="2592360"/>
            <a:chExt cx="3024000" cy="281304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5148360" y="3500280"/>
              <a:ext cx="29908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5148360" y="2592360"/>
              <a:ext cx="302400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witching 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at the floppy disk driv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Power switch on the front of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also need to switch on the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on a network, you will need to type in a user name and password (for security reasons the password will not disp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short period, the Windows desktop will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Windows Desktop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000" y="2421000"/>
            <a:ext cx="7864200" cy="38527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68360" y="2565360"/>
            <a:ext cx="8227800" cy="3895560"/>
            <a:chOff x="468360" y="2565360"/>
            <a:chExt cx="8227800" cy="38955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052360" y="2565360"/>
              <a:ext cx="5472360" cy="34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flipH="1">
              <a:off x="1186920" y="3068640"/>
              <a:ext cx="865080" cy="322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186920" y="3429000"/>
              <a:ext cx="8650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800" y="314172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c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98160" y="60926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sk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60" y="5300640"/>
              <a:ext cx="95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t but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96000" y="4941720"/>
              <a:ext cx="110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 T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164000" y="5518080"/>
              <a:ext cx="647640" cy="3729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60360" y="5589360"/>
              <a:ext cx="719280" cy="2876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sktop Ic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409840"/>
          <a:ext cx="7864560" cy="4086360"/>
        </p:xfrm>
        <a:graphic>
          <a:graphicData uri="http://schemas.openxmlformats.org/drawingml/2006/table">
            <a:tbl>
              <a:tblPr/>
              <a:tblGrid>
                <a:gridCol w="861840"/>
                <a:gridCol w="2160720"/>
                <a:gridCol w="48420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ory/folder ic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click on one of these to open the folder and select a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ile ic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click on this to open the file in the application that created it, eg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pplication ic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click on this to launch the 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ycle 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delete a file, it is stored here.  You can retrieve it later if you change your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er ic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ill learn more about printing later in this mo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390600" cy="371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4006800"/>
            <a:ext cx="720720" cy="668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507960" cy="59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55640" y="4869000"/>
            <a:ext cx="635040" cy="507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26920" y="5805360"/>
            <a:ext cx="58428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askba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38559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important part of the taskbar i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 bu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lick on this to access all programs, documents and computer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Quick launch tool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s icons for frequently use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4040" y="3428640"/>
            <a:ext cx="38559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part of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ask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show which programs are currently running – each button represents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ottom right hand corner i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ystem T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f you hover your mouse over the time, today’s date will app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87480" y="215280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……………Main taskbar area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1280" y="1773360"/>
            <a:ext cx="8288280" cy="1395360"/>
            <a:chOff x="611280" y="1773360"/>
            <a:chExt cx="8288280" cy="1395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684360" y="2637000"/>
              <a:ext cx="78483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11280" y="1773360"/>
              <a:ext cx="95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t but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0920" y="2781360"/>
              <a:ext cx="297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ick launch tool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2360" y="280044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 T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2349360"/>
              <a:ext cx="165240" cy="2876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1638000" y="2781360"/>
              <a:ext cx="485640" cy="216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the mous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where the mouse pointer is on screen, a different icon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1778040" cy="16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900000" y="4149720"/>
          <a:ext cx="7274160" cy="2346480"/>
        </p:xfrm>
        <a:graphic>
          <a:graphicData uri="http://schemas.openxmlformats.org/drawingml/2006/table">
            <a:tbl>
              <a:tblPr/>
              <a:tblGrid>
                <a:gridCol w="1584360"/>
                <a:gridCol w="56898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the general pointer and means that the computer is ready to do some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urglass shows that the computer is busy, so you should wait until it goes back to 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pointer changes to a two-headed arrow you can resize a wind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/>
          <p:cNvPicPr/>
          <p:nvPr/>
        </p:nvPicPr>
        <p:blipFill>
          <a:blip r:embed="rId2"/>
          <a:srcRect l="5389" t="20098" r="9381" b="0"/>
          <a:stretch/>
        </p:blipFill>
        <p:spPr>
          <a:xfrm>
            <a:off x="1360440" y="422100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32000" y="5013360"/>
            <a:ext cx="56196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580536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ouse click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9040" y="2133360"/>
            <a:ext cx="385596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eft cli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is means press the left mouse button once.  Clicking once selects an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ouble cli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is means press the left mouse button twice quickly.  Double-clicking is used to launch a program from the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87640" y="2133360"/>
            <a:ext cx="385596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ight cli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is means press the right mouse button once.  This opens a pop-up menu.  Left click on a menu item to perform that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lick on the item, hold down the left mouse button and move the mouse – as soon as you release the mouse button, the item will move to its new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11280" y="4581360"/>
            <a:ext cx="4392360" cy="1872000"/>
            <a:chOff x="611280" y="4581360"/>
            <a:chExt cx="4392360" cy="18720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268360" y="4724280"/>
              <a:ext cx="76392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63640" y="5516640"/>
              <a:ext cx="64764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771640" y="5516640"/>
              <a:ext cx="72072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1280" y="4581360"/>
              <a:ext cx="1315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click – press this button o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uble click – press this button tw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16200" y="5033880"/>
              <a:ext cx="1387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ght click – press this button once, a pop-up menu app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Start Butt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678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to start a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over it and click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 me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r chosen application doesn’t appear in the Start menu, click on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to your required application and click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will sta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341520" cy="40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Parts of a Window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57080" y="2276640"/>
            <a:ext cx="8066880" cy="4132440"/>
            <a:chOff x="757080" y="2276640"/>
            <a:chExt cx="8066880" cy="41324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2268720" y="2853000"/>
              <a:ext cx="4753080" cy="35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901440" y="242136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tle 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3800" y="604080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us 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7080" y="314028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u 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64000" y="2708640"/>
              <a:ext cx="433080" cy="2509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908360" y="3211560"/>
              <a:ext cx="360360" cy="144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021440" y="6237720"/>
              <a:ext cx="43164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7440" y="2276640"/>
              <a:ext cx="41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mise, maximise &amp; close butt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360" y="2637000"/>
              <a:ext cx="1008000" cy="2876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61440" y="2564280"/>
              <a:ext cx="0" cy="288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021800" y="2637000"/>
              <a:ext cx="503280" cy="290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21:41:44Z</dcterms:created>
  <dc:creator>Karen Blakeley</dc:creator>
  <dc:description/>
  <dc:language>en-US</dc:language>
  <cp:lastModifiedBy>oliver</cp:lastModifiedBy>
  <dcterms:modified xsi:type="dcterms:W3CDTF">2004-05-26T13:44:42Z</dcterms:modified>
  <cp:revision>9</cp:revision>
  <dc:subject/>
  <dc:title>European Computer Driving Licence</dc:title>
</cp:coreProperties>
</file>