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7F0-9096-4592-9F65-1171DB82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934F-BE61-475A-AD87-980C903F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620-373F-4399-A342-086154AB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06B-ADB0-4D9C-ACD3-A114A51F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1DB5-8ED6-46D4-8CD2-DA11B746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135A-7A8B-4F02-8939-5E307A87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B5EF-FD12-470A-B006-F80C711A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A572-3A15-4907-A654-C101B9FC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7927-20EB-4017-95AB-2FC1023E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A188-3D9E-4899-9566-81F7B7A1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D6CA-E503-4754-A5C7-40CEC1F6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5AF-EE8A-41B3-866E-F2D1A82C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8F10-CED6-4CCF-AF3D-88BC8938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CA36-4F27-4481-B7A2-4FB69F64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8683-1789-4E8C-AC2D-8D4C2071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3DE3-E242-4A8D-9675-521952D3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D68A-7060-4931-BC99-49B4E355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349-4DDA-40C3-B69C-7978EE49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697-10F3-4831-8C2F-FAF6413C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8ED-A366-47DD-9DFF-22396CCC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A094-7505-4733-BCB7-0BAEB0B1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D80-65EE-41CB-8654-4891467A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D5B-B275-45CD-8569-B5A50CBD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F92-A9DA-4CD2-95CA-B9441DF7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F57C-A55A-439D-ACDD-A69AB3F40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045E-A697-423E-813A-207DBF2E0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dule 2 – Using the Computer and Managing Fil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apter 2.2 – Creating and Printing Fil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7846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What to do if your mouse stops working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565360"/>
            <a:ext cx="51102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ave the changes made to your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o move to the save button and press the Enter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lose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xit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ain to exit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your mouse connection – has it come loose at the back?  Reconnect and switch on the computer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56360" y="3068640"/>
            <a:ext cx="2003400" cy="19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losing a Non-Responding Program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program “freezes” pres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stand-alone PC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ask Mana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pplications running will appear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ppl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program has the words “Not Responding” after it, click on it once then 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d T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2565360"/>
            <a:ext cx="321012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andy Tip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Sa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your work every few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to see if the program has an </a:t>
            </a: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autosa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unction switched on – it may be possible to recover your work when you re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files that you have saved to the hard disk or floppy disk are s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n’t have too many programs open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ick way to check if your computer has crashed is to press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aps Lock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f the keyboard light doesn’t come on or go off, the chances are your PC has c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e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our computer – with a fresh restart the problem might dis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rt only, press and hold in the power switch for 5 seconds to switch off the system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Launching WordPad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l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ccess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ord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Pad will appear on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3519360" cy="42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aving WordPad Fil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07760" y="213372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som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av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ve As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a file name into the file nam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exit Word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dPad files are saved a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ich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4248000" cy="328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File Typ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533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recognises many file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save a file, Windows will add a full stop followed by a (usually) three letter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pends on how your computer is set up as to whether or not you will be able to see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uses the file extension to identify the program used to create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64000" y="2205000"/>
            <a:ext cx="3600720" cy="3363840"/>
            <a:chOff x="5364000" y="2205000"/>
            <a:chExt cx="3600720" cy="33638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5364000" y="3860640"/>
              <a:ext cx="2808360" cy="17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948360" y="2205000"/>
              <a:ext cx="2016360" cy="16556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omic Sans MS"/>
                </a:rPr>
                <a:t>Costs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Comic Sans MS"/>
                </a:rPr>
                <a:t>xls?  That’s an Excel fil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opular File Extension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71640" y="2409840"/>
          <a:ext cx="7200720" cy="4019400"/>
        </p:xfrm>
        <a:graphic>
          <a:graphicData uri="http://schemas.openxmlformats.org/drawingml/2006/table">
            <a:tbl>
              <a:tblPr/>
              <a:tblGrid>
                <a:gridCol w="1944720"/>
                <a:gridCol w="525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d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ordprocessed file produced by MS W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x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preadsheet file produced in MS Exc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atabase file produced in MS 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esentation file produced in MS Power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mapped graphic produced in a graphics 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jpg  .gif   .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types of graphics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p3  .mid  .w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o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t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lain text file created in Notep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ompressed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htm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eb page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t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emporary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ortable document file created in Adobe Acro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o Save or To Save As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, S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 this to save a file for the first ti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 this to save changes made to a fil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select Save the original file will be overwritt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, Sav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 this to save a file using a different file na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 this to save a file to a different locati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 this to save a different version of a fil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11640" y="4365720"/>
            <a:ext cx="892080" cy="21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pening an existing fil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Word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ess you choose otherwise the contents of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Doc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disp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open that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4248360" cy="32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inting a fil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print icon to print one copy from the default pr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give you more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oose which pages to print and how many c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your selections then click on the OK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59280" y="2421000"/>
            <a:ext cx="4037040" cy="306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3284640"/>
            <a:ext cx="3960720" cy="115236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sktop Print Manag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send a document to the printer, a printer icon will appear in the System T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on the printer icon to view a print job’s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pause, restart or cancel a print job from here by right-clicking on the file and selecting the appropriate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292720" y="2637000"/>
            <a:ext cx="3527280" cy="49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64000" y="2637000"/>
            <a:ext cx="503280" cy="5047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19640" y="4149720"/>
            <a:ext cx="360036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0:08:01Z</dcterms:created>
  <dc:creator>Karen Blakeley</dc:creator>
  <dc:description/>
  <dc:language>en-US</dc:language>
  <cp:lastModifiedBy>oliver</cp:lastModifiedBy>
  <dcterms:modified xsi:type="dcterms:W3CDTF">2004-05-26T13:55:52Z</dcterms:modified>
  <cp:revision>7</cp:revision>
  <dc:subject/>
  <dc:title>European Computer Driving Licence</dc:title>
</cp:coreProperties>
</file>