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9F43-DDBE-4ADA-86C8-622D81BA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9B48-8332-4334-9172-BAF797CD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BDB-5363-4F1D-8056-8C5B44E0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13D-7603-4733-BBEC-B603F819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41EF-F10B-45EC-8041-637919DE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4BF5-6E17-4B06-A8A7-6F0A42B8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84A8-8D46-4AA9-A760-84F63E3D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740A-0C0F-4704-BA7C-C57A92DA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8803-3836-4956-874C-7BB93C4E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80F9-87C5-4D3D-AE1C-ACE7F418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E53E-D9E7-474D-8D74-09159989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2C6-D65A-43F7-B892-320EEDDA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D2E9-2078-4BE6-962B-04C254E5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8C4E-6521-413B-9472-AF3AEA15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F9C2-32C7-4ABA-8067-F6CBE016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8007-200B-48EF-9571-76617AAB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C35C-5FA5-41DD-9093-4FCE3147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076-C04B-4CEB-8075-1774CF6B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A31-D8DF-4678-967A-E02D57A9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8DFE-F7DB-415D-8E3F-CBAEA1F4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279-1053-458B-B640-17FFA217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2F8-62D2-4FC3-BE84-9FAE4A5C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865A-22D3-4D68-A6F5-9EBA9382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1C4-F928-4CBE-BF42-7ED7E6C6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34AE-4142-455C-8CEF-9DC11DA85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556B-C40D-45EE-ABBF-D6333BE97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dule 2 – Using the Computer and Managing Fil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apter 2.2 – Creating and Printing Fil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7846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What to do if your mouse stops working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565360"/>
            <a:ext cx="51102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ave the changes made to your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to move to the save button and press the Enter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lose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exit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ain to exit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your mouse connection – has it come loose at the back?  Reconnect and switch on the computer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56360" y="3068640"/>
            <a:ext cx="2003400" cy="19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losing a Non-Responding Program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program “freezes” press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 stand-alone PC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ask Mana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applications running will appear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ppl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program has the words “Not Responding” after it, click on it once then 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d Ta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2565360"/>
            <a:ext cx="3210120" cy="36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andy Tip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Sa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your work every few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 to see if the program has an </a:t>
            </a: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autosa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unction switched on – it may be possible to recover your work when you re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files that you have saved to the hard disk or floppy disk are sa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n’t have too many programs open a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quick way to check if your computer has crashed is to press th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aps Lock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if the keyboard light doesn’t come on or go off, the chances are your PC has c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e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our computer – with a fresh restart the problem might dis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l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ort only, press and hold in the power switch for 5 seconds to switch off the system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Launching WordPad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l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ccess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Word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Pad will appear on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27640" y="2205000"/>
            <a:ext cx="3519360" cy="42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aving WordPad Fil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07760" y="213372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som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ave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ve As dialogue box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a file name into the file nam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to exit Word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dPad files are saved as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ich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0" y="2349360"/>
            <a:ext cx="4248000" cy="328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File Typ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53384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recognises many file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save a file, Windows will add a full stop followed by a (usually) three letter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epends on how your computer is set up as to whether or not you will be able to see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uses the file extension to identify the program used to create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64000" y="2205000"/>
            <a:ext cx="3600720" cy="3363840"/>
            <a:chOff x="5364000" y="2205000"/>
            <a:chExt cx="3600720" cy="33638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5364000" y="3860640"/>
              <a:ext cx="2808360" cy="17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948360" y="2205000"/>
              <a:ext cx="2016360" cy="165564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omic Sans MS"/>
                </a:rPr>
                <a:t>Costs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Comic Sans MS"/>
                </a:rPr>
                <a:t>xls?  That’s an Excel fil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opular File Extension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71640" y="2409840"/>
          <a:ext cx="7200720" cy="4019400"/>
        </p:xfrm>
        <a:graphic>
          <a:graphicData uri="http://schemas.openxmlformats.org/drawingml/2006/table">
            <a:tbl>
              <a:tblPr/>
              <a:tblGrid>
                <a:gridCol w="1944720"/>
                <a:gridCol w="525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do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wordprocessed file produced by MS W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x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preadsheet file produced in MS Exc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m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atabase file produced in MS 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p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esentation file produced in MS PowerPo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b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tmapped graphic produced in a graphics 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jpg  .gif   .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 types of graphics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mp3  .mid  .w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o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t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lain text file created in Notep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ompressed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htm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web page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t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emporary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pd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ortable document file created in Adobe Acro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o Save or To Save As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, S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 this to save a file for the first ti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 this to save changes made to a fil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select Save the original file will be overwritt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, Save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 this to save a file using a different file na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 this to save a file to a different locati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 this to save a different version of a fil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11640" y="4365720"/>
            <a:ext cx="892080" cy="21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pening an existing fil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Word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alogue box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ess you choose otherwise the contents of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y Docu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disp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open that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3280" y="2565360"/>
            <a:ext cx="4248360" cy="32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inting a fil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print icon to print one copy from the default pr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give you more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hoose which pages to print and how many co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your selections then click on the OK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59280" y="2421000"/>
            <a:ext cx="4037040" cy="3062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59280" y="3284640"/>
            <a:ext cx="3960720" cy="115236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sktop Print Manag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send a document to the printer, a printer icon will appear in the System T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on the printer icon to view a print job’s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pause, restart or cancel a print job from here by right-clicking on the file and selecting the appropriate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292720" y="2637000"/>
            <a:ext cx="3527280" cy="493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64000" y="2637000"/>
            <a:ext cx="503280" cy="5047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19640" y="4149720"/>
            <a:ext cx="360036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00:08:01Z</dcterms:created>
  <dc:creator>Karen Blakeley</dc:creator>
  <dc:description/>
  <dc:language>en-US</dc:language>
  <cp:lastModifiedBy>oliver</cp:lastModifiedBy>
  <dcterms:modified xsi:type="dcterms:W3CDTF">2004-05-26T13:55:52Z</dcterms:modified>
  <cp:revision>7</cp:revision>
  <dc:subject/>
  <dc:title>European Computer Driving Licence</dc:title>
</cp:coreProperties>
</file>