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.png" ContentType="image/png"/>
  <Override PartName="/ppt/media/image10.png" ContentType="image/png"/>
  <Override PartName="/ppt/media/image28.wmf" ContentType="image/x-wmf"/>
  <Override PartName="/ppt/media/image3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B40-BEA0-4B88-9A07-E67FAAE7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27F-7AB1-4015-9CB7-DCC479B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568-F832-4A13-BD56-CD3416F1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913-33FC-4A4D-BCC3-D87D2089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2260-BAC6-43B1-8E91-CCFCA701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5529-9D33-4836-B15B-64679878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ADF6-E444-4A80-AAF1-2BCFB83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5BA-22E8-4F36-995B-08855B1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F88-7CCC-4D48-B58A-FA51FE5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1B95-D129-43E1-984A-D54938B7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950-7322-4AFB-823D-B085FE3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F38-F418-4D6B-9603-53FD2392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D9DF-5416-465D-8107-F3B5E7E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5F8-3E14-423D-9E5A-8DC71DB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0730-90EA-4D88-9940-79EC9BE6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A534-1EE5-4A1C-BC93-DFC2FC28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DC2-4646-47B0-ACF4-C7E8E625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96A-15A2-4FB1-9E6E-018B5B2F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C33-485F-4C28-9BD2-3281B172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06A-5078-4BD7-A0E6-336EE0F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876-E969-4375-AEA9-C823728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D10-4796-4893-BA74-8CC938D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B4A-9C6E-456A-ADCC-CD588DC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2D4-D94C-451E-B45D-C069604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C87-D595-4BA2-8E73-16DEA1F0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948-F039-4D9C-9469-BF1E2B11B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3 – Folders a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naming a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-cl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new name for the file then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an empty pa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sa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00000" y="4005360"/>
            <a:ext cx="2592000" cy="2320200"/>
            <a:chOff x="900000" y="4005360"/>
            <a:chExt cx="2592000" cy="23202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rcRect l="41321" t="30061" r="5113" b="17387"/>
            <a:stretch/>
          </p:blipFill>
          <p:spPr>
            <a:xfrm>
              <a:off x="900000" y="4131000"/>
              <a:ext cx="2374920" cy="21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734920" y="4005360"/>
              <a:ext cx="757080" cy="8895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35640" y="4005360"/>
            <a:ext cx="2591640" cy="2231280"/>
            <a:chOff x="5435640" y="4005360"/>
            <a:chExt cx="2591640" cy="22312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39851" t="30061" r="3672" b="19182"/>
            <a:stretch/>
          </p:blipFill>
          <p:spPr>
            <a:xfrm>
              <a:off x="5435640" y="4136400"/>
              <a:ext cx="253908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329240" y="4005360"/>
              <a:ext cx="698040" cy="8017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rcRect l="0" t="2029" r="0" b="0"/>
          <a:stretch/>
        </p:blipFill>
        <p:spPr>
          <a:xfrm>
            <a:off x="3851280" y="4076640"/>
            <a:ext cx="1149480" cy="21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per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file read only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ad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a tick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the read-only status uncheck the Read only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try to edit a Read only file a message will be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file statu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185436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51640" y="5373720"/>
            <a:ext cx="297180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orting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ange the order in which files are displayed in the right 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bar above Name, Size, Type or Date Modified to show in a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gain to show the files in de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64000" y="4386240"/>
            <a:ext cx="3513240" cy="1906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64000" y="2354400"/>
            <a:ext cx="35848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lecting files and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selecting files and folders one by one, you ca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, click on the first file, 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n click on the las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on-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s, click on the first file, 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hen click on anoth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2266" t="33992" r="19362" b="10810"/>
          <a:stretch/>
        </p:blipFill>
        <p:spPr>
          <a:xfrm>
            <a:off x="5726160" y="2421000"/>
            <a:ext cx="302256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32698" t="33015" r="17737" b="9642"/>
          <a:stretch/>
        </p:blipFill>
        <p:spPr>
          <a:xfrm>
            <a:off x="5796000" y="4456080"/>
            <a:ext cx="2952720" cy="18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pying/moving files and folder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181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lipboard to copy and mov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s you want to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lder where you want the copies to go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file click on Edit then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lder where you want the files/folder to go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you can use keyboard shortcuts –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cut, </a:t>
            </a:r>
            <a:br>
              <a:rPr sz="2000"/>
            </a:b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copy,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88000" y="2276640"/>
            <a:ext cx="1987560" cy="201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016360" cy="16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aking backup cop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5038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a second copy of important files on a floppy disk, zip disk or CDR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computer breaks down, gets infected by a virus or is stolen, your important data will b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your backups in a separat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you can insure your computer equipment against fire and theft, your data is irreplace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17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87680" cy="13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pying/moving files using Drag and Dro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way to move or copy file(s) is to select them and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m to a new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drag to a folder on th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rive the files will be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folder on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, the files will b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p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dow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en you drag to copy files on the same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4581360"/>
            <a:ext cx="480996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leting files &amp; 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749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s or folder you want to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Delete key on the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iles were originally on your hard disk, they will be stored in the Recycle 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elete files from a floppy disk or a zip disk they are instantly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185112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Recycle Bi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326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ry storage area for delet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-click on the Recycle Bin icon on your Windows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indow opens showing you the Recycle Bin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ermanently delete the files click on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Empty Recycle 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ant to retrieve a file,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ick on it and select 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st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07936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avigating within an applic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Microsof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n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ile you want is stored in a folder – double click on the Folder to ope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Word documents stored in that folder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ile you want to delete and press the Dele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Yes to delet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back to My Documents click on the Up one level icon or click on My Documents in the left 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42920" y="4724280"/>
            <a:ext cx="7632720" cy="1848240"/>
            <a:chOff x="1042920" y="4724280"/>
            <a:chExt cx="7632720" cy="18482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042920" y="5589720"/>
              <a:ext cx="763272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flipH="1">
              <a:off x="6156360" y="4724280"/>
              <a:ext cx="216000" cy="936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3640" y="51577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ete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88000" y="609300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e new fo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25080" y="515772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e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5445000"/>
              <a:ext cx="12384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667640" y="5445000"/>
              <a:ext cx="12528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308720" y="5877000"/>
              <a:ext cx="0" cy="288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47840" y="6113520"/>
              <a:ext cx="217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in here to choose a different drive or lo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851280" y="5805000"/>
              <a:ext cx="208080" cy="360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sk Drives On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ers will have several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assigns each drive a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 the drives installed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PC is on a network you will also see Network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07664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Windows Explor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use Windows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cess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ilar window to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Press the Windows key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41172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nging the appeara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069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to see the different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umbnai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larg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c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smaller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isplay a list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tai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how you details about each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084720" y="2205000"/>
            <a:ext cx="2519280" cy="4121280"/>
            <a:chOff x="6084720" y="2205000"/>
            <a:chExt cx="2519280" cy="4121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10290" b="0"/>
            <a:stretch/>
          </p:blipFill>
          <p:spPr>
            <a:xfrm>
              <a:off x="6084720" y="2205000"/>
              <a:ext cx="2519280" cy="131292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084720" y="3679920"/>
              <a:ext cx="2519280" cy="136368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rcRect l="0" t="0" r="5174" b="0"/>
            <a:stretch/>
          </p:blipFill>
          <p:spPr>
            <a:xfrm>
              <a:off x="6084720" y="5313240"/>
              <a:ext cx="2519280" cy="101304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rectories/fold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ocuments you create are call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use your computer, you will create more and mor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 are organised into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also given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automatically create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for you to save your work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3038400"/>
            <a:ext cx="388944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C: Driv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965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icon representing the hard disk (C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indow will appear showin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C: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show a more detailed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84720" y="2276640"/>
            <a:ext cx="2808360" cy="2019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2783160" cy="200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4508640"/>
            <a:ext cx="338292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a new 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folder name and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newly created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62640"/>
          <a:stretch/>
        </p:blipFill>
        <p:spPr>
          <a:xfrm>
            <a:off x="5508720" y="2205000"/>
            <a:ext cx="33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3716280"/>
            <a:ext cx="32432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reating a sub-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folder to ope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folder name and pres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way from the newly created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3960" cy="28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Navigating to a file or fold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525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look at the left-hand pane you will see the folde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how ECDL has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 next t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at there are folders/files inside that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older name in the left-hand pan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at folder will display in the right-hand pa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5800" cy="198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07280" y="4437000"/>
            <a:ext cx="245088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xpanding and collapsing folder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folders contained inside that folder will display in the left-hand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an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will now show with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i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i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 to collapse th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ap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der will now show with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593" t="0" r="60620" b="33043"/>
          <a:stretch/>
        </p:blipFill>
        <p:spPr>
          <a:xfrm>
            <a:off x="4788000" y="2133720"/>
            <a:ext cx="1728720" cy="24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68" t="0" r="58686" b="40930"/>
          <a:stretch/>
        </p:blipFill>
        <p:spPr>
          <a:xfrm>
            <a:off x="6300720" y="3789360"/>
            <a:ext cx="2016360" cy="23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49440" y="2708280"/>
            <a:ext cx="183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ed ECDL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12000" y="2997360"/>
            <a:ext cx="1008000" cy="1008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67120" y="51055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psed ECDL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300640"/>
            <a:ext cx="719280" cy="414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1:31:15Z</dcterms:created>
  <dc:creator/>
  <dc:description/>
  <dc:language>en-US</dc:language>
  <cp:lastModifiedBy/>
  <dcterms:modified xsi:type="dcterms:W3CDTF">2004-05-26T14:12:06Z</dcterms:modified>
  <cp:revision>9</cp:revision>
  <dc:subject/>
  <dc:title>European Computer Driving Licence</dc:title>
</cp:coreProperties>
</file>