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10.png" ContentType="image/png"/>
  <Override PartName="/ppt/media/image28.wmf" ContentType="image/x-wmf"/>
  <Override PartName="/ppt/media/image3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E01-BB14-4B54-9A54-A465AC60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590-0968-4EC9-B37A-A630B6A2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FF5-07EF-4391-95E1-EFD18DCA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153-FDD8-47BF-B694-102A3D45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3CAD-6ECB-47E3-9CBE-A70B4C31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992B-AD43-4400-A0F8-004C8E5A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2B5E-9ECD-4B67-AA30-E67A3FDA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EA43-46ED-432A-B3D0-E18FDF93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D76A-67B1-4CF1-953C-98FED697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0DE7-A817-4311-A574-C9887B6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3EE4-6F5F-4DA3-8988-7567021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440-1B46-4211-B6D6-4A3266CD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8BAE-0C2D-44FB-9D21-4CCBCDA7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DC57-3032-4E2D-AA13-E688C672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C68D-076D-4A99-862D-84B1737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93F0-1B59-4675-ABCA-755D42D1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F9A4-57AE-45B3-BCD8-8EED8194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442-4CC3-43CB-89C3-A0E9C9F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C8B-107E-4E6F-A1E0-4C552552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833-4A90-4908-82E1-1A39F47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244-33F0-48BD-A380-8738C08D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E65-AFAD-47D4-9D71-8086C7E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2BF-705F-48AB-AA71-37F481B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F3F-0CC3-4AEA-A385-2FE88AA2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8F98-2D86-43B0-AC65-80335F565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62DE-C68D-436D-9D49-1A266F97D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3 – Folders an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naming a fi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-cl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2409480"/>
            <a:ext cx="3855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a new name for the file then pres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an empty par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sam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00000" y="4005360"/>
            <a:ext cx="2592000" cy="2320200"/>
            <a:chOff x="900000" y="4005360"/>
            <a:chExt cx="2592000" cy="23202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rcRect l="41321" t="30061" r="5113" b="17387"/>
            <a:stretch/>
          </p:blipFill>
          <p:spPr>
            <a:xfrm>
              <a:off x="900000" y="4131000"/>
              <a:ext cx="2374920" cy="21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734920" y="4005360"/>
              <a:ext cx="757080" cy="8895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35640" y="4005360"/>
            <a:ext cx="2591640" cy="2231280"/>
            <a:chOff x="5435640" y="4005360"/>
            <a:chExt cx="2591640" cy="223128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39851" t="30061" r="3672" b="19182"/>
            <a:stretch/>
          </p:blipFill>
          <p:spPr>
            <a:xfrm>
              <a:off x="5435640" y="4136400"/>
              <a:ext cx="253908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329240" y="4005360"/>
              <a:ext cx="698040" cy="8017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rcRect l="0" t="2029" r="0" b="0"/>
          <a:stretch/>
        </p:blipFill>
        <p:spPr>
          <a:xfrm>
            <a:off x="3851280" y="4076640"/>
            <a:ext cx="1149480" cy="216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file read only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ad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a tick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the read-only status uncheck the Read only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try to edit a Read only file a message will be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file statu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300720" y="2492280"/>
            <a:ext cx="185436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651640" y="5373720"/>
            <a:ext cx="297180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orting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ange the order in which files are displayed in the right hand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bar above Name, Size, Type or Date Modified to show in a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gain to show the files in de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64000" y="4386240"/>
            <a:ext cx="3513240" cy="1906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354400"/>
            <a:ext cx="35848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lecting files and fold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selecting files and folders one by one, you can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dja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s, click on the first file, hold dow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hen click on the las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on-adja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s, click on the first file, hold dow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hen click on anoth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2266" t="33992" r="19362" b="10810"/>
          <a:stretch/>
        </p:blipFill>
        <p:spPr>
          <a:xfrm>
            <a:off x="5726160" y="2421000"/>
            <a:ext cx="302256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32698" t="33015" r="17737" b="9642"/>
          <a:stretch/>
        </p:blipFill>
        <p:spPr>
          <a:xfrm>
            <a:off x="5796000" y="4456080"/>
            <a:ext cx="2952720" cy="18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pying/moving files and folder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518148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lipboard to copy and mov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les you want to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older where you want the copies to go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a file click on Edit then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older where you want the files/folder to go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you can use keyboard shortcuts –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cut, </a:t>
            </a:r>
            <a:br>
              <a:rPr sz="2000"/>
            </a:b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copy,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88000" y="2276640"/>
            <a:ext cx="1987560" cy="201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2016360" cy="16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aking backup cop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5038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keep a second copy of important files on a floppy disk, zip disk or CDR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r computer breaks down, gets infected by a virus or is stolen, your important data will be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your backups in a separat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you can insure your computer equipment against fire and theft, your data is irreplace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04000" y="5084640"/>
            <a:ext cx="17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87680" cy="133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pying/moving files using Drag and Drop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way to move or copy file(s) is to select them and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m to a new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drag to a folder on the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rive the files will be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folder on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, the files will b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p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dow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when you drag to copy files on the same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79640" y="4581360"/>
            <a:ext cx="480996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leting files &amp; fold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749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les or folder you want to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Delete key on the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iles were originally on your hard disk, they will be stored in the Recycle 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elete files from a floppy disk or a zip disk they are instantly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185112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Recycle Bi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5326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orary storage area for delet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uble-click on the Recycle Bin icon on your Windows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indow opens showing you the Recycle Bin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ermanently delete the files click on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Empty Recycle 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ant to retrieve a file,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ick on it and select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Rest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079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avigating within an applica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Microsof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n wind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ile you want is stored in a folder – double click on the Folder to ope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Word documents stored in that folder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le you want to delete and press the Dele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Yes to delete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back to My Documents click on the Up one level icon or click on My Documents in the left hand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42920" y="4724280"/>
            <a:ext cx="7632720" cy="1848240"/>
            <a:chOff x="1042920" y="4724280"/>
            <a:chExt cx="7632720" cy="18482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042920" y="5589720"/>
              <a:ext cx="763272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flipH="1">
              <a:off x="6156360" y="4724280"/>
              <a:ext cx="216000" cy="936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43640" y="51577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lete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88000" y="6093000"/>
              <a:ext cx="14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e new fol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25080" y="515772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ie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7080" y="5445000"/>
              <a:ext cx="12384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667640" y="5445000"/>
              <a:ext cx="12528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308720" y="5877000"/>
              <a:ext cx="0" cy="288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47840" y="6113520"/>
              <a:ext cx="217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in here to choose a different drive or lo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851280" y="5805000"/>
              <a:ext cx="208080" cy="360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sk Drives On Your Compu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uters will have several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assigns each drive a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view the drives installed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r PC is on a network you will also see Network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07664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Windows Explor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246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use Windows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Progr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ccess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indows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ilar window to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Press the Windows key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341172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the appeara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6069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to see the different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umbnai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isplay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i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isplay large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c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isplay smaller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isplay a list in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tai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show you details about each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084720" y="2205000"/>
            <a:ext cx="2519280" cy="4121280"/>
            <a:chOff x="6084720" y="2205000"/>
            <a:chExt cx="2519280" cy="4121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10290" b="0"/>
            <a:stretch/>
          </p:blipFill>
          <p:spPr>
            <a:xfrm>
              <a:off x="6084720" y="2205000"/>
              <a:ext cx="2519280" cy="131292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6084720" y="3679920"/>
              <a:ext cx="2519280" cy="136368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rcRect l="0" t="0" r="5174" b="0"/>
            <a:stretch/>
          </p:blipFill>
          <p:spPr>
            <a:xfrm>
              <a:off x="6084720" y="5313240"/>
              <a:ext cx="2519280" cy="101304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rectories/fold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ocuments you create are called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 use your computer, you will create more and mor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 are organised into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re also given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automatically create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der for you to save your work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3038400"/>
            <a:ext cx="3889440" cy="20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C: Driv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965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the icon representing the hard disk (C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indow will appear showing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C: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show a more detaile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84720" y="2276640"/>
            <a:ext cx="2808360" cy="2019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4508640"/>
            <a:ext cx="2783160" cy="200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4508640"/>
            <a:ext cx="3382920" cy="288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reating a new fold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folder name and pres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way from the newly created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62640"/>
          <a:stretch/>
        </p:blipFill>
        <p:spPr>
          <a:xfrm>
            <a:off x="5508720" y="2205000"/>
            <a:ext cx="33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08720" y="3716280"/>
            <a:ext cx="32432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reating a sub-fold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the folder to ope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folder name and pres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way from the newly created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3960" cy="28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Navigating to a file or fold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525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look at the left-hand pane you will see the folde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how ECDL has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 next t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that there are folders/files inside that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folder name in the left-hand pan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s of that folder will display in the right-hand pa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72360" y="2133720"/>
            <a:ext cx="2485800" cy="19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07280" y="4437000"/>
            <a:ext cx="2450880" cy="19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xpanding and collapsing folder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folders contained inside that folder will display in the left-hand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an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der will now show with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in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in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 to collapse th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ap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der will now show with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593" t="0" r="60620" b="33043"/>
          <a:stretch/>
        </p:blipFill>
        <p:spPr>
          <a:xfrm>
            <a:off x="4788000" y="2133720"/>
            <a:ext cx="1728720" cy="244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768" t="0" r="58686" b="40930"/>
          <a:stretch/>
        </p:blipFill>
        <p:spPr>
          <a:xfrm>
            <a:off x="6300720" y="3789360"/>
            <a:ext cx="2016360" cy="234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49440" y="2708280"/>
            <a:ext cx="183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anded ECDL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12000" y="2997360"/>
            <a:ext cx="1008000" cy="1008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7120" y="51055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psed ECDL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300640"/>
            <a:ext cx="719280" cy="414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1:31:15Z</dcterms:created>
  <dc:creator/>
  <dc:description/>
  <dc:language>en-US</dc:language>
  <cp:lastModifiedBy/>
  <dcterms:modified xsi:type="dcterms:W3CDTF">2004-05-26T14:12:06Z</dcterms:modified>
  <cp:revision>9</cp:revision>
  <dc:subject/>
  <dc:title>European Computer Driving Licence</dc:title>
</cp:coreProperties>
</file>