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8263-D709-4111-BA40-C8C8FF08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8209-42E3-43FE-A79D-659B6C50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FF9-4020-4073-B6FA-21B858AB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8EB0-14B2-4372-B0CE-352FFECC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8527-ED93-4054-A0DF-B5E2A13E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625C-CB98-46FA-B700-12F83F6C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C1C4-8EED-454A-A691-C7867914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5CC6-1D51-4A85-A1EE-35B41F8A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8C32-32EB-4B59-97DF-D4954709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6CEA-0CA0-4761-8B79-49B654C1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D54A-8303-4B26-8493-5277D07D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8806-789A-4CFD-9FD0-BE61298A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E04F-5366-4CA7-BFF3-774C1546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0E2A-9A38-4B39-A9D3-0404B401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9E92-4237-4DF9-8EBC-A97C565D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31B9-E143-4725-AE2D-9AF475E7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5EDB-672D-437B-A6AE-A0FED5CA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297-F682-4EEA-9640-DAA88654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BD9-509B-4698-8D2D-F58726D4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153F-A6B7-4DB4-BBB8-4A6CF0A3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0F90-2D38-40E8-8370-A69231EA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65E0-7D51-4B35-BA88-6E48DDEA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25A6-FE40-47AB-B56B-21279DC7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B4BC-55BE-4178-A96B-3CB51671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0835-66A9-4BC3-8A9B-1BC17B29B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16E5-4478-400D-A0BD-4F208FAA5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dule 2 – Using the Computer and Managing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hapter 2.4 – Working with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ompressing Fil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want to send a file as an e-mail attachment, compress it so it is faster to send and rece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files of over 500Kb should be comp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XP comes with its own compression tool called Compressed F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compress files with WinZip – a very popular shareware program which can be downloaded from th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68360" y="5354640"/>
            <a:ext cx="1366920" cy="1192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0" y="53229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ompressed Folder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ressing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lect the file(s) you want to compres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cc00"/>
                </a:solidFill>
                <a:latin typeface="Arial"/>
              </a:rPr>
              <a:t>Right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click on one of the files and select </a:t>
            </a:r>
            <a:r>
              <a:rPr b="1" i="1" lang="en-GB" sz="1800" spc="-1" strike="noStrike">
                <a:solidFill>
                  <a:srgbClr val="ffcc00"/>
                </a:solidFill>
                <a:latin typeface="Arial"/>
              </a:rPr>
              <a:t>Send to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i="1" lang="en-GB" sz="1800" spc="-1" strike="noStrike">
                <a:solidFill>
                  <a:srgbClr val="ffcc00"/>
                </a:solidFill>
                <a:latin typeface="Arial"/>
              </a:rPr>
              <a:t>Compressed folde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from the pop-up menu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 compressed folder icon will appea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ing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Righ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lick on the compressed fil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Extract Al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from the pop-up menu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Extraction wizard appea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llow the step-by-step instructio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635280" y="5157720"/>
            <a:ext cx="1656000" cy="144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WinZip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i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lect the files you want to compres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ight-click on one of the fil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i="1" lang="en-GB" sz="1800" spc="-1" strike="noStrike">
                <a:solidFill>
                  <a:srgbClr val="ffcc00"/>
                </a:solidFill>
                <a:latin typeface="Arial"/>
              </a:rPr>
              <a:t>WinZip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i="1" lang="en-GB" sz="1800" spc="-1" strike="noStrike">
                <a:solidFill>
                  <a:srgbClr val="ffcc00"/>
                </a:solidFill>
                <a:latin typeface="Arial"/>
              </a:rPr>
              <a:t>Add to xxxx.zip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i="1" lang="en-GB" sz="1800" spc="-1" strike="noStrike">
                <a:solidFill>
                  <a:srgbClr val="ffcc00"/>
                </a:solidFill>
                <a:latin typeface="Arial"/>
              </a:rPr>
              <a:t>Use Evaluation Vers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 zipped file icon will appea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zi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ight-click on a zipped file ic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i="1" lang="en-GB" sz="1800" spc="-1" strike="noStrike">
                <a:solidFill>
                  <a:srgbClr val="ffcc00"/>
                </a:solidFill>
                <a:latin typeface="Arial"/>
              </a:rPr>
              <a:t>Winzip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then</a:t>
            </a:r>
            <a:br>
              <a:rPr sz="1800"/>
            </a:b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ffcc00"/>
                </a:solidFill>
                <a:latin typeface="Arial"/>
              </a:rPr>
              <a:t>Extract to her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inZip will unpack all the files in the archive to the fold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earching for files – part 1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862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arch Companion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l files and f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know all or part of the name of the file you are looking for, type it i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ocument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xt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narrow down your search by selecting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: dr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y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24360" y="2565360"/>
            <a:ext cx="3157560" cy="3289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V="1">
            <a:off x="4284720" y="4065120"/>
            <a:ext cx="1655640" cy="4431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211640" y="4581360"/>
            <a:ext cx="1873080" cy="64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earching for files – Part 2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53384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narrow your search by adding extra criteria such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e modifi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le siz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re advanced options including Type of File (eg Word document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will search for files that meet the criteria – files will appear in the right-hand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open a file, double-click on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867280" y="2421000"/>
            <a:ext cx="274032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Using Wildcard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don’t know the exact file name use wild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S*.do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ill search for Word documents beginning with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*.xl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search for all Excel spreadshee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S?????.doc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search for Word documents where the file name is six letters beginning with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places one charac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places any number of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19640" y="5411880"/>
            <a:ext cx="866880" cy="88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059280" y="5373720"/>
            <a:ext cx="809280" cy="92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Viewing recently used fil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462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Cs will have a link to recently used documents (depending on how Windows has been set 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y Recen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st of the last 15 files opened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open a file, click on it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6910" t="0" r="0" b="30212"/>
          <a:stretch/>
        </p:blipFill>
        <p:spPr>
          <a:xfrm>
            <a:off x="5724360" y="2421000"/>
            <a:ext cx="2832120" cy="35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Virus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rus is a small program designed to damage comput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PC can “catch” a virus whilst surfing the web, or by sharing files on floppy disks, CDs or attached to em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u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ntivirus software installed on your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 files for virus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enin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your antivirus software updated at least wee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95640" y="4713120"/>
            <a:ext cx="1687680" cy="16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23:37:09Z</dcterms:created>
  <dc:creator/>
  <dc:description/>
  <dc:language>en-US</dc:language>
  <cp:lastModifiedBy/>
  <dcterms:modified xsi:type="dcterms:W3CDTF">2004-05-26T14:40:47Z</dcterms:modified>
  <cp:revision>6</cp:revision>
  <dc:subject/>
  <dc:title>European Computer Driving Licence</dc:title>
</cp:coreProperties>
</file>