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992-621C-47E6-90E7-60BB4D98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FB9-7994-442E-9FDE-07DF37ED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D83-4D46-4F1A-A423-6AC02394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169-D659-4E07-84A3-B5E80873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E90A-3105-456E-8F93-87D9FC87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014C-F5F2-474B-AE2E-F592BFBC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17B2-F6AB-4471-9F80-06EDE57B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8AB7-5B9C-41D5-A9F4-8C851858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8BBB-6151-45F0-A3C8-EFDC9F2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92E8-A423-4566-803E-77A381E9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3759-80C5-404D-8EE1-0152BF9A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433-22D3-4D60-8A4A-E49967A5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2B1-505A-4321-A352-A244EB3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2297-0A7E-40EB-937B-16FD20F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8383-FC5C-48F5-960B-4BCFEA15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EF7A-D667-48E6-B6F0-473F5AFD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EE1A-9162-492E-A5FE-872B25D9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D0A-8591-4581-9462-87CB4EB2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D16-6B02-4029-AB0C-50E80370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B45-9325-4382-B2C3-7B65248C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A09-1A87-41DD-9FA3-0AD24DF9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A29-D53A-4FBF-BC34-46D9BCD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63F-7F5E-4201-B807-5C754F23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FA6-124E-4E26-AD1E-5166A6CC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6993-4CE9-4DA3-8046-3CFB2E1E1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10B0-362B-4FBF-B065-05E04680F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4 – Working with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mpressing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send a file as an e-mail attachment, compress it so it is faster to send and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iles of over 500Kb should be com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XP comes with its own compression tool called Compressed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ompress files with WinZip – a very popular shareware program which can be downloaded from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68360" y="5354640"/>
            <a:ext cx="1366920" cy="1192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0" y="53229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mpressed Fold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ss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lect the file(s) you want to compres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click on one of the files and select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Send to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Compressed fold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 compressed folder icon will appe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on the compressed fi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Extract A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Extraction wizard appea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llow the step-by-step instruc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35280" y="5157720"/>
            <a:ext cx="165600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inZip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lect the files you want to compres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ight-click on one of the fi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WinZip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Add to xxxx.zi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Use Evaluation Vers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 zipped file icon will appe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z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ight-click on a zipped file ic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Winzip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hen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Extract to he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Zip will unpack all the files in the archive to the fold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arching for files – part 1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86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arch Companion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files and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know all or part of the name of the file you are looking for, type it i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ocument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xt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narrow down your search by selecting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: dr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3157560" cy="3289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4284720" y="4065120"/>
            <a:ext cx="1655640" cy="443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211640" y="4581360"/>
            <a:ext cx="1873080" cy="64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arching for files – Part 2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533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narrow your search by adding extra criteria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e modifi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 siz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 advanced options including Type of File (eg Word document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will search for files that meet the criteria – files will appear in the right-hand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pen a file, double-click o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27403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Wildcard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don’t know the exact file name use wild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*.do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search for Word documents beginning with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*.xl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search for all Excel spreadshee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?????.do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search for Word documents where the file name is six letters beginning with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laces one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laces any number of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5411880"/>
            <a:ext cx="866880" cy="88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59280" y="5373720"/>
            <a:ext cx="809280" cy="9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Viewing recently used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462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Cs will have a link to recently used documents (depending on how Windows has been set 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Recen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the last 15 files opened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pen a file, click on i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6910" t="0" r="0" b="30212"/>
          <a:stretch/>
        </p:blipFill>
        <p:spPr>
          <a:xfrm>
            <a:off x="5724360" y="2421000"/>
            <a:ext cx="283212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Virus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rus is a small program designed to damage compu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PC can “catch” a virus whilst surfing the web, or by sharing files on floppy disks, CDs or attached to em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u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ntivirus software installed on your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files for vir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n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your antivirus software updated at least wee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95640" y="4713120"/>
            <a:ext cx="1687680" cy="16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23:37:09Z</dcterms:created>
  <dc:creator/>
  <dc:description/>
  <dc:language>en-US</dc:language>
  <cp:lastModifiedBy/>
  <dcterms:modified xsi:type="dcterms:W3CDTF">2004-05-26T14:40:47Z</dcterms:modified>
  <cp:revision>6</cp:revision>
  <dc:subject/>
  <dc:title>European Computer Driving Licence</dc:title>
</cp:coreProperties>
</file>