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EAA-7415-4DE8-B235-E69ED142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516-3FCC-4DBE-A523-A59CF96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6A2-A465-46D5-9E2A-59F48D01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F04-492B-43A5-8B99-16F48C3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A1B-0165-42DF-8DA4-25BCE76D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7108-B82D-4337-B686-A35DFAE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40E6-0534-416A-87BA-F526EA0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909-E5D0-4AC8-8F40-19E2C00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F392-8599-4775-96A5-BC56C65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916-69C8-41A8-B44E-F136551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BD67-3023-4565-A747-ECF78CE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802-FBE8-48A8-965F-9688990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F0C5-CDE4-4A2B-AE5B-96683F7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E6DE-FBF2-426D-9AC3-B7EE675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ECC5-7E07-42AE-9EFE-9F455AC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03A-D8E6-481A-A181-91DBFFB4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0A1-4D12-4A73-82A1-CF46F5BA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462-8CD4-42F5-8871-54389A6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F10-1049-4D0D-9630-F9FDACF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698-A73C-4129-BA7D-8AC5C8A9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39A-3AD4-4597-85ED-0B0F965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ACA-0208-47DA-9385-72BE4B6B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77F-85DE-40EC-9896-E4355B2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056-B3AA-4E82-B4C3-22672E7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301D-CEB3-4B2C-8049-19E2D862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EB5-326A-45FF-9A10-71625CD7F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5 – Managing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e keyboard/languag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32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keyboard should be set to English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keyboard to type in a different lang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egional and Languag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Langu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etail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view mor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948360" y="2276640"/>
            <a:ext cx="1685880" cy="2041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5084640"/>
            <a:ext cx="2262240" cy="1416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948360" y="4508640"/>
            <a:ext cx="1665360" cy="201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56360" y="5589720"/>
            <a:ext cx="9367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ormatting a floppy/zip disk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most disks come preformatted, here is how to do it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y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 the icon for 3½ Floppy (A:) or Zip Disk (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options,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appears telling you data will be erased from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will appear telling you the format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244800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stalling/Uninstalling softwar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oftware which comes on CD will automatically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creen instructions appear telling you how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application, see if there is a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inst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 on the Start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click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dd/Remov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rogram you want to remove, then click o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hange/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on-scree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08720" y="2924280"/>
            <a:ext cx="338436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indows Help and Support Centr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he Windows Help and Support Centre for hel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elp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click on a Help Topic or type a keyword into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copy and paste useful information into a Word document for safe keep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pplications will have their own help system too!  Click on Help in the menu bar to get star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3432240" cy="2597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4140360" y="3119040"/>
            <a:ext cx="1944360" cy="8859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t Scree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390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useful to take a screenshot of your screen – this is used in all computer manuals and boo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ake a screenshot of the whole screen press th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Prt S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ake a screenshot of the active window, press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Prt S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a new Word document and click on the paste ic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7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35916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default prin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lick on the print icon, the document will be sent to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efault printer (so every document prints to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the printer you want to change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et as Defa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ick will appear next to 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67344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stalling a new prin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inters will come with an installatio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one, try the following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Add print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 the on-screen instru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select the correct port – LPT1 or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the printer manufacturer an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be asked if you want to make the printer the default printer (click on Yes or No) and if you want to print a test page – click on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est page doesn’t print out, you can click to start the Printer troubleshoo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reating/Removing A Desktop Ic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point at the program (eg Solit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program name and point a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n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ktop (create shortc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con will appear on your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n icon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it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2529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other ic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hortcut to your printer to gain quick access to your print job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default printer icon (the one with a tick next to it) onto the desk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ou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icon to check the status of your print jobs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hortcut to a file that is used a l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file using My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file name onto the Desk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ou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icon will open that file in the program that created i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sic System Inform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ystem 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appears which will tell you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urren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vers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f Window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Wh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indows is registered to and the serial numb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and speed of processor, followed by the amount of RAM install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0360" y="2492280"/>
            <a:ext cx="2573280" cy="300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3635280" y="3288960"/>
            <a:ext cx="3745080" cy="10033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3933360"/>
            <a:ext cx="237672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59280" y="4770360"/>
            <a:ext cx="2521080" cy="674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backgroun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n empty part of the desktop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k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croll up and down and click on a background (the preview window will show you what it looks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find one you like,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92880" y="2421000"/>
            <a:ext cx="3404880" cy="386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492360" y="2923920"/>
            <a:ext cx="2808360" cy="86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4221000"/>
            <a:ext cx="1295640" cy="747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tting up a screensav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St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ontrol Pa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eensa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eensa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croll up and down and click on a screensaver (the preview window will show you what it looks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find one you lik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321360" cy="379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4005360"/>
            <a:ext cx="1008360" cy="5810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screen resolu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St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ontrol Pa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t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creen resolution slider to change th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lour quality required from the Colour Quality dropdown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151080" cy="3579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492360" y="2852280"/>
            <a:ext cx="417528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149720"/>
            <a:ext cx="2089080" cy="560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4797360"/>
            <a:ext cx="3600360" cy="43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her Display Opt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– this allows you to choose a scheme of wallpaper, screensavers, icon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114640" cy="2401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ea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– from here you can change display fonts, windows and dialogue bo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360" y="4005360"/>
            <a:ext cx="2114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ate &amp; Time / Soun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ate/tim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ate &amp;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volum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ounds and Audi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4371840"/>
            <a:ext cx="2500200" cy="217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03508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8:47:01Z</dcterms:created>
  <dc:creator/>
  <dc:description/>
  <dc:language>en-US</dc:language>
  <cp:lastModifiedBy/>
  <dcterms:modified xsi:type="dcterms:W3CDTF">2004-05-26T14:52:55Z</dcterms:modified>
  <cp:revision>10</cp:revision>
  <dc:subject/>
  <dc:title>European Computer Driving Licence</dc:title>
</cp:coreProperties>
</file>