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DAFE-5D7E-48E4-8D81-85BFC0F5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137-BAB4-48C0-845C-03186D1B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A150-6AB0-406B-8E64-37609A3E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0F4-EBA3-4DC8-AAE2-AB0509481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7EF0-E2AD-4B13-A2E8-E209D177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6010-2DF8-49B1-9737-950626C1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0901-E4CC-4FE9-B0D3-2DD2E497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5BD6-BFF3-41F5-ADDF-CA2F010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172C-2CE0-4EFD-934B-2B4D34F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EC9B-9838-4719-850B-092EC0BA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D542-DB2C-4498-A9F7-90FF0B4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FBF-C66F-468F-871D-AF9B06A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E772-519E-4DFF-899E-C3CFCE07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FADB-46D2-4599-B983-7FA2D7D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50CD-22B8-4E08-B150-15E0460A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7F9FE-A221-4C5A-9368-AB8BCC110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B34A-B0A1-4AFE-8B71-D26AA41D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9E6-441F-4621-90B6-41A9BD5E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1CC-F832-41C2-A902-DFE1BF0B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6A6B-ABD6-42A4-B778-895A2FA3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EB5D-FB12-4104-8005-74DFDA59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69E-4DB3-4E4D-AE50-11497E1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0E5-B482-4CEA-807D-7FBE5CA4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4BCC-39C0-47A2-B7C5-9CDF8EE8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DAC7-CBD5-4C92-ABB3-4C9737D91953}" type="slidenum">
              <a: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20DC7-6FAC-471F-B4B3-F7B246F76E1A}" type="slidenum">
              <a:rPr b="0" lang="ar-SA" sz="1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ffff"/>
                </a:solidFill>
                <a:latin typeface="Tahoma"/>
              </a:rPr>
              <a:t>REAL ESTATE FINANCE</a:t>
            </a:r>
            <a:br>
              <a:rPr sz="4800"/>
            </a:b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Theory and Practice</a:t>
            </a:r>
            <a:br>
              <a:rPr sz="4400"/>
            </a:b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6</a:t>
            </a:r>
            <a:r>
              <a:rPr b="1" lang="en-US" sz="4400" spc="-1" strike="noStrike" baseline="30000">
                <a:solidFill>
                  <a:srgbClr val="ccecff"/>
                </a:solidFill>
                <a:latin typeface="Tahoma"/>
              </a:rPr>
              <a:t>th</a:t>
            </a:r>
            <a:r>
              <a:rPr b="1" lang="en-US" sz="4400" spc="-1" strike="noStrike">
                <a:solidFill>
                  <a:srgbClr val="ccecff"/>
                </a:solidFill>
                <a:latin typeface="Tahoma"/>
              </a:rPr>
              <a:t> Edition</a:t>
            </a:r>
            <a:endParaRPr b="0" lang="en-US" sz="44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Terrence M. Claureti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ahoma"/>
              </a:rPr>
              <a:t>G. Stacy Sirma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لفصل الثاني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765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ccecff"/>
                </a:solidFill>
                <a:latin typeface="Tahoma"/>
                <a:cs typeface="Tahoma"/>
              </a:rPr>
              <a:t>نبذه عن التمويل العقاري</a:t>
            </a:r>
            <a:r>
              <a:rPr b="1" lang="ar-SA" sz="5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5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هداف الفصل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فهم العلاقة بين الاستثمار و العقار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فهم الية عمل السوق المالي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معرفة ما هي الموسسات المالية التي تعمل على تدفق النقد</a:t>
            </a:r>
            <a:r>
              <a:rPr b="0" i="1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ما هو التمويل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r>
              <a:rPr b="1" lang="en-US" sz="4400" spc="-1" strike="noStrike">
                <a:solidFill>
                  <a:srgbClr val="ccffff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لفهم عملية التمويل يجب معرفة المؤسسات و السوق و الادوات التي تستخدم لانتقال الاموال بين الافراد و قطاع الاعمال و الحكوم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لذلك لا بد من التركيز على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تعظيم القيمة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القيمة الزمنية للنقود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ecff"/>
                </a:solidFill>
                <a:latin typeface="Tahoma"/>
                <a:cs typeface="Tahoma"/>
              </a:rPr>
              <a:t>التدفق النقدي</a:t>
            </a:r>
            <a:r>
              <a:rPr b="0" lang="ar-SA" sz="24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ما هو التمويل العقاري</a:t>
            </a:r>
            <a:r>
              <a:rPr b="0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يجب معرفة ما يل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أثير التمويل على قيمة العقار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قييم الرهن العقاري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مويل العقار من اجل غايات السكن او غايات تجارية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سوق الاولية و الثانوية للرهن العقاري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ecff"/>
                </a:solidFill>
                <a:latin typeface="Tahoma"/>
                <a:cs typeface="Tahoma"/>
              </a:rPr>
              <a:t>تامين الرهن العقاري</a:t>
            </a:r>
            <a:r>
              <a:rPr b="0" lang="ar-SA" sz="28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مؤسسات المالية تخلق وتطور اليات و ادوات مالية لتأمين انتقال النقود اللازمة و المتعلقة بمعاملات الملكية العق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مؤسسات المالية تعمل على نقل المال الجهات التي لديها فائض بالنقد الى الجهات التي لديها عجز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الوسطاء الماليون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بنوك التج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شركات التأمين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صناديق التقاعد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لشركات الاستثماري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صناديق التسليف الحكومية (بعض الحكومات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ffff"/>
                </a:solidFill>
                <a:latin typeface="Tahoma"/>
                <a:cs typeface="Tahoma"/>
              </a:rPr>
              <a:t>سوق العقار الاولي</a:t>
            </a:r>
            <a:r>
              <a:rPr b="1" lang="ar-SA" sz="44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هو السوق الذي يتم به انشاء الرهن العقاري لاول مرة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اما ان يحتفظ بالرهن بسلة استثمارات و اما ان يباع الرهن العقاري بالسوق الثانو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ffff"/>
                </a:solidFill>
                <a:latin typeface="Tahoma"/>
                <a:cs typeface="Tahoma"/>
              </a:rPr>
              <a:t>السوق الثانوي للرهن العقاري</a:t>
            </a:r>
            <a:r>
              <a:rPr b="1" lang="ar-SA" sz="4000" spc="-1" strike="noStrike">
                <a:solidFill>
                  <a:srgbClr val="ccffff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هو السوق الذي يتم به بيع و شراء  الرهن العقاري المتداول اصلا (ليس منتج لاول مره)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يصدر بهذا السوق الاصول التابعة للرهن العقاري الاصلي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ecff"/>
                </a:solidFill>
                <a:latin typeface="Tahoma"/>
                <a:cs typeface="Tahoma"/>
              </a:rPr>
              <a:t>من اهم الشركات العالمية المشاركة بهذا السوق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ccecff"/>
                </a:solidFill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annie Mae, Freddie Mac, and Ginnie Ma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8T22:34:18Z</dcterms:created>
  <dc:creator>College of Business</dc:creator>
  <dc:description/>
  <dc:language>en-US</dc:language>
  <cp:lastModifiedBy>Administrator</cp:lastModifiedBy>
  <cp:lastPrinted>2004-08-20T18:14:13Z</cp:lastPrinted>
  <dcterms:modified xsi:type="dcterms:W3CDTF">2011-03-06T05:41:26Z</dcterms:modified>
  <cp:revision>555</cp:revision>
  <dc:subject/>
  <dc:title>QUESTIONS IN REAL ESTATE FINANCE</dc:title>
</cp:coreProperties>
</file>