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9DD-CBAE-4D6B-9296-5C0B91AA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21E-6EF3-495B-9E9D-53283D7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856-58BD-45AC-B348-5886F653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7DF-7BFD-4E9C-8B91-9D262FE7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0456-CB0A-4743-BB3B-DAFAADAE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D848-3ACF-4FF5-B1EA-B2BBF55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19D-5C73-4AB5-B275-7BD6E69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8864-0A6B-40D0-BD6E-0224925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544B-0F0D-4876-89FF-7537C22F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5E9E-99C9-48B0-B1ED-8328273E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7F8-A35A-4986-ABE2-D25910D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516-D900-485B-B0E4-ADBDFF1B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D85-81A3-4BA5-A742-F85BAEE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B735-72C9-40D2-BE54-F2BAE498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E38C-277F-43DA-B01F-A2472C12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8BA-C41A-46AE-9390-1F5FAC3B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B83-5D34-4EB1-8A6C-DA5B0F42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CC0-4BAB-4ECD-AE70-A3B431FC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43A-A68C-4D71-B2AA-5944D494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A62-90BF-479D-9825-9CDBD2C9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3E0-3A2D-45CD-9414-26BC9DB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0A6-02B8-4343-ABB4-B058F7C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306-A824-4495-9370-32EA1226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BED-A521-499D-9209-4FB01B9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AC3-E1C5-4C5B-992C-B1AE98623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31E6-6E7E-41FB-9B34-D235241C4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1 – First Step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dit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word, click once to move the cursor before you start typing – any text after the new text will mov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word, click next to the word you want to delete –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ck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lete to the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ursor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lete to the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111480" cy="145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7489" r="0" b="12630"/>
          <a:stretch/>
        </p:blipFill>
        <p:spPr>
          <a:xfrm>
            <a:off x="5219640" y="4437000"/>
            <a:ext cx="3240000" cy="14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aving your work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created a new document,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Save As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 and type in a suitable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to a folder inside My Documents, double-click on th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27640" y="2852640"/>
            <a:ext cx="4446360" cy="2530440"/>
            <a:chOff x="4427640" y="2852640"/>
            <a:chExt cx="4446360" cy="25304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003640" y="2852640"/>
              <a:ext cx="387036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27640" y="4005360"/>
              <a:ext cx="1800000" cy="10396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aving as a different file typ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403056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Save As Type box if you want to save a Word document as a different 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 Page – saves in a format suitable for web pages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ch Text Format files can b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ed in other word processo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in text files can be read in another type of pack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716280" cy="1298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lates can be used time and time aga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save as a previous version of Word – scroll down for more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pening an existing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1734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you will see the names of the last 4 files op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more Files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n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will normally show the last location you saved a fi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en a file, double-click on the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3510000" cy="2293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67640" y="2276640"/>
            <a:ext cx="1214280" cy="2244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59280" y="2924280"/>
            <a:ext cx="2808360" cy="1368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hanging defaults and preferenc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9574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To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tions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choose Save options, click on the </a:t>
            </a:r>
            <a:r>
              <a:rPr b="1" i="1" lang="en-GB" sz="18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ab – make sure Save AutoRecover info is tick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choose a different location for saving files, click on the </a:t>
            </a:r>
            <a:r>
              <a:rPr b="1" i="1" lang="en-GB" sz="1800" spc="-1" strike="noStrike">
                <a:solidFill>
                  <a:srgbClr val="336699"/>
                </a:solidFill>
                <a:latin typeface="Arial"/>
              </a:rPr>
              <a:t>File Location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anges made here will affect all new docum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59440" y="2133720"/>
            <a:ext cx="36925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a paragraph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to the require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back up 2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a new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text will move down to make roo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0" y="2276640"/>
            <a:ext cx="3238560" cy="2917800"/>
            <a:chOff x="4572000" y="2276640"/>
            <a:chExt cx="3238560" cy="29178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0" t="21459" r="27028" b="0"/>
            <a:stretch/>
          </p:blipFill>
          <p:spPr>
            <a:xfrm>
              <a:off x="4572000" y="2276640"/>
              <a:ext cx="3238560" cy="29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995080" y="25131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6699"/>
                  </a:solidFill>
                  <a:latin typeface="Arial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012000" y="3789360"/>
            <a:ext cx="2879640" cy="2457360"/>
            <a:chOff x="6012000" y="3789360"/>
            <a:chExt cx="2879640" cy="245736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rcRect l="0" t="22054" r="29658" b="6241"/>
            <a:stretch/>
          </p:blipFill>
          <p:spPr>
            <a:xfrm>
              <a:off x="6012000" y="3789360"/>
              <a:ext cx="28796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19440" y="39528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6699"/>
                  </a:solidFill>
                  <a:latin typeface="Arial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32000" y="2924280"/>
            <a:ext cx="165600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eviewing and print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your work on-screen before you print out – you may spot something that needs chang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rint Preview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iature of your document will appear on-screen – click anywhere in the document to make it b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lose button to exit the preview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737160" cy="3480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7152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inting a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246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print icon – a copy of your document will be sent to the default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nt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choose which printer to us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choose which pages to pri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choose how many copies you wa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ke your selections then 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1914" r="0" b="0"/>
          <a:stretch/>
        </p:blipFill>
        <p:spPr>
          <a:xfrm>
            <a:off x="5148360" y="2924280"/>
            <a:ext cx="3703680" cy="2771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V="1">
            <a:off x="4500720" y="3381120"/>
            <a:ext cx="2592360" cy="6951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40360" y="4273200"/>
            <a:ext cx="1152360" cy="3078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427640" y="4167360"/>
            <a:ext cx="3960720" cy="10620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osing Wor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lose a document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it Word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red close icon in the top right-hand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Word icon in the top left-hand corner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968640" cy="369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V="1">
            <a:off x="4067280" y="2420640"/>
            <a:ext cx="4681440" cy="18716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oading Wor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the Word icon on the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l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icrosoft 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icrosoft Office Word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1079280" cy="103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04812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he opening scree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9480" y="409716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5080" y="2060640"/>
            <a:ext cx="8357040" cy="4381560"/>
            <a:chOff x="325080" y="2060640"/>
            <a:chExt cx="8357040" cy="43815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908000" y="2205000"/>
              <a:ext cx="511812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07840" y="206064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le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080" y="2349360"/>
              <a:ext cx="125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in menu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46720" y="2728800"/>
              <a:ext cx="153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ting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5280" y="251316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43120" y="4602240"/>
              <a:ext cx="9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sk 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2320" y="294624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360" y="6165720"/>
              <a:ext cx="94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47640" y="2205000"/>
              <a:ext cx="287640" cy="7632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492280"/>
              <a:ext cx="4320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47640" y="3068640"/>
              <a:ext cx="79236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7640" y="6308640"/>
              <a:ext cx="50328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77080" y="2637000"/>
              <a:ext cx="28728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32360" y="2852640"/>
              <a:ext cx="43164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43640" y="4724280"/>
              <a:ext cx="72072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What all the different parts mea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2421000"/>
          <a:ext cx="7864200" cy="4201920"/>
        </p:xfrm>
        <a:graphic>
          <a:graphicData uri="http://schemas.openxmlformats.org/drawingml/2006/table">
            <a:tbl>
              <a:tblPr/>
              <a:tblGrid>
                <a:gridCol w="1366560"/>
                <a:gridCol w="6497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name of your document, followed by Microsoft Word.  If you have not given it a name, Document1 will appear as the documen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menu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has options for you to choose from.  Click on File and the file menu will drop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tool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a number of icons which can be clicked to give access to frequently used comm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ting tool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icons which let you change the way text looks, for example bold, centre, underline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wind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 area of the screen in which you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hat page you are on and how many pages are in the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opens and closes depending on what you are doing.  Click on the close icon (X) in top right hand corner to close the Task 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he Keyboar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3640" y="2565360"/>
            <a:ext cx="815508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hat the keys d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409840"/>
          <a:ext cx="7864560" cy="4033800"/>
        </p:xfrm>
        <a:graphic>
          <a:graphicData uri="http://schemas.openxmlformats.org/drawingml/2006/table">
            <a:tbl>
              <a:tblPr/>
              <a:tblGrid>
                <a:gridCol w="1149480"/>
                <a:gridCol w="6715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ift key.  If you hold this down all letters you type will appear in capitals.  Used also to type the top character on a key (Shift + 3 = £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 Lock – if you want to type a heading in capitals, press this key once, type in your text and press is again to go back to norm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space key – this deletes the letter to the left of the cursor.  Very useful if you type the wrong letter – you can delete it and type in the correct on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key – this deletes the letter to the right of the cur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 key – this is used to advance the cursor to the next tab stop on the ru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key – use this when you want to go to the next line.  Pressing it twice will leave a clear line space between paragra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4040" y="2492280"/>
            <a:ext cx="95544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3400" y="3068640"/>
            <a:ext cx="936720" cy="50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5000" y="3860640"/>
            <a:ext cx="1073160" cy="5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96760" y="5229360"/>
            <a:ext cx="809640" cy="52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55640" y="5877000"/>
            <a:ext cx="1092240" cy="5079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038240" y="4581360"/>
            <a:ext cx="527040" cy="517320"/>
            <a:chOff x="1038240" y="4581360"/>
            <a:chExt cx="527040" cy="517320"/>
          </a:xfrm>
        </p:grpSpPr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1038240" y="4581360"/>
              <a:ext cx="5270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090080" y="4673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reating a new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tart Word, a blank document automatically appears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tart typing straight a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if you’ve just saved and closed a document, click on the Blank document icon to start a new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467160" cy="2901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68360" y="5734080"/>
            <a:ext cx="40356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6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ointer, cursor and insertion poin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097000"/>
            <a:ext cx="3855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er will change according to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it up to an icon, it looks like a white arr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it into the document area and it looks like 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Be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it to the left of your text and it looks like a white arrow facing to the rig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you save or print, it may change to an hourgla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flashing insertion point marks where the next character typed will g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58471" b="45409"/>
          <a:stretch/>
        </p:blipFill>
        <p:spPr>
          <a:xfrm>
            <a:off x="5292720" y="2108160"/>
            <a:ext cx="3139920" cy="345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164360" y="4700520"/>
            <a:ext cx="214200" cy="303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64000" y="3692520"/>
            <a:ext cx="244800" cy="322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508720" y="4772160"/>
            <a:ext cx="244440" cy="32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40360" y="3260880"/>
            <a:ext cx="1079280" cy="6238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3979800"/>
            <a:ext cx="2881440" cy="7714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772160"/>
            <a:ext cx="1008000" cy="144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95760" y="5300640"/>
            <a:ext cx="26352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8469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 Golden Rules of Word Processing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press Enter at the end of a line – Word will automatically move it to the nex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Enter key twice after a heading or at the end of a paragraph to create an empty lin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spacebar once after punctuation – no space before as a gener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hift key to create one capital letter or to type the upper character on a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4797360"/>
            <a:ext cx="316224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9:51:18Z</dcterms:created>
  <dc:creator/>
  <dc:description/>
  <dc:language>en-US</dc:language>
  <cp:lastModifiedBy/>
  <dcterms:modified xsi:type="dcterms:W3CDTF">2004-12-21T16:55:18Z</dcterms:modified>
  <cp:revision>10</cp:revision>
  <dc:subject/>
  <dc:title>European Computer Driving Licence</dc:title>
</cp:coreProperties>
</file>