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167-6847-4BCA-88D9-78EA00C4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21C-692F-4620-81A3-3F563A25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EB9-8D41-4B9D-A9A6-3B67EF6B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D49-4109-41A1-A71F-A3EF95B3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BBD4-6DC4-48FF-BBD9-E2160E18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F701-AA6A-4980-A77C-8F22BE2B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0EDB-BC9A-4026-ACA3-F40C11BD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5911-CC6D-4A4B-AED7-EAD76553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FE5F-5EEE-4A30-B98C-D4BEC0BD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ACD5-EADB-4E5A-B7C5-6DA7A1FF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6E85-2B91-417E-8E3C-80DC2100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36D-E4DD-4024-9EE4-F0D49467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7672-CAF6-4D82-87A5-DEB82385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1FF6-B09B-490A-9516-06B3B007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7DA8-C6A0-4DBE-962E-8B54C9CE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FFB6-490F-4DAF-8ED3-B6F62974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92F3-9911-46F3-8763-C15A268B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35B-9D17-4129-80CC-25D61728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EBB-A673-4ABF-9DF3-A67B0F74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C48-96EC-4341-ABD4-21E9135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EE9-6884-41C2-A6D0-5A027752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596-4818-49CA-90CE-C05EC036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20D-435A-4B08-8728-52F4A133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299-0EE6-4122-A88C-BD7CBBAB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442-4144-465F-ABAA-3EE004446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C483-2191-44D0-9A3B-E77F5C499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pter 3.1 – First Step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diting tex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sert a word, click once to move the cursor before you start typing – any text after the new text will mov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a word, click next to the word you want to delete –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Back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elete to the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cursor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elete to the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111480" cy="145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7489" r="0" b="12630"/>
          <a:stretch/>
        </p:blipFill>
        <p:spPr>
          <a:xfrm>
            <a:off x="5219640" y="4437000"/>
            <a:ext cx="3240000" cy="144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aving your work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created a new document,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Save As window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 and type in a suitable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ave to a folder inside My Documents, double-click on the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27640" y="2852640"/>
            <a:ext cx="4446360" cy="2530440"/>
            <a:chOff x="4427640" y="2852640"/>
            <a:chExt cx="4446360" cy="25304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003640" y="2852640"/>
              <a:ext cx="387036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427640" y="4005360"/>
              <a:ext cx="1800000" cy="103968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aving as a different file type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403056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Save As Type box if you want to save a Word document as a different fil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b Page – saves in a format suitable for web pages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ch Text Format files can b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ned in other word processo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ain text files can be read in another type of packag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3716280" cy="1298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4040" y="2409480"/>
            <a:ext cx="38559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mplates can be used time and time aga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can save as a previous version of Word – scroll down for more option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Opening an existing documen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17348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you will see the names of the last 4 files op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more Files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en window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will normally show the last location you saved a fil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pen a file, double-click on the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64000" y="3789360"/>
            <a:ext cx="3510000" cy="2293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67640" y="2276640"/>
            <a:ext cx="1214280" cy="2244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859280" y="2924280"/>
            <a:ext cx="2808360" cy="136836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hanging defaults and preferenc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95748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Too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tions window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 choose Save options, click on the </a:t>
            </a:r>
            <a:r>
              <a:rPr b="1" i="1" lang="en-GB" sz="1800" spc="-1" strike="noStrike">
                <a:solidFill>
                  <a:srgbClr val="336699"/>
                </a:solidFill>
                <a:latin typeface="Arial"/>
              </a:rPr>
              <a:t>Sav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ab – make sure Save AutoRecover info is ticke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 choose a different location for saving files, click on the </a:t>
            </a:r>
            <a:r>
              <a:rPr b="1" i="1" lang="en-GB" sz="1800" spc="-1" strike="noStrike">
                <a:solidFill>
                  <a:srgbClr val="336699"/>
                </a:solidFill>
                <a:latin typeface="Arial"/>
              </a:rPr>
              <a:t>File Location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anges made here will affect all new documen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59440" y="2133720"/>
            <a:ext cx="36925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serting a paragraph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cursor to the required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 tw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cursor back up 2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a new 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text will move down to make roo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0" y="2276640"/>
            <a:ext cx="3238560" cy="2917800"/>
            <a:chOff x="4572000" y="2276640"/>
            <a:chExt cx="3238560" cy="29178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rcRect l="0" t="21459" r="27028" b="0"/>
            <a:stretch/>
          </p:blipFill>
          <p:spPr>
            <a:xfrm>
              <a:off x="4572000" y="2276640"/>
              <a:ext cx="3238560" cy="29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995080" y="25131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6699"/>
                  </a:solidFill>
                  <a:latin typeface="Arial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012000" y="3789360"/>
            <a:ext cx="2879640" cy="2457360"/>
            <a:chOff x="6012000" y="3789360"/>
            <a:chExt cx="2879640" cy="245736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rcRect l="0" t="22054" r="29658" b="6241"/>
            <a:stretch/>
          </p:blipFill>
          <p:spPr>
            <a:xfrm>
              <a:off x="6012000" y="3789360"/>
              <a:ext cx="28796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19440" y="395280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6699"/>
                  </a:solidFill>
                  <a:latin typeface="Arial"/>
                </a:rPr>
                <a:t>Af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32000" y="2924280"/>
            <a:ext cx="1656000" cy="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reviewing and print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your work on-screen before you print out – you may spot something that needs chang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Print Preview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iature of your document will appear on-screen – click anywhere in the document to make it b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Close button to exit the preview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737160" cy="3480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371520" cy="3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rinting a documen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246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print icon – a copy of your document will be sent to the default pr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nt window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can choose which printer to us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can choose which pages to pri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can choose how many copies you wa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ke your selections then click 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1914" r="0" b="0"/>
          <a:stretch/>
        </p:blipFill>
        <p:spPr>
          <a:xfrm>
            <a:off x="5148360" y="2924280"/>
            <a:ext cx="3703680" cy="2771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V="1">
            <a:off x="4500720" y="3381120"/>
            <a:ext cx="2592360" cy="69516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40360" y="4273200"/>
            <a:ext cx="1152360" cy="30780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427640" y="4167360"/>
            <a:ext cx="3960720" cy="106200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osing Word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lose a document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it Word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red close icon in the top right-hand co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Word icon in the top left-hand corner and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968640" cy="369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V="1">
            <a:off x="4067280" y="2420640"/>
            <a:ext cx="4681440" cy="18716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oading Word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click the Word icon on the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ll Progr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icrosoft Off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icrosoft Office Word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1079280" cy="103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3048120" cy="36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he opening screen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79480" y="409716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5080" y="2060640"/>
            <a:ext cx="8357040" cy="4381560"/>
            <a:chOff x="325080" y="2060640"/>
            <a:chExt cx="8357040" cy="438156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908000" y="2205000"/>
              <a:ext cx="5118120" cy="42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07840" y="206064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tle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080" y="2349360"/>
              <a:ext cx="125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in menu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46720" y="2728800"/>
              <a:ext cx="153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matting tool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45280" y="2513160"/>
              <a:ext cx="140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dard tool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43120" y="4602240"/>
              <a:ext cx="9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sk 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2320" y="294624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4360" y="6165720"/>
              <a:ext cx="94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47640" y="2205000"/>
              <a:ext cx="287640" cy="7632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492280"/>
              <a:ext cx="4320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47640" y="3068640"/>
              <a:ext cx="79236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47640" y="6308640"/>
              <a:ext cx="50328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77080" y="2637000"/>
              <a:ext cx="28728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32360" y="2852640"/>
              <a:ext cx="43164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43640" y="4724280"/>
              <a:ext cx="72072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What all the different parts mea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2421000"/>
          <a:ext cx="7864200" cy="4201920"/>
        </p:xfrm>
        <a:graphic>
          <a:graphicData uri="http://schemas.openxmlformats.org/drawingml/2006/table">
            <a:tbl>
              <a:tblPr/>
              <a:tblGrid>
                <a:gridCol w="1366560"/>
                <a:gridCol w="6497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name of your document, followed by Microsoft Word.  If you have not given it a name, Document1 will appear as the documen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menu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has options for you to choose from.  Click on File and the file menu will drop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tool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a number of icons which can be clicked to give access to frequently used comm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ting tool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icons which let you change the way text looks, for example bold, centre, underline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wind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 area of the screen in which you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hat page you are on and how many pages are in the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opens and closes depending on what you are doing.  Click on the close icon (X) in top right hand corner to close the Task 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he Keyboard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3640" y="2565360"/>
            <a:ext cx="8155080" cy="30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hat the keys do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2409840"/>
          <a:ext cx="7864560" cy="4033800"/>
        </p:xfrm>
        <a:graphic>
          <a:graphicData uri="http://schemas.openxmlformats.org/drawingml/2006/table">
            <a:tbl>
              <a:tblPr/>
              <a:tblGrid>
                <a:gridCol w="1149480"/>
                <a:gridCol w="67150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ift key.  If you hold this down all letters you type will appear in capitals.  Used also to type the top character on a key (Shift + 3 = £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 Lock – if you want to type a heading in capitals, press this key once, type in your text and press is again to go back to norm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space key – this deletes the letter to the left of the cursor.  Very useful if you type the wrong letter – you can delete it and type in the correct on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key – this deletes the letter to the right of the cur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 key – this is used to advance the cursor to the next tab stop on the ru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 key – use this when you want to go to the next line.  Pressing it twice will leave a clear line space between paragrap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4040" y="2492280"/>
            <a:ext cx="955440" cy="39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3400" y="3068640"/>
            <a:ext cx="936720" cy="500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5000" y="3860640"/>
            <a:ext cx="1073160" cy="51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896760" y="5229360"/>
            <a:ext cx="809640" cy="527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55640" y="5877000"/>
            <a:ext cx="1092240" cy="5079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038240" y="4581360"/>
            <a:ext cx="527040" cy="517320"/>
            <a:chOff x="1038240" y="4581360"/>
            <a:chExt cx="527040" cy="517320"/>
          </a:xfrm>
        </p:grpSpPr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1038240" y="4581360"/>
              <a:ext cx="5270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090080" y="4673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reating a new documen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start Word, a blank document automatically appears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tart typing straight a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y hint:  if you’ve just saved and closed a document, click on the Blank document icon to start a new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2421000"/>
            <a:ext cx="3467160" cy="2901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68360" y="5734080"/>
            <a:ext cx="40356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846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ointer, cursor and insertion poin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2097000"/>
            <a:ext cx="3855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er will change according to what you a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e it up to an icon, it looks like a white arr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e it into the document area and it looks like 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Bea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e it to the left of your text and it looks like a white arrow facing to the righ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you save or print, it may change to an hourglas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flashing insertion point marks where the next character typed will g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58471" b="45409"/>
          <a:stretch/>
        </p:blipFill>
        <p:spPr>
          <a:xfrm>
            <a:off x="5292720" y="2108160"/>
            <a:ext cx="3139920" cy="345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164360" y="4700520"/>
            <a:ext cx="214200" cy="303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64000" y="3692520"/>
            <a:ext cx="244800" cy="322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508720" y="4772160"/>
            <a:ext cx="244440" cy="32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40360" y="3260880"/>
            <a:ext cx="1079280" cy="6238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3979800"/>
            <a:ext cx="2881440" cy="7714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772160"/>
            <a:ext cx="1008000" cy="14436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595760" y="5300640"/>
            <a:ext cx="26352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78469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e Golden Rules of Word Processing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press Enter at the end of a line – Word will automatically move it to the nex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Enter key twice after a heading or at the end of a paragraph to create an empty lin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 the spacebar once after punctuation – no space before as a gener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shift key to create one capital letter or to type the upper character on a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3640" y="4797360"/>
            <a:ext cx="316224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9:51:18Z</dcterms:created>
  <dc:creator/>
  <dc:description/>
  <dc:language>en-US</dc:language>
  <cp:lastModifiedBy/>
  <dcterms:modified xsi:type="dcterms:W3CDTF">2004-12-21T16:55:18Z</dcterms:modified>
  <cp:revision>10</cp:revision>
  <dc:subject/>
  <dc:title>European Computer Driving Licence</dc:title>
</cp:coreProperties>
</file>