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FDA-D724-4FE9-82C5-87EA183B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AB5-9E2E-4F0E-9A30-1C52D9F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2FD-5809-4349-8D4B-9B63A1E8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991-6679-430A-8294-0A3D9921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918B-F930-4897-AFC9-F9AEB3C9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B43F-96B0-4B4C-9890-25C33E1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CFBD-CA5A-41B6-9A02-C46EDDA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5693-8484-4A16-99DD-800EC6F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70F-D6EE-4100-AFC8-DBF5EFD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E29B-F91A-4958-994F-AC0C6AB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22D-7FBF-45B9-BE08-F16A469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4E4-C864-4867-9C39-F9FAE8AB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813A-2609-49F7-8DE4-BE6D4A8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3AF-C636-46E4-A73B-65CB455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701-2435-42F9-8E69-D71724E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B907-020B-4735-807F-AFCC4E32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1D9-A621-4F69-9479-9D94F73B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2E2-22C1-4B69-BC31-820139CD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C5D-60B9-470A-9DAD-26C7F2FC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86-689C-4D9C-AAED-11279FBD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818-1BEC-44D8-A6E4-B3DCEE33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869-A5D6-461E-B1B9-93E55FA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58E-0C72-4741-B739-DA09304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27C-FF40-4DE2-8D3C-6A7AD91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FE7-DB7C-4586-BB90-B13D481F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42C-3BFB-4C1F-AF21-A1988BE81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2 - Formatt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hanging line spac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38559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ine spa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, select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add extra spacing by increasing the spacing before and after a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y Hint: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hanges to single spacing,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tr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hanges text to double spac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274920" cy="3836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284720" y="3284640"/>
            <a:ext cx="3095640" cy="828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95720" y="4221000"/>
            <a:ext cx="1628640" cy="1843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opying a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mat Painter to copy text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text which contains the format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rmat </a:t>
            </a:r>
            <a:br>
              <a:rPr sz="1800"/>
            </a:b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aint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con o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use pointer will chan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the text you want to copy formatting 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soon as you release the mouse button the text will chang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py text formats to more than one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light the tex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ble-click on the Format Painter ic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each piece of tex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’ve finished, click on Format Painter to turn it off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371520" cy="34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3977" t="0" r="0" b="0"/>
          <a:stretch/>
        </p:blipFill>
        <p:spPr>
          <a:xfrm>
            <a:off x="3995640" y="4203720"/>
            <a:ext cx="382680" cy="33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42160" y="4815000"/>
            <a:ext cx="107784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nting paragraph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spin buttons to change th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Use the Format Painter to copy the format to other paragraph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13520" y="2252520"/>
            <a:ext cx="3403440" cy="39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basic types of fonts – Serif and Sans Se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ns Ser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ts are used in places where text is easy to read – eg road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nts are often used for large amounts of text such as newspapers, books.  The serifs lead the eye from one word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too many different fonts – it can look mess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53080" y="2205000"/>
            <a:ext cx="3187800" cy="1008360"/>
            <a:chOff x="5653080" y="2205000"/>
            <a:chExt cx="3187800" cy="1008360"/>
          </a:xfrm>
        </p:grpSpPr>
        <p:sp>
          <p:nvSpPr>
            <p:cNvPr id="90" name=""/>
            <p:cNvSpPr/>
            <p:nvPr/>
          </p:nvSpPr>
          <p:spPr>
            <a:xfrm>
              <a:off x="5653080" y="22050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64160" y="2276640"/>
              <a:ext cx="23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written in a sans serif font calle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81440" y="3573360"/>
            <a:ext cx="3259440" cy="2024280"/>
            <a:chOff x="5581440" y="3573360"/>
            <a:chExt cx="3259440" cy="2024280"/>
          </a:xfrm>
        </p:grpSpPr>
        <p:sp>
          <p:nvSpPr>
            <p:cNvPr id="93" name=""/>
            <p:cNvSpPr/>
            <p:nvPr/>
          </p:nvSpPr>
          <p:spPr>
            <a:xfrm>
              <a:off x="5581440" y="40752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4149720"/>
              <a:ext cx="239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is written in a serif font called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s New Ro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3440" y="35733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724000" y="3933720"/>
              <a:ext cx="716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27640" y="3933720"/>
              <a:ext cx="730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6160" y="522936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724000" y="4868640"/>
              <a:ext cx="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00720" y="4868640"/>
              <a:ext cx="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Font Siz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 sizes are measured 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int is the smallest you can read without a magnifying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point is the size normally used by Word when you create a new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igger the number, the bigger the tex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his is Times New Roman size 6 poi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imes New Roman siz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imes New Roman size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sing styl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3855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look at the formatting bar, you will see the current style, font an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own arrows in each of the boxes and select your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03280" y="4508640"/>
            <a:ext cx="1430280" cy="2036160"/>
            <a:chOff x="1403280" y="4508640"/>
            <a:chExt cx="1430280" cy="20361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403280" y="4867200"/>
              <a:ext cx="1430280" cy="16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415160" y="450864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yle bo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20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style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Sty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 and select the style requir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font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nt 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change the size, click i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ont siz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95640" y="4508640"/>
            <a:ext cx="1763640" cy="2084400"/>
            <a:chOff x="3995640" y="4508640"/>
            <a:chExt cx="1763640" cy="20844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995640" y="4869000"/>
              <a:ext cx="176364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69080" y="4508640"/>
              <a:ext cx="95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nt 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10880" y="4508640"/>
            <a:ext cx="842040" cy="1982520"/>
            <a:chOff x="7310880" y="4508640"/>
            <a:chExt cx="842040" cy="19825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7524720" y="4869000"/>
              <a:ext cx="341280" cy="16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310880" y="450864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nt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ext alignment and emphasi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entre and make headings bold by selecting text and clicking on the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how when an icon is selected it looks pressed in – in Word 2003 the background changes to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36720" y="3881520"/>
            <a:ext cx="3157920" cy="276480"/>
            <a:chOff x="5436720" y="3881520"/>
            <a:chExt cx="3157920" cy="276480"/>
          </a:xfrm>
        </p:grpSpPr>
        <p:sp>
          <p:nvSpPr>
            <p:cNvPr id="119" name=""/>
            <p:cNvSpPr/>
            <p:nvPr/>
          </p:nvSpPr>
          <p:spPr>
            <a:xfrm>
              <a:off x="5436720" y="38815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16720" y="388152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gn le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51800" y="388152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gn rig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14000" y="2657520"/>
            <a:ext cx="4003560" cy="276480"/>
            <a:chOff x="4914000" y="2657520"/>
            <a:chExt cx="4003560" cy="276480"/>
          </a:xfrm>
        </p:grpSpPr>
        <p:sp>
          <p:nvSpPr>
            <p:cNvPr id="123" name=""/>
            <p:cNvSpPr/>
            <p:nvPr/>
          </p:nvSpPr>
          <p:spPr>
            <a:xfrm>
              <a:off x="4914000" y="2657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20920" y="2657520"/>
              <a:ext cx="88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der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4200" y="26575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44720" y="265752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stif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19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3272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500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ndo and Red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3927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undo the las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arrow next to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n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see which items can be “und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ange your mind about undoing something,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edo icon to repeat an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ommands can also be accessed 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835600" y="3406680"/>
            <a:ext cx="2160720" cy="1108080"/>
            <a:chOff x="5835600" y="3406680"/>
            <a:chExt cx="2160720" cy="110808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5908680" y="3838320"/>
              <a:ext cx="19447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835600" y="34066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o            Re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tting text colou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colour of text, select the text then click the down arrow next to the colour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don’t see the colour you want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re Col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olour you require then click on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27880" y="3789360"/>
            <a:ext cx="2106360" cy="229716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219640" y="2349360"/>
            <a:ext cx="1530360" cy="1729080"/>
            <a:chOff x="5219640" y="2349360"/>
            <a:chExt cx="1530360" cy="17290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219640" y="2349360"/>
              <a:ext cx="153036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30760" y="2365200"/>
              <a:ext cx="219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V="1">
            <a:off x="4211640" y="2609640"/>
            <a:ext cx="963720" cy="531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24360" y="3933720"/>
            <a:ext cx="1655640" cy="2872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5084640"/>
            <a:ext cx="273528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pplying case chang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409480"/>
            <a:ext cx="4219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hange text to UPPERCASE (ie all capitals) select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nu select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Chang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the case you want to apply 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andy hint:  use tOGGLE cASE if you accidentally forget to press Caps Lock key to finish capitals!  Or try Shift-F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3432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ther text forma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ives you access to all font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hoose an underline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ffects section, you can apply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ubscri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uper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2240" y="2317680"/>
            <a:ext cx="3627720" cy="4013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3059280" y="5013000"/>
            <a:ext cx="2255760" cy="144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427640" y="4782960"/>
            <a:ext cx="884160" cy="144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23:49:20Z</dcterms:created>
  <dc:creator/>
  <dc:description/>
  <dc:language>en-US</dc:language>
  <cp:lastModifiedBy/>
  <dcterms:modified xsi:type="dcterms:W3CDTF">2004-05-26T15:30:36Z</dcterms:modified>
  <cp:revision>8</cp:revision>
  <dc:subject/>
  <dc:title>European Computer Driving Licence</dc:title>
</cp:coreProperties>
</file>