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C1F-FA4C-45FF-9240-A41AB32D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71C-D489-40A5-9EF2-B8FCD1C7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2B0-BBBE-4596-8CCA-46377031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AE5-5587-4E76-884F-67D85EC8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8DD9-6227-4435-B514-2B631570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A9D-8CF7-42F8-80BA-8068EECC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C3C5-8A68-445D-87AB-329909AA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453D-A849-4439-9603-1615D41B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C508-1B1B-4C5E-ACAA-84E4C712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1AC3-1833-4435-A4F2-B4AD70C8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E6C1-9FB6-4020-8E5F-7116158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0F4-A393-48C3-BDCE-A4DC7BBF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4E25-1531-490C-905D-061C6D0E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1A65-F6F2-4500-A76B-F3D5C88C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4053-775E-4E40-94CE-582E4D19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A14F-83CD-4879-B14E-8DB604A7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B512-AC29-4148-B80D-7AE10025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866-118B-42C3-AD59-D272E6A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B9E-9DEE-4ED7-B9EA-19C70BA5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F43-7147-4B00-8A0F-9BBDE994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F18-15D4-4C63-B8AB-FBB38668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13A-503F-42BB-A342-4904EDE3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D1C-9939-4FB1-962D-EC6731AF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BC9-674B-4D03-A41C-79A24F5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9509-A395-4FF0-BF06-16B52048F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62FB-C9DD-40B7-95A7-7647E585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pter 3.2 - Formatt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hanging line spac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276280"/>
            <a:ext cx="38559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ine spa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elect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add extra spacing by increasing the spacing before and after a 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dy Hint: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tr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hanges to single spacing,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tr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hanges text to double spac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274920" cy="3836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284720" y="3284640"/>
            <a:ext cx="3095640" cy="828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095720" y="4221000"/>
            <a:ext cx="1628640" cy="1843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opying a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mat Painter to copy text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text which contains the formatt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ormat </a:t>
            </a:r>
            <a:br>
              <a:rPr sz="1800"/>
            </a:b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Paint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con o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use pointer will chan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text you want to copy formatting 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soon as you release the mouse button the text will change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py text formats to more than one piece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light the tex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uble-click on the Format Painter ic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each piece of tex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’ve finished, click on Format Painter to turn it off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371520" cy="34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3977" t="0" r="0" b="0"/>
          <a:stretch/>
        </p:blipFill>
        <p:spPr>
          <a:xfrm>
            <a:off x="3995640" y="4203720"/>
            <a:ext cx="382680" cy="336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842160" y="4815000"/>
            <a:ext cx="107784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nting paragraph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spin buttons to change the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Use the Format Painter to copy the format to other paragraph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13520" y="2252520"/>
            <a:ext cx="3403440" cy="39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Fon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basic types of fonts – Serif and Sans Ser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ns Ser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nts are used in places where text is easy to read – eg road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r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nts are often used for large amounts of text such as newspapers, books.  The serifs lead the eye from one word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use too many different fonts – it can look mess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53080" y="2205000"/>
            <a:ext cx="3187800" cy="1008360"/>
            <a:chOff x="5653080" y="2205000"/>
            <a:chExt cx="3187800" cy="1008360"/>
          </a:xfrm>
        </p:grpSpPr>
        <p:sp>
          <p:nvSpPr>
            <p:cNvPr id="90" name=""/>
            <p:cNvSpPr/>
            <p:nvPr/>
          </p:nvSpPr>
          <p:spPr>
            <a:xfrm>
              <a:off x="5653080" y="220500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64160" y="2276640"/>
              <a:ext cx="23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written in a sans serif font calle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81440" y="3573360"/>
            <a:ext cx="3259440" cy="2024280"/>
            <a:chOff x="5581440" y="3573360"/>
            <a:chExt cx="3259440" cy="2024280"/>
          </a:xfrm>
        </p:grpSpPr>
        <p:sp>
          <p:nvSpPr>
            <p:cNvPr id="93" name=""/>
            <p:cNvSpPr/>
            <p:nvPr/>
          </p:nvSpPr>
          <p:spPr>
            <a:xfrm>
              <a:off x="5581440" y="407520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3640" y="4149720"/>
              <a:ext cx="239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is written in a serif font called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s New Ro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53440" y="357336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f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724000" y="3933720"/>
              <a:ext cx="716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27640" y="3933720"/>
              <a:ext cx="730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6160" y="522936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f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724000" y="4868640"/>
              <a:ext cx="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300720" y="4868640"/>
              <a:ext cx="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Font Siz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 sizes are measured i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point is the smallest you can read without a magnifying g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point is the size normally used by Word when you create a new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igger the number, the bigger the tex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his is Times New Roman size 6 poi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imes New Roman siz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imes New Roman size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sing styl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look at the formatting bar, you will see the current style, font an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down arrows in each of the boxes and select your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03280" y="4508640"/>
            <a:ext cx="1430280" cy="2036160"/>
            <a:chOff x="1403280" y="4508640"/>
            <a:chExt cx="1430280" cy="20361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403280" y="4867200"/>
              <a:ext cx="1430280" cy="167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15160" y="450864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yle bo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409480"/>
            <a:ext cx="385596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change the style, click i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Sty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x and select the style requir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change the font, click i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ont 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change the size, click i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ont siz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995640" y="4508640"/>
            <a:ext cx="1763640" cy="2084400"/>
            <a:chOff x="3995640" y="4508640"/>
            <a:chExt cx="1763640" cy="20844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3995640" y="4869000"/>
              <a:ext cx="176364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069080" y="4508640"/>
              <a:ext cx="95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nt 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310880" y="4508640"/>
            <a:ext cx="842040" cy="1982520"/>
            <a:chOff x="7310880" y="4508640"/>
            <a:chExt cx="842040" cy="19825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7524720" y="4869000"/>
              <a:ext cx="34128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310880" y="450864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nt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ext alignment and emphasi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entre and make headings bold by selecting text and clicking on the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how when an icon is selected it looks pressed in – in Word 2003 the background changes to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436720" y="3881520"/>
            <a:ext cx="3157920" cy="276480"/>
            <a:chOff x="5436720" y="3881520"/>
            <a:chExt cx="3157920" cy="276480"/>
          </a:xfrm>
        </p:grpSpPr>
        <p:sp>
          <p:nvSpPr>
            <p:cNvPr id="119" name=""/>
            <p:cNvSpPr/>
            <p:nvPr/>
          </p:nvSpPr>
          <p:spPr>
            <a:xfrm>
              <a:off x="5436720" y="388152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16720" y="388152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gn le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51800" y="388152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gn righ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914000" y="2657520"/>
            <a:ext cx="4003560" cy="276480"/>
            <a:chOff x="4914000" y="2657520"/>
            <a:chExt cx="4003560" cy="276480"/>
          </a:xfrm>
        </p:grpSpPr>
        <p:sp>
          <p:nvSpPr>
            <p:cNvPr id="123" name=""/>
            <p:cNvSpPr/>
            <p:nvPr/>
          </p:nvSpPr>
          <p:spPr>
            <a:xfrm>
              <a:off x="4914000" y="2657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20920" y="2657520"/>
              <a:ext cx="88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der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44200" y="265752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44720" y="265752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ustif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21964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3272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3500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3816360" cy="5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ndo and Red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39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Un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undo the las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arrow next to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Un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see which items can be “undo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ange your mind about undoing something,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edo icon to repeat an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ommands can also be accessed 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835600" y="3406680"/>
            <a:ext cx="2160720" cy="1108080"/>
            <a:chOff x="5835600" y="3406680"/>
            <a:chExt cx="2160720" cy="110808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5908680" y="3838320"/>
              <a:ext cx="194472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835600" y="34066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do            Re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tting text colou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colour of text, select the text then click the down arrow next to the colour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n’t see the colour you want,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ore Col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colour you require then 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27880" y="3789360"/>
            <a:ext cx="2106360" cy="229716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5219640" y="2349360"/>
            <a:ext cx="1530360" cy="1729080"/>
            <a:chOff x="5219640" y="2349360"/>
            <a:chExt cx="1530360" cy="172908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219640" y="2349360"/>
              <a:ext cx="153036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30760" y="2365200"/>
              <a:ext cx="219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V="1">
            <a:off x="4211640" y="2609640"/>
            <a:ext cx="963720" cy="531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924360" y="3933720"/>
            <a:ext cx="1655640" cy="2872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5084640"/>
            <a:ext cx="2735280" cy="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pplying case chang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4219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hange text to UPPERCASE (ie all capitals) select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Chang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he case you want to apply 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ndy hint:  use tOGGLE cASE if you accidentally forget to press Caps Lock key to finish capitals!  Or try Shift-F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234324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Other text forma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ives you access to all font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an underlin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ffects section, you can apply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ubscri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uper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32240" y="2317680"/>
            <a:ext cx="3627720" cy="4013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3059280" y="5013000"/>
            <a:ext cx="2255760" cy="14436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27640" y="4782960"/>
            <a:ext cx="884160" cy="144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23:49:20Z</dcterms:created>
  <dc:creator/>
  <dc:description/>
  <dc:language>en-US</dc:language>
  <cp:lastModifiedBy/>
  <dcterms:modified xsi:type="dcterms:W3CDTF">2004-05-26T15:30:36Z</dcterms:modified>
  <cp:revision>8</cp:revision>
  <dc:subject/>
  <dc:title>European Computer Driving Licence</dc:title>
</cp:coreProperties>
</file>