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305-A671-4316-94A8-B5F587FE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E2B-0C0C-471E-BF35-1E947003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3E9-7D22-4AFF-BD57-2EF4E1E6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3D3-9ACA-45E3-AB8E-71C1F905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C84F-41E7-4C20-9BE6-DC2CCB2F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B149-D884-49E5-9C1D-B17A193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E798-FB70-418A-97A5-D96ACC9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500B-3B8B-4A9C-BBAA-6BB9CFA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28A2-03F5-4702-9493-4E4953E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368-31A7-411D-A25B-7F6CBD8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9136-3359-4DCD-98B9-97757407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A34-0882-4192-B81E-84A6A14C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52FF-325B-4510-91B4-B0179D7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12EA-3F46-4BAE-B8AF-AC5EB95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420E-A1EF-400A-B0FF-E5326E60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DD5D-829C-4593-9423-AE17DAAD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853-22F5-43B6-8B72-7EDA4276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EB9-17EF-4E86-965A-C2A35E8D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221-4691-4045-87A5-49FAB108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388-C4F6-4C47-95C6-F4D6A15A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493-CC50-4B9C-8C44-4405030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9C1-1DC0-468E-960E-DE30B2B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331-FA40-4638-B6C2-A8D3C0F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2C3-245C-4D56-9B11-D050009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8FD-5513-4451-876E-DFFCB5EA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17B7-6D6A-42CA-B7FB-8F3B1EA9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pter 3.3 – Basic Oper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lect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2276640"/>
          <a:ext cx="7864560" cy="3790800"/>
        </p:xfrm>
        <a:graphic>
          <a:graphicData uri="http://schemas.openxmlformats.org/drawingml/2006/table">
            <a:tbl>
              <a:tblPr/>
              <a:tblGrid>
                <a:gridCol w="1941480"/>
                <a:gridCol w="59230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 sel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to do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the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or more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in the left margin beside the line.  Drag down the left margin to select several lin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down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and click anywhere in the sen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agra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le-click anywhere inside the paragra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entire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d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nu choos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elect A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r you can use the keyboard shortcut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arge block of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e mouse at the beginning of the text, scroll down, hold down th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if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and click ag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adjacent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the first bit of text, hold down th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and select another piece of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py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you want to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py ico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copy of the tex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40360" y="4437000"/>
            <a:ext cx="419040" cy="381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39996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00400" cy="1757520"/>
          </a:xfrm>
          <a:prstGeom prst="rect">
            <a:avLst/>
          </a:prstGeom>
          <a:ln w="12600">
            <a:solidFill>
              <a:srgbClr val="3366cc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utting and past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that you want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ut ico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text to be mov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y Hint: if moving a block of text, check to make sure the spacing between paragraphs is consist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360" y="4437000"/>
            <a:ext cx="419040" cy="3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99040" y="299736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3832560" cy="2738520"/>
          </a:xfrm>
          <a:prstGeom prst="rect">
            <a:avLst/>
          </a:prstGeom>
          <a:ln w="12600">
            <a:solidFill>
              <a:srgbClr val="0066cc"/>
            </a:solidFill>
            <a:miter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inding and Replac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d and Replace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word you want to replace in the Find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word you want to replace it with in the Replac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lace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3996000" cy="157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6360" y="2421000"/>
            <a:ext cx="3856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you select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Replace A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message will appear telling you how many replacements have been m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149720"/>
            <a:ext cx="1800360" cy="3589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11640" y="4941360"/>
            <a:ext cx="1297080" cy="1429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isplaying and hiding toolba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06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s are displayed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oolb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list of toolbar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a toolbar to your screen, click on it so a tick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a toolbar, click on it to de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Drawing toolbar is selected – it will appear at the bottom of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981440" cy="408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6165720"/>
            <a:ext cx="697392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rawing a horizontal lin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ine tool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wing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finger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whilst you click and drag to draw a line (this will keep the line stra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line style click the Line styl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dow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s when dragging to a different location to make a perfect cop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24360" y="2565360"/>
            <a:ext cx="419040" cy="371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4508640"/>
            <a:ext cx="2859120" cy="152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3052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500720" y="3284640"/>
            <a:ext cx="2046240" cy="1081080"/>
            <a:chOff x="4500720" y="3284640"/>
            <a:chExt cx="2046240" cy="108108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5796000" y="3284640"/>
              <a:ext cx="7509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flipV="1">
              <a:off x="4500720" y="4221000"/>
              <a:ext cx="1223640" cy="1447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pellcheck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Spellchecker icon or 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will scan your document - as soon as it finds a word it does not recognise, the following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gn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a word and a shortcut menu will appear – if the correct word appears,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2687760" cy="1838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076640"/>
            <a:ext cx="1655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oofread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ofread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llchecker will not tell you if you have used the incorrect version of a word (eg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not tell you if you have missed out an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also check layout and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489400" cy="33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21:15:06Z</dcterms:created>
  <dc:creator>Karen Blakeley</dc:creator>
  <dc:description/>
  <dc:language>en-US</dc:language>
  <cp:lastModifiedBy>oliver</cp:lastModifiedBy>
  <dcterms:modified xsi:type="dcterms:W3CDTF">2004-05-26T15:37:58Z</dcterms:modified>
  <cp:revision>5</cp:revision>
  <dc:subject/>
  <dc:title>European Computer Driving Licence</dc:title>
</cp:coreProperties>
</file>