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E96-7941-4310-B9A9-2109B5E0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56B-703F-4051-954B-F12F46BB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22D9-DF08-4445-A057-7378BF3B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B4E-97E0-4B95-8EB8-284E50ED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2816-A3AD-42DB-924F-EE21112D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956E-182A-4473-8AB3-2376232E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E4E2-A1BF-43AB-8113-F201149A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F1AC-4785-4E1C-B803-B81D5C4C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2E79-55A8-4E41-B287-52A732A4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A4A3-8204-49F8-86B8-6A029AD6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11D3-EBD4-4259-ACE6-E3987020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C59C-635F-40A6-AD13-3AD649A6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6FB5-8C19-4050-9ECE-BB5E49C0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6B1A-7680-46E0-BC58-CC2C0E4D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1179-322D-42A5-9904-73F36DE8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4126-86DC-40F4-970C-74CBFC45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D299-F745-4055-975C-6A124025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2292-2BFC-431E-834B-956C89BF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01E6-7F88-4B6B-80F6-6A907B27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E65-E16B-432F-AC92-785522AF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E5C9-A22F-4104-ACD1-4771BB34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D21-44EE-4EE5-B99A-7E2DF510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592-4EB8-4194-B678-0423599A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B56-33B3-412B-90F1-6F93F7E2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B302-E3F7-4EDB-B683-124016C96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6BFB-2D57-47BA-9714-40E73AC08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odule 3 – Word Process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hapter 3.3 – Basic Operatio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electing Tex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2276640"/>
          <a:ext cx="7864560" cy="3790800"/>
        </p:xfrm>
        <a:graphic>
          <a:graphicData uri="http://schemas.openxmlformats.org/drawingml/2006/table">
            <a:tbl>
              <a:tblPr/>
              <a:tblGrid>
                <a:gridCol w="1941480"/>
                <a:gridCol w="592308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o sel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ow to do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w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-click on the w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or more 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in the left margin beside the line.  Drag down the left margin to select several lin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ent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 down 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tr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ey and click anywhere in the sent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aragra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ple-click anywhere inside the paragra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entire doc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he 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Edi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nu choose 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elect A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or you can use the keyboard shortcut 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tr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arge block of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he mouse at the beginning of the text, scroll down, hold down the 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hif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ey and click ag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adjacent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 the first bit of text, hold down the 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tr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ey and select another piece of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opying tex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text you want to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copy icon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insertion point to where you want the copy of the text to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paste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140360" y="4437000"/>
            <a:ext cx="419040" cy="381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211640" y="3068640"/>
            <a:ext cx="399960" cy="380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292720" y="2708280"/>
            <a:ext cx="3200400" cy="1757520"/>
          </a:xfrm>
          <a:prstGeom prst="rect">
            <a:avLst/>
          </a:prstGeom>
          <a:ln w="12600">
            <a:solidFill>
              <a:srgbClr val="3366cc"/>
            </a:solidFill>
            <a:miter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utting and pasting tex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text that you want to 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Cut icon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insertion point to where you want the text to be mov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Paste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ndy Hint: if moving a block of text, check to make sure the spacing between paragraphs is consiste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40360" y="4437000"/>
            <a:ext cx="419040" cy="381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99040" y="2997360"/>
            <a:ext cx="360360" cy="380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003640" y="2565360"/>
            <a:ext cx="3832560" cy="2738520"/>
          </a:xfrm>
          <a:prstGeom prst="rect">
            <a:avLst/>
          </a:prstGeom>
          <a:ln w="12600">
            <a:solidFill>
              <a:srgbClr val="0066cc"/>
            </a:solidFill>
            <a:miter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Finding and Replacing tex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e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nd and Replace dialogue box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the word you want to replace in the Find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the word you want to replace it with in the Replac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ep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br>
              <a:rPr sz="2000"/>
            </a:b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eplace 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16360" y="3933720"/>
            <a:ext cx="3996000" cy="157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6360" y="2421000"/>
            <a:ext cx="38563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you select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Replace Al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 message will appear telling you how many replacements have been ma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4149720"/>
            <a:ext cx="1800360" cy="35892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11640" y="4941360"/>
            <a:ext cx="1297080" cy="14292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Displaying and hiding toolbar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46069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tanda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rma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bars are displayed by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and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oolb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list of toolbars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dd a toolbar to your screen, click on it so a tick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move a toolbar, click on it to deselec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he Drawing toolbar is selected – it will appear at the bottom of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588000" y="2349360"/>
            <a:ext cx="1981440" cy="4083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4360" y="6165720"/>
            <a:ext cx="6973920" cy="3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Drawing a horizontal line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line tool fro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rawing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your finger o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hi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whilst you click and drag to draw a line (this will keep the line stra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line style click the Line style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dow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hi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s when dragging to a different location to make a perfect cop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24360" y="2565360"/>
            <a:ext cx="419040" cy="371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64000" y="4508640"/>
            <a:ext cx="2859120" cy="1520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292720" y="2637000"/>
            <a:ext cx="3052800" cy="47916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4500720" y="3284640"/>
            <a:ext cx="2046240" cy="1081080"/>
            <a:chOff x="4500720" y="3284640"/>
            <a:chExt cx="2046240" cy="1081080"/>
          </a:xfrm>
        </p:grpSpPr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5796000" y="3284640"/>
              <a:ext cx="7509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 flipV="1">
              <a:off x="4500720" y="4221000"/>
              <a:ext cx="1223640" cy="14472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pellchecking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385596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Spellchecker icon or press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will scan your document - as soon as it finds a word it does not recognise, the following dialogue box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gn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on a word and a shortcut menu will appear – if the correct word appears, selec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2205000"/>
            <a:ext cx="2687760" cy="1838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076640"/>
            <a:ext cx="165564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Proofreading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hould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ofread you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llchecker will not tell you if you have used the incorrect version of a word (eg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he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ead of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ead of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not tell you if you have missed out any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hould also check layout and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940360" y="2349360"/>
            <a:ext cx="2489400" cy="333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21:15:06Z</dcterms:created>
  <dc:creator>Karen Blakeley</dc:creator>
  <dc:description/>
  <dc:language>en-US</dc:language>
  <cp:lastModifiedBy>oliver</cp:lastModifiedBy>
  <dcterms:modified xsi:type="dcterms:W3CDTF">2004-05-26T15:37:58Z</dcterms:modified>
  <cp:revision>5</cp:revision>
  <dc:subject/>
  <dc:title>European Computer Driving Licence</dc:title>
</cp:coreProperties>
</file>