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png" ContentType="image/png"/>
  <Override PartName="/ppt/media/image11.wmf" ContentType="image/x-wmf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10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80834-204F-4EDE-91C9-C3C5ADAC2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786456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422240"/>
            <a:ext cx="786456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DFD9D-1E28-48C4-B4BF-6DA6A7B5D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1564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4222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15640" y="44222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9AF13-3A4A-47BB-9991-857AD7CBA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45120" y="24098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4440" y="24098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4222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45120" y="44222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4440" y="44222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DA6CF-3BD3-4E6B-A303-8B8BF8A06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D815C-0B2A-40B2-9AFA-8C469A906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2409840"/>
            <a:ext cx="7864560" cy="38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939EA-D1A8-496B-A9C0-5426CFBD7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78645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2EAF3-1424-483A-BFE6-64FD9D3AE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383760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15640" y="2409840"/>
            <a:ext cx="383760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EE314-0FC7-4F4C-9672-DD9401854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31C21-BF52-4F42-8B38-5B784945A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10920" y="1118880"/>
            <a:ext cx="7846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6FEAC-021E-411B-ADD3-DFC693A1B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5640" y="2409840"/>
            <a:ext cx="383760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4222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9A201-755A-41B7-ABFC-A61811378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2409840"/>
            <a:ext cx="7864560" cy="38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74FF7-B2C7-4DB1-84BF-EA3F1533F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383760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1564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15640" y="44222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D1C44-8AC3-48C8-9B69-DA10BED68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1564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422240"/>
            <a:ext cx="786456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3FF6E-0A2F-4AFF-BB27-2514DDD98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786456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422240"/>
            <a:ext cx="786456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4E842-14D1-4611-ACF4-B67FF9EC4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1564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4222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15640" y="44222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A9797-AB75-4400-A9D0-D6FD0B11A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45120" y="24098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04440" y="24098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4222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45120" y="44222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04440" y="44222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22672-E938-4B1E-B394-D0BE25FE5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78645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26CC7-394C-4B97-AE0D-D7900CEFE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383760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15640" y="2409840"/>
            <a:ext cx="383760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F54B2-22B0-4D8E-BAAC-ABD6C5EBD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063BC-870D-4686-9ECD-EC3F1284D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10920" y="1118880"/>
            <a:ext cx="7846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874CE-1BF8-4F9E-BE10-F9E959140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15640" y="2409840"/>
            <a:ext cx="383760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4222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AD3EC-B926-47C5-BC5F-9578255C0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383760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1564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15640" y="44222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CB562-C135-43E4-946B-CCAF8EE43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1564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422240"/>
            <a:ext cx="786456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17692-7145-470C-A02E-964A277FA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409840"/>
            <a:ext cx="78645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6699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33202-8947-4608-8A17-1B98740722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rcRect l="0" t="11681" r="2025" b="0"/>
          <a:stretch/>
        </p:blipFill>
        <p:spPr>
          <a:xfrm>
            <a:off x="0" y="0"/>
            <a:ext cx="9144000" cy="1320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25320" y="1828800"/>
            <a:ext cx="7909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2000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5C32D-A78F-4BD9-A9A7-DC876692FF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30760" y="22320"/>
            <a:ext cx="5313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rcRect l="0" t="11681" r="2025" b="0"/>
          <a:stretch/>
        </p:blipFill>
        <p:spPr>
          <a:xfrm>
            <a:off x="0" y="0"/>
            <a:ext cx="9144000" cy="13208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6600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wmf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25320" y="1828800"/>
            <a:ext cx="7909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European Computer Driving Licence</a:t>
            </a: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623880" y="4572000"/>
            <a:ext cx="79264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Module 3 – Word Processing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Chapter 3.4 – Working With Many Documents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"/>
              </a:rPr>
              <a:t>Using a template – part 1</a:t>
            </a: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440" y="2409840"/>
            <a:ext cx="38559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use a Word template, from the File menu select N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ask Pane app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e </a:t>
            </a: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Templat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ection, select </a:t>
            </a: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On my comput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emplates window will app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the category and then the template you requ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on 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4572000" y="2349360"/>
            <a:ext cx="1595520" cy="20876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5796000" y="4149720"/>
            <a:ext cx="3040200" cy="2035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"/>
              </a:rPr>
              <a:t>Using a template – part 2</a:t>
            </a: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42465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can add your company name, your name etc and save it as a template to be used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on </a:t>
            </a: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Fi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Save A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type in a new name and change the document type to </a:t>
            </a: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Document templ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on </a:t>
            </a: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Sav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 save your customised templ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will appear in the </a:t>
            </a: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Gener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emplates next time you click on </a:t>
            </a: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Fi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New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select a template from your computer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5292720" y="2205000"/>
            <a:ext cx="3578400" cy="23144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5651640" y="4581360"/>
            <a:ext cx="2968560" cy="1987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Arial"/>
              </a:rPr>
              <a:t>Copying text between documents</a:t>
            </a: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2409840"/>
            <a:ext cx="38559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ke sure both documents are o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the text you want to copy and click Copy ic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on the taskbar button for the other docu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e the insertion point to where you want the copied text to app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he Paste ic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Format Paint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 make it look like the rest of the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5148360" y="2349360"/>
            <a:ext cx="2971440" cy="3248280"/>
            <a:chOff x="5148360" y="2349360"/>
            <a:chExt cx="2971440" cy="3248280"/>
          </a:xfrm>
        </p:grpSpPr>
        <p:grpSp>
          <p:nvGrpSpPr>
            <p:cNvPr id="98" name=""/>
            <p:cNvGrpSpPr/>
            <p:nvPr/>
          </p:nvGrpSpPr>
          <p:grpSpPr>
            <a:xfrm>
              <a:off x="5148360" y="2781360"/>
              <a:ext cx="2971440" cy="2428560"/>
              <a:chOff x="5148360" y="2781360"/>
              <a:chExt cx="2971440" cy="2428560"/>
            </a:xfrm>
          </p:grpSpPr>
          <p:pic>
            <p:nvPicPr>
              <p:cNvPr id="99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5148360" y="2781360"/>
                <a:ext cx="2044800" cy="1322640"/>
              </a:xfrm>
              <a:prstGeom prst="rect">
                <a:avLst/>
              </a:prstGeom>
              <a:ln w="12600">
                <a:solidFill>
                  <a:srgbClr val="000000"/>
                </a:solidFill>
                <a:miter/>
              </a:ln>
            </p:spPr>
          </p:pic>
          <p:pic>
            <p:nvPicPr>
              <p:cNvPr id="100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6176880" y="3352680"/>
                <a:ext cx="1942920" cy="1857240"/>
              </a:xfrm>
              <a:prstGeom prst="rect">
                <a:avLst/>
              </a:prstGeom>
              <a:ln w="12600">
                <a:solidFill>
                  <a:srgbClr val="000000"/>
                </a:solidFill>
                <a:miter/>
              </a:ln>
            </p:spPr>
          </p:pic>
        </p:grpSp>
        <p:sp>
          <p:nvSpPr>
            <p:cNvPr id="101" name=""/>
            <p:cNvSpPr/>
            <p:nvPr/>
          </p:nvSpPr>
          <p:spPr>
            <a:xfrm>
              <a:off x="5220000" y="2349360"/>
              <a:ext cx="1369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axtanzania.do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567120" y="5321160"/>
              <a:ext cx="1412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ewitinerary.do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4446720" y="3068640"/>
            <a:ext cx="399960" cy="3808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4427640" y="5084640"/>
            <a:ext cx="419040" cy="3812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5"/>
          <a:stretch/>
        </p:blipFill>
        <p:spPr>
          <a:xfrm>
            <a:off x="4475160" y="6165720"/>
            <a:ext cx="371520" cy="341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"/>
              </a:rPr>
              <a:t>Deleting/Moving text</a:t>
            </a: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440" y="2409840"/>
            <a:ext cx="38559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the text you want to dele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ss the </a:t>
            </a: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Delet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key or the </a:t>
            </a: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Backspa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k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move the text to another document, from the </a:t>
            </a: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Edi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enu select </a:t>
            </a: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C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the second docu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e the insertion point to the required place then select </a:t>
            </a: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Past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rom the </a:t>
            </a: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Edi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e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6227640" y="4508640"/>
            <a:ext cx="1825920" cy="12301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5292720" y="2205000"/>
            <a:ext cx="1660680" cy="216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"/>
              </a:rPr>
              <a:t>Inserting symbols</a:t>
            </a: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440" y="2409840"/>
            <a:ext cx="38559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ve the insertion point to the required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GB" sz="2000" spc="-1" strike="noStrike">
                <a:solidFill>
                  <a:srgbClr val="336699"/>
                </a:solidFill>
                <a:latin typeface="Arial"/>
              </a:rPr>
              <a:t>Insert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menu, select </a:t>
            </a:r>
            <a:r>
              <a:rPr b="1" lang="en-GB" sz="2000" spc="-1" strike="noStrike">
                <a:solidFill>
                  <a:srgbClr val="336699"/>
                </a:solidFill>
                <a:latin typeface="Arial"/>
              </a:rPr>
              <a:t>Symb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 the Font box, select </a:t>
            </a:r>
            <a:r>
              <a:rPr b="1" lang="en-GB" sz="2000" spc="-1" strike="noStrike">
                <a:solidFill>
                  <a:srgbClr val="336699"/>
                </a:solidFill>
                <a:latin typeface="Arial"/>
              </a:rPr>
              <a:t>Wingd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croll down until you see a symbol you lik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lick on it to select it and click on the </a:t>
            </a:r>
            <a:r>
              <a:rPr b="1" lang="en-GB" sz="2000" spc="-1" strike="noStrike">
                <a:solidFill>
                  <a:srgbClr val="336699"/>
                </a:solidFill>
                <a:latin typeface="Arial"/>
              </a:rPr>
              <a:t>Insert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butt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148360" y="2421000"/>
            <a:ext cx="3641760" cy="267336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 flipV="1">
            <a:off x="3851280" y="2987280"/>
            <a:ext cx="1512720" cy="873000"/>
          </a:xfrm>
          <a:prstGeom prst="line">
            <a:avLst/>
          </a:prstGeom>
          <a:ln w="3816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4067280" y="4941720"/>
            <a:ext cx="3529080" cy="648000"/>
          </a:xfrm>
          <a:prstGeom prst="line">
            <a:avLst/>
          </a:prstGeom>
          <a:ln w="3816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"/>
              </a:rPr>
              <a:t>Special Characters</a:t>
            </a: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2409840"/>
            <a:ext cx="38559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e Insert symbol box, click on the </a:t>
            </a: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Special Character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a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list of special characters will app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on the one you want then click on the </a:t>
            </a: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Inser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utt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4716360" y="2349360"/>
            <a:ext cx="4187880" cy="3075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7T23:06:59Z</dcterms:created>
  <dc:creator>Karen Blakeley</dc:creator>
  <dc:description/>
  <dc:language>en-US</dc:language>
  <cp:lastModifiedBy>oliver</cp:lastModifiedBy>
  <dcterms:modified xsi:type="dcterms:W3CDTF">2004-05-26T15:41:41Z</dcterms:modified>
  <cp:revision>6</cp:revision>
  <dc:subject/>
  <dc:title>European Computer Driving Licence</dc:title>
</cp:coreProperties>
</file>