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BE09-DCF5-419B-9DDF-79D9FE632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66D8-E7B0-4A23-8796-3B6C329A5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61C2-7728-4BB4-9DA0-9748791E9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512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444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512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444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A000-D977-4C51-8A7C-9732526C0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F5765-4D46-44A2-B368-010C8343E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9B789-5B91-4240-AF00-7E3811BFC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1C4AE-E93C-4AFB-97D6-3322A1AAC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88C26-2DA2-421E-BF58-C1DF4ED59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116E1-E985-467A-8762-C98A2DF02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10920" y="1118880"/>
            <a:ext cx="784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DD9DD-EB04-42B6-A4D8-8C26FC5AE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EB8D2-8933-4990-8998-850F6A13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34D5-A792-4394-A32C-33DACC00E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75AF6-68F9-4F14-9F42-E0346E13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771AD-525F-4F1D-87D7-653A8615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E0F75-0455-4E84-ABCD-F9301543D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4F344-93BF-4A1A-AAF7-6A37CD885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4512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0444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4512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0444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67D80-404F-4D02-8343-BE1F978FE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C6C1-51F0-45FF-B725-CD78A2C73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9B04-E3BA-4EF5-B068-2E78B5E4E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F8C7-BF7A-44F7-98BC-CECEF2059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10920" y="1118880"/>
            <a:ext cx="784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4463-627E-4F9E-B20E-555392639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6C8B-A385-422E-ACA7-11E4E6CD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2FB0-0ABE-4EB8-885B-FD9758C9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1571-2A06-49A1-9ECC-69B5A8BA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E3DC1-D768-4768-8C29-B8A1F4DCAF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5320" y="1828800"/>
            <a:ext cx="7909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CDBCD-BC88-4661-926D-99465D9251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30760" y="22320"/>
            <a:ext cx="531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5320" y="1828800"/>
            <a:ext cx="7909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European Computer Driving Licence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23880" y="4572000"/>
            <a:ext cx="7926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Module 3 – Word Processing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hapter 3.4 – Working With Many Document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Using a template – part 1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use a Word template, from the File menu select N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ask Pane app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Templat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ction, select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On my compu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mplates window will app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category and then the template you requ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0" y="2349360"/>
            <a:ext cx="1595520" cy="2087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796000" y="4149720"/>
            <a:ext cx="3040200" cy="203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Using a template – part 2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4246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add your company name, your name etc and save it as a template to be used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ave 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type in a new name and change the document type to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Document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save your customised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ill appear in 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Gener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emplates next time you click on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select a template from your comput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292720" y="2205000"/>
            <a:ext cx="3578400" cy="2314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651640" y="4581360"/>
            <a:ext cx="2968560" cy="198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Copying text between documents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ure both documents are 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text you want to copy and click Copy i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taskbar button for the other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insertion point to where you want the copied text to app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Paste i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ormat Pain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make it look like the rest of the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148360" y="2349360"/>
            <a:ext cx="2971440" cy="3248280"/>
            <a:chOff x="5148360" y="2349360"/>
            <a:chExt cx="2971440" cy="3248280"/>
          </a:xfrm>
        </p:grpSpPr>
        <p:grpSp>
          <p:nvGrpSpPr>
            <p:cNvPr id="98" name=""/>
            <p:cNvGrpSpPr/>
            <p:nvPr/>
          </p:nvGrpSpPr>
          <p:grpSpPr>
            <a:xfrm>
              <a:off x="5148360" y="2781360"/>
              <a:ext cx="2971440" cy="2428560"/>
              <a:chOff x="5148360" y="2781360"/>
              <a:chExt cx="2971440" cy="2428560"/>
            </a:xfrm>
          </p:grpSpPr>
          <p:pic>
            <p:nvPicPr>
              <p:cNvPr id="9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148360" y="2781360"/>
                <a:ext cx="2044800" cy="132264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pic>
            <p:nvPicPr>
              <p:cNvPr id="10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176880" y="3352680"/>
                <a:ext cx="1942920" cy="185724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</p:grpSp>
        <p:sp>
          <p:nvSpPr>
            <p:cNvPr id="101" name=""/>
            <p:cNvSpPr/>
            <p:nvPr/>
          </p:nvSpPr>
          <p:spPr>
            <a:xfrm>
              <a:off x="5220000" y="2349360"/>
              <a:ext cx="1369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axtanzania.do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67120" y="5321160"/>
              <a:ext cx="1412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witinerary.do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446720" y="3068640"/>
            <a:ext cx="399960" cy="380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4427640" y="5084640"/>
            <a:ext cx="419040" cy="3812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4475160" y="6165720"/>
            <a:ext cx="371520" cy="34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Deleting/Moving text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text you want to de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s 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Dele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ey or 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Backsp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ove the text to another document, from 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Ed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nu select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C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the second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insertion point to the required place then select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Pas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Ed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227640" y="4508640"/>
            <a:ext cx="1825920" cy="1230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292720" y="2205000"/>
            <a:ext cx="1660680" cy="21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Inserting symbols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ve the insertion point to the required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GB" sz="2000" spc="-1" strike="noStrike">
                <a:solidFill>
                  <a:srgbClr val="336699"/>
                </a:solidFill>
                <a:latin typeface="Arial"/>
              </a:rPr>
              <a:t>Inser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enu, select </a:t>
            </a:r>
            <a:r>
              <a:rPr b="1" lang="en-GB" sz="2000" spc="-1" strike="noStrike">
                <a:solidFill>
                  <a:srgbClr val="336699"/>
                </a:solidFill>
                <a:latin typeface="Arial"/>
              </a:rPr>
              <a:t>Symb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he Font box, select </a:t>
            </a:r>
            <a:r>
              <a:rPr b="1" lang="en-GB" sz="2000" spc="-1" strike="noStrike">
                <a:solidFill>
                  <a:srgbClr val="336699"/>
                </a:solidFill>
                <a:latin typeface="Arial"/>
              </a:rPr>
              <a:t>Wingd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roll down until you see a symbol you li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ick on it to select it and click on the </a:t>
            </a:r>
            <a:r>
              <a:rPr b="1" lang="en-GB" sz="2000" spc="-1" strike="noStrike">
                <a:solidFill>
                  <a:srgbClr val="336699"/>
                </a:solidFill>
                <a:latin typeface="Arial"/>
              </a:rPr>
              <a:t>Inser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148360" y="2421000"/>
            <a:ext cx="3641760" cy="2673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 flipV="1">
            <a:off x="3851280" y="2987280"/>
            <a:ext cx="1512720" cy="873000"/>
          </a:xfrm>
          <a:prstGeom prst="line">
            <a:avLst/>
          </a:prstGeom>
          <a:ln w="381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067280" y="4941720"/>
            <a:ext cx="3529080" cy="648000"/>
          </a:xfrm>
          <a:prstGeom prst="line">
            <a:avLst/>
          </a:prstGeom>
          <a:ln w="381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Special Characters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Insert symbol box, click on 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pecial Charact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list of special characters will app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one you want then click on 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Inse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716360" y="2349360"/>
            <a:ext cx="4187880" cy="307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7T23:06:59Z</dcterms:created>
  <dc:creator>Karen Blakeley</dc:creator>
  <dc:description/>
  <dc:language>en-US</dc:language>
  <cp:lastModifiedBy>oliver</cp:lastModifiedBy>
  <dcterms:modified xsi:type="dcterms:W3CDTF">2004-05-26T15:41:41Z</dcterms:modified>
  <cp:revision>6</cp:revision>
  <dc:subject/>
  <dc:title>European Computer Driving Licence</dc:title>
</cp:coreProperties>
</file>