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B55-053B-4794-A952-5152C902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956-A8C7-4765-A96D-DD86EA9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511-4AF4-424F-B3EC-DE5AB950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8C1-B658-4EC0-9C5D-6DEBD7BF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4A8-E1B7-4955-BBA8-1899D82D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6F7-045A-451C-A24E-91C03A0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13A6-990C-45AA-BC38-5B2B0E2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ED3A-3021-44C1-B0CA-4C1C62A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D2A-5061-4933-A53A-1E0B0CB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9C9-4805-4F3C-975C-0DEF1FD1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1800-04FF-49A0-9710-1DACD77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E89-568B-457C-869D-CD95B88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7205-085C-4099-93CB-795F75B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786-A421-4BD0-B704-B427B43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309C-237D-44DE-AA51-7005887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DA99-0C98-424F-8C5B-2A30DD77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12B-B7C5-4797-B211-BF6428C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D1C-CDD3-4E62-B1FB-A576ED7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B55-BAF7-4B89-8161-DF21985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1BB-DA4D-4F0B-95EB-4DB9D34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D7A-8DF3-41D2-9E03-C8719CA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77E-B1C4-4615-B5C3-D0A9601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22-D472-4488-891E-65DABDB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0AE-D4DC-45C4-AA4A-79428DD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5DC6-C64E-437F-A070-478EC11B6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11D-B5C7-4FBF-B585-A93BF254F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6 - Tab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column width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a column width, move the mouse pointer to the right border of the column until a double arr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change the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a column width to a specific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colum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Colum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next to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referred Wid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d type in measur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1303200" cy="1871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0360" y="3716280"/>
            <a:ext cx="1655640" cy="9558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entring Text Vertically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who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ywhere in the table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ove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ell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middle icon to centre text horizontally and ver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453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final result ….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29936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tab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 the number of columns and row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ty table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203688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4869000"/>
            <a:ext cx="3870360" cy="14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yping text into a tab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first cell, type in tex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next cell on the right, click in it (or press the right arrow key o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the Tab key to move from one cell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if text goes onto more than one line – that will be sorted la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435276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the whole table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click and drag across the whole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a row, click next to the row in the left margin (or click and drag across the 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ect a column, move the pointer above the column until it changes to an arrow then 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ect a cell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e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r triple-click inside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232416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difying Row Heigh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whole table (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ain from the menu and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 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pecify he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measuremen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4290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erging table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erg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7651800" cy="129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entre al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will centre itself within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rmatting text in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(s) you want to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entre or other options of your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ade cells, select the requir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click the colour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82932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Cell Bord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ywhere in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needed to you could change the line width or colour from 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738600" cy="2874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995640" y="4365360"/>
            <a:ext cx="1944720" cy="4316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nd deleting rows and colum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row, click inside the row above where you want the row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row, click inside the row to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 you can insert or delete a column by selecting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946240" cy="167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4475160"/>
            <a:ext cx="2946240" cy="169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1:00Z</dcterms:created>
  <dc:creator/>
  <dc:description/>
  <dc:language>en-US</dc:language>
  <cp:lastModifiedBy/>
  <dcterms:modified xsi:type="dcterms:W3CDTF">2004-05-26T15:53:05Z</dcterms:modified>
  <cp:revision>4</cp:revision>
  <dc:subject/>
  <dc:title>European Computer Driving Licence</dc:title>
</cp:coreProperties>
</file>