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BBD-DCCA-45D8-8475-FC07733D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729-7E1B-44A3-9F24-87301FC6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DBF-37C7-4D3C-9829-B23ACD0E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85C-2A22-4E3A-A081-5B8587FB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C508-E9AD-4B0B-9DDA-72117FDF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B2C8-905F-4BA6-8987-599C3856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54C2-FAD4-4A0C-BCE1-00DD3652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DBA8-1F19-44E5-859C-69D76A3B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E0E6-C48D-445D-8D80-519FBC31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208B-2FDB-438A-B875-067D8703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F222-C7CC-469B-AA7B-934E5846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F65-7DC9-4339-98E9-BECA134B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F532-11D4-4A6C-A6F1-06CC5D2B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3740-5ABF-458D-B518-0F39B3C7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F195-FCF1-4E69-87CF-27B5B2AF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3700-2C0F-4F76-9BEE-68FE08A0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C10F-1411-4940-93D7-83879CB9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D11-AAFC-4130-AE2B-8B1087DB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544-DA4A-4C67-8090-68D3EE3E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E71-98DD-46FC-861C-23D51DCA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737-7A43-4DD6-A033-742823A5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5E7-D321-45BB-B77A-99C55CF1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75E-2A1F-42DF-BF4A-8041B6B5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B18-2731-4C58-B0B8-7E252A60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26A3-2986-43BD-9D24-821EE5C28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7A80-9640-4826-A18E-F39F48597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odule 3 – Word Process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hapter 3.6 - Tabl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hanging column width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a column width, move the mouse pointer to the right border of the column until a double arrow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o change the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a column width to a specific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the colum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Table Propert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Colum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next to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Preferred Widt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nd type in measur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64000" y="4149720"/>
            <a:ext cx="1303200" cy="1871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00360" y="3716280"/>
            <a:ext cx="1655640" cy="95580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entring Text Vertically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409480"/>
            <a:ext cx="38559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whol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anywhere in the table and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4040" y="2409480"/>
            <a:ext cx="38559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mouse pointer over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ell 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middle icon to centre text horizontally and ver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4149720"/>
            <a:ext cx="453708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The final result ….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729936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serting a tabl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sert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in the number of columns and row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pty table will appear on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2036880" cy="244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59280" y="4869000"/>
            <a:ext cx="3870360" cy="14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Typing text into a tabl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 the first cell, type in text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to the next cell on the right, click in it (or press the right arrow key o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use the Tab key to move from one cell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orry if text goes onto more than one line – that will be sorted la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00720" y="2997360"/>
            <a:ext cx="435276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electing Cell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lect the whole table, 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click and drag across the whole 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lect a row, click next to the row in the left margin (or click and drag across the r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elect a column, move the pointer above the column until it changes to an arrow then 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elect a cell select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Sele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Ce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or triple-click inside the c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360" y="4941720"/>
            <a:ext cx="2324160" cy="15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Modifying Row Heigh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whole table (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ain from the menu and 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ow T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pecify he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ype in measurement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342900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Merging table cell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s to be 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erge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5640" y="4149720"/>
            <a:ext cx="7651800" cy="1290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entre al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will centre itself within the selecte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Formatting text in cell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(s) you want to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entre or other options of your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ade cells, select the require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orders and Sh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ha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and click the colour requ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997360"/>
            <a:ext cx="3829320" cy="20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hanging Cell Borde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ywhere in th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and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orders and Sh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or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needed to you could change the line width or colour from 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738600" cy="2874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3995640" y="4365360"/>
            <a:ext cx="1944720" cy="43164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nserting and deleting rows and column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sert a row, click inside the row above where you want the row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ows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lete a row, click inside the row to be de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 you can insert or delete a column by selecting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colum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row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08720" y="2492280"/>
            <a:ext cx="2946240" cy="1677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08720" y="4475160"/>
            <a:ext cx="2946240" cy="169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1:11:00Z</dcterms:created>
  <dc:creator/>
  <dc:description/>
  <dc:language>en-US</dc:language>
  <cp:lastModifiedBy/>
  <dcterms:modified xsi:type="dcterms:W3CDTF">2004-05-26T15:53:05Z</dcterms:modified>
  <cp:revision>4</cp:revision>
  <dc:subject/>
  <dc:title>European Computer Driving Licence</dc:title>
</cp:coreProperties>
</file>