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DDF-87D2-4ECE-B083-690EC226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E77-FB83-4854-AB72-5DC1453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79F-92C3-4AA8-9986-A625418A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B53-E219-4160-A5A9-7FD68290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172-6110-4898-B820-50E6D672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5369-B790-459B-A917-27E4D58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5B95-5FEE-4ECB-B7D2-D4D18A14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50D3-63CA-4EB9-A62E-9C34D34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4F8-AE7E-481D-B767-21CA77A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0EAA-084D-4749-BFD3-4A17751B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1137-30C7-41FE-98BF-6159CD0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FCD-A49E-4BEB-A7A7-15455DF3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755-16A0-4990-9ACE-D89D6DCE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4AA6-C1DF-400D-A739-5129002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AF1-D76E-4A1C-86E6-6B88B742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5487-B1F9-470B-8DCF-4510868B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278-6901-4CBF-A4DC-CA83B705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5B3-17DE-4BC7-8B04-11453F1A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CE7-3BE4-4920-AD83-573A8583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6AA-1ED7-4446-8A04-066DC27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B98-566B-49E0-98B2-251B5DCD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E65-A424-407D-9DC6-5E448C53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0AD-F2B0-4FA1-B171-BB049CC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514-CEA9-4190-ACA5-435F6488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FE17-51C4-43C4-85C4-7081C9B21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593-3468-40F1-8AA8-D26C20670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7 - Headers, Footers and Graphic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char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Excel, open the workbook that contains the chart, select the Chart and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your Word document by clicking on the taskbar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where you want the char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2421000"/>
            <a:ext cx="3240000" cy="2089080"/>
            <a:chOff x="4932360" y="2421000"/>
            <a:chExt cx="3240000" cy="2089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4932360" y="2421000"/>
              <a:ext cx="17146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000920" y="2513160"/>
              <a:ext cx="117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py from 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156000" y="2708280"/>
              <a:ext cx="1152360" cy="66672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67120" y="3789360"/>
            <a:ext cx="3861000" cy="2425680"/>
            <a:chOff x="4767120" y="3789360"/>
            <a:chExt cx="3861000" cy="242568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6012000" y="3789360"/>
              <a:ext cx="261612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508720" y="4292640"/>
              <a:ext cx="1439640" cy="8319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67120" y="4962600"/>
              <a:ext cx="102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te into 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anipulating Char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he chart, click on it once to select it and change the wrapping style like you would with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en drag it to the require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chart, click it on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n your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2305080" cy="213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182760" cy="2808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serting and manipulating ClipAr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102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ipArt pane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a keyword th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mbnails of picture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ne you like – it will be inserted into you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anipulate clipart the same way as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2276640"/>
            <a:ext cx="1360440" cy="33573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5148360" y="3860640"/>
            <a:ext cx="2952360" cy="2054520"/>
            <a:chOff x="5148360" y="3860640"/>
            <a:chExt cx="2952360" cy="205452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5148360" y="3933720"/>
              <a:ext cx="15253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H="1">
              <a:off x="6300360" y="3860640"/>
              <a:ext cx="1800360" cy="18003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the Help system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get stuck on something use Microsoft Word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Hel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Microsoft Word Hel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or press F1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a few words into the Search text box and 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G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d will search its Help database and display (hopefully) the right topic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display more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1990800" cy="1433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1214640" cy="34578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149720"/>
            <a:ext cx="1536480" cy="1459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157" name=""/>
          <p:cNvSpPr/>
          <p:nvPr/>
        </p:nvSpPr>
        <p:spPr>
          <a:xfrm flipV="1">
            <a:off x="2916360" y="3079440"/>
            <a:ext cx="1726920" cy="9968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eleting a page break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Norm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sition the cursor before the page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Print Layout 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lick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how/Hide ic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the cursor before the page break and press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24360" y="2349360"/>
            <a:ext cx="4622760" cy="1895760"/>
            <a:chOff x="3924360" y="2349360"/>
            <a:chExt cx="4622760" cy="18957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5003640" y="2349360"/>
              <a:ext cx="3543480" cy="189576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sp>
          <p:nvSpPr>
            <p:cNvPr id="162" name=""/>
            <p:cNvSpPr/>
            <p:nvPr/>
          </p:nvSpPr>
          <p:spPr>
            <a:xfrm>
              <a:off x="3924360" y="3068640"/>
              <a:ext cx="107928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040360" y="4600440"/>
            <a:ext cx="3506760" cy="9637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a header or foo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063520"/>
            <a:ext cx="3855960" cy="30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Header and 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der and Footer toolbar app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sor will be positioned in the head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Footer area, click on the Switch between Header and Footer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2060280"/>
            <a:ext cx="38559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type i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inser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GB" sz="1600" spc="-1" strike="noStrike">
                <a:solidFill>
                  <a:srgbClr val="336699"/>
                </a:solidFill>
                <a:latin typeface="Arial"/>
              </a:rPr>
              <a:t>Insert Autotext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to see some of the option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o insert a page number click on the page number ic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line up text using the default tabs or set you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go back to you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19280" y="4987800"/>
            <a:ext cx="6624720" cy="1470240"/>
            <a:chOff x="1619280" y="4987800"/>
            <a:chExt cx="6624720" cy="147024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0" t="7999" r="16750" b="0"/>
            <a:stretch/>
          </p:blipFill>
          <p:spPr>
            <a:xfrm>
              <a:off x="2124000" y="4987800"/>
              <a:ext cx="612000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979640" y="5661000"/>
              <a:ext cx="576360" cy="5763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640" y="5589720"/>
              <a:ext cx="502920" cy="503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2360" y="5589720"/>
              <a:ext cx="0" cy="503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04000" y="5661000"/>
              <a:ext cx="0" cy="4320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619280" y="5229360"/>
              <a:ext cx="6141960" cy="459000"/>
              <a:chOff x="1619280" y="5229360"/>
              <a:chExt cx="6141960" cy="459000"/>
            </a:xfrm>
          </p:grpSpPr>
          <p:sp>
            <p:nvSpPr>
              <p:cNvPr id="97" name=""/>
              <p:cNvSpPr/>
              <p:nvPr/>
            </p:nvSpPr>
            <p:spPr>
              <a:xfrm>
                <a:off x="1619280" y="5229360"/>
                <a:ext cx="136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ert file location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32000" y="5229360"/>
                <a:ext cx="124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ert page nu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0" y="5229360"/>
                <a:ext cx="97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ert D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56360" y="5229360"/>
                <a:ext cx="160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witch between Header and Foo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serting a page break/Using Zoo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 new page 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dialogue box that appears ensur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ge Bre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elected,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 arrow beside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 smaller number will display more of the page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 larger number will make the text display much la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4954680"/>
            <a:ext cx="1548000" cy="162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9151" b="0"/>
          <a:stretch/>
        </p:blipFill>
        <p:spPr>
          <a:xfrm>
            <a:off x="7740720" y="4797360"/>
            <a:ext cx="64764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the page display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ge will display without margins showing – page breaks show as a dash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int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the margin areas but you can only see one pag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932360" y="4456080"/>
            <a:ext cx="3263760" cy="1565280"/>
            <a:chOff x="4932360" y="4456080"/>
            <a:chExt cx="3263760" cy="15652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4932360" y="5013360"/>
              <a:ext cx="32637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200920" y="445608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nt Layout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360" y="2440080"/>
            <a:ext cx="3252960" cy="1812960"/>
            <a:chOff x="4932360" y="2440080"/>
            <a:chExt cx="3252960" cy="18129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932360" y="3068640"/>
              <a:ext cx="32529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128560" y="2440080"/>
              <a:ext cx="23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rmal Layout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aving a document for the Web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Web Lay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document will show on screen exactly as if it was being displayed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ave the document in web format,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ave 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ave as 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x and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Web Page (*.htm; *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69720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mporting graphic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picture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Pictures folder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icture you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3564000" cy="23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Resizing an imag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icture to select it – a black border with black square handle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the bottom right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wards the top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on as you release the mouse button, the picture will change siz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ze from the corners to avoid distorting the pict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255840" cy="249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92720" y="4797360"/>
            <a:ext cx="26020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oving an imag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icture has black handles, it cannot be 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an move it you need to change the wrap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ble click the pictu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rmat Pi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indow appears, click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Layo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either Square or Tight, 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he picture, move the mouse pointer to the middle of the picture an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to its new loc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3313080" cy="2211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230508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pying or deleting an imag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a picture, click it on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copy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picture click it on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n your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5084640"/>
            <a:ext cx="6346800" cy="13892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9:13:38Z</dcterms:created>
  <dc:creator/>
  <dc:description/>
  <dc:language>en-US</dc:language>
  <cp:lastModifiedBy/>
  <dcterms:modified xsi:type="dcterms:W3CDTF">2004-05-26T15:58:48Z</dcterms:modified>
  <cp:revision>6</cp:revision>
  <dc:subject/>
  <dc:title>European Computer Driving Licence</dc:title>
</cp:coreProperties>
</file>