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816-7F77-41BF-AE42-C2CB75D6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986-4FEE-4EA5-BC69-E81FAF7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E95-C03A-4427-8DD0-607FF5E9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D3F-6C8F-4D2B-A179-8018C55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DFC6-BC50-46F5-8FCB-200C8268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215-B2A1-4BC2-B298-E4BE5A3F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9933-DC4E-403A-BB18-6FCFB3B6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0D6-6FA6-4E94-8F07-821B10B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EFCF-437A-49CF-AFD0-87C8BC35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3B30-555C-4D00-A52C-514B0B7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3DA5-E59A-4207-8923-C37FA3A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CDB-8527-4B50-B683-A5B090D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F06-6450-4DBD-AAAF-07E8570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DDE-4EED-4E1F-8B89-7381D03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38A-BD54-4825-9CCC-B4C269E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86B-4104-4C20-BD4A-9326718C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81A-204E-4E7F-BA19-521144C8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182-15F8-4AFF-9194-CE907A3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B04-1E0D-4EF4-BA5B-4B516D0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D3E-15CE-4351-AFF5-EFA1471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675-0370-4997-9BC0-54497538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3D4-E0A1-42BB-A507-6F5FE15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F82-F2DC-4575-B021-F052B6B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90B-3BB9-441B-ADA9-7B31BD0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9864-FB6A-44C1-A361-C0BDA4993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AA40-946A-427D-96DC-3181BE71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7 - Headers, Footers and Graphic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char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Excel, open the workbook that contains the chart, select the Chart and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Word document by clicking on the taskba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where you want the char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2421000"/>
            <a:ext cx="3240000" cy="2089080"/>
            <a:chOff x="4932360" y="2421000"/>
            <a:chExt cx="3240000" cy="2089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4932360" y="2421000"/>
              <a:ext cx="1714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00920" y="2513160"/>
              <a:ext cx="117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py from 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56000" y="2708280"/>
              <a:ext cx="1152360" cy="6667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67120" y="3789360"/>
            <a:ext cx="3861000" cy="2425680"/>
            <a:chOff x="4767120" y="3789360"/>
            <a:chExt cx="3861000" cy="242568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012000" y="3789360"/>
              <a:ext cx="261612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508720" y="4292640"/>
              <a:ext cx="1439640" cy="8319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67120" y="4962600"/>
              <a:ext cx="1028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te into 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anipulating Char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chart, click on it once to select it and change the wrapping style like you would with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drag it to the requir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chart,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2305080" cy="213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182760" cy="280836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nd manipulating ClipAr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ipArt pane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keyword th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mbnails of picture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ne you like – it will be inserted in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nipulate clipart the same way as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2276640"/>
            <a:ext cx="136044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5148360" y="3860640"/>
            <a:ext cx="2952360" cy="2054520"/>
            <a:chOff x="5148360" y="3860640"/>
            <a:chExt cx="2952360" cy="205452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5148360" y="3933720"/>
              <a:ext cx="15253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H="1">
              <a:off x="6300360" y="3860640"/>
              <a:ext cx="1800360" cy="18003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the Help system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get stuck on something use Microsoft Word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Hel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Microsoft Word Hel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or press F1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a few words into the Search text box and 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G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d will search its Help database and display (hopefully) the right topic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isplay more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1990800" cy="1433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24360" y="2852640"/>
            <a:ext cx="1214640" cy="34578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149720"/>
            <a:ext cx="1536480" cy="1459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157" name=""/>
          <p:cNvSpPr/>
          <p:nvPr/>
        </p:nvSpPr>
        <p:spPr>
          <a:xfrm flipV="1">
            <a:off x="2916360" y="3079440"/>
            <a:ext cx="1726920" cy="9968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leting a page break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Norm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sition the cursor before the page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Print Layout 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lick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how/Hide ic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the cursor before the page break and press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24360" y="2349360"/>
            <a:ext cx="4622760" cy="1895760"/>
            <a:chOff x="3924360" y="2349360"/>
            <a:chExt cx="4622760" cy="18957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003640" y="2349360"/>
              <a:ext cx="3543480" cy="1895760"/>
            </a:xfrm>
            <a:prstGeom prst="rect">
              <a:avLst/>
            </a:prstGeom>
            <a:ln w="38160">
              <a:solidFill>
                <a:srgbClr val="336699"/>
              </a:solidFill>
              <a:miter/>
            </a:ln>
          </p:spPr>
        </p:pic>
        <p:sp>
          <p:nvSpPr>
            <p:cNvPr id="162" name=""/>
            <p:cNvSpPr/>
            <p:nvPr/>
          </p:nvSpPr>
          <p:spPr>
            <a:xfrm>
              <a:off x="3924360" y="3068640"/>
              <a:ext cx="1079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040360" y="4600440"/>
            <a:ext cx="3506760" cy="9637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header or foo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63520"/>
            <a:ext cx="3855960" cy="30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der and Footer toolbar app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sor will be positioned in the head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Footer area, click on the Switch between Header and Foote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060280"/>
            <a:ext cx="38559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type i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inser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i="1" lang="en-GB" sz="1600" spc="-1" strike="noStrike">
                <a:solidFill>
                  <a:srgbClr val="336699"/>
                </a:solidFill>
                <a:latin typeface="Arial"/>
              </a:rPr>
              <a:t>Insert Autotext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to see some of the option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o insert a page number click on the page number ic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line up text using the default tabs or set you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go back 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19280" y="4987800"/>
            <a:ext cx="6624720" cy="1470240"/>
            <a:chOff x="1619280" y="4987800"/>
            <a:chExt cx="6624720" cy="14702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0" t="7999" r="16750" b="0"/>
            <a:stretch/>
          </p:blipFill>
          <p:spPr>
            <a:xfrm>
              <a:off x="2124000" y="4987800"/>
              <a:ext cx="61200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979640" y="5661000"/>
              <a:ext cx="576360" cy="57636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5589720"/>
              <a:ext cx="502920" cy="50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5589720"/>
              <a:ext cx="0" cy="5032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04000" y="5661000"/>
              <a:ext cx="0" cy="4320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619280" y="5229360"/>
              <a:ext cx="6141960" cy="459000"/>
              <a:chOff x="1619280" y="5229360"/>
              <a:chExt cx="6141960" cy="459000"/>
            </a:xfrm>
          </p:grpSpPr>
          <p:sp>
            <p:nvSpPr>
              <p:cNvPr id="97" name=""/>
              <p:cNvSpPr/>
              <p:nvPr/>
            </p:nvSpPr>
            <p:spPr>
              <a:xfrm>
                <a:off x="1619280" y="5229360"/>
                <a:ext cx="136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file location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32000" y="5229360"/>
                <a:ext cx="124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page nu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0" y="5229360"/>
                <a:ext cx="97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sert D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56360" y="5229360"/>
                <a:ext cx="1604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witch between Header and Foo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 page break/Using Zoo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new page 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dialogue box that appears ensur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ge Bre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elected,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 arrow beside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smaller number will display more of the page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 larger number will make the text display much la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4954680"/>
            <a:ext cx="1548000" cy="162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9151" b="0"/>
          <a:stretch/>
        </p:blipFill>
        <p:spPr>
          <a:xfrm>
            <a:off x="7740720" y="4797360"/>
            <a:ext cx="64764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the page display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ge will display without margins showing – page breaks show as a dash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t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the margin areas but you can only see one pag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932360" y="4456080"/>
            <a:ext cx="3263760" cy="1565280"/>
            <a:chOff x="4932360" y="4456080"/>
            <a:chExt cx="3263760" cy="15652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4932360" y="5013360"/>
              <a:ext cx="32637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200920" y="445608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nt Layout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360" y="2440080"/>
            <a:ext cx="3252960" cy="1812960"/>
            <a:chOff x="4932360" y="2440080"/>
            <a:chExt cx="3252960" cy="18129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932360" y="3068640"/>
              <a:ext cx="32529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128560" y="2440080"/>
              <a:ext cx="23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rmal Layout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a document for the Web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eb Lay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document will show on screen exactly as if it was being displayed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ave the document in web format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ave as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x and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eb Page (*.htm; *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69720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mporting graphic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picture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ro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Pictures folder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icture you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3564000" cy="23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Resiz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icture to select it – a black border with black square handle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bottom right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wards the top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you release the mouse button, the picture will change s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ze from the corners to avoid distorting the pi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255840" cy="24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92720" y="4797360"/>
            <a:ext cx="260208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v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icture has black handles, it cannot be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an move it you need to change the wrapping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 click the pic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rmat Pi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indow appears, click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Layo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either Square or Tight,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picture, move the mouse pointer to the middle of the picture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to its new loc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3313080" cy="2211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230508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or deleting an imag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 picture,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y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picture click it on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5084640"/>
            <a:ext cx="6346800" cy="13892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9:13:38Z</dcterms:created>
  <dc:creator/>
  <dc:description/>
  <dc:language>en-US</dc:language>
  <cp:lastModifiedBy/>
  <dcterms:modified xsi:type="dcterms:W3CDTF">2004-05-26T15:58:48Z</dcterms:modified>
  <cp:revision>6</cp:revision>
  <dc:subject/>
  <dc:title>European Computer Driving Licence</dc:title>
</cp:coreProperties>
</file>