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2C7-58C8-48B5-BF08-A74780A2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31C-FCEE-464C-A6A6-4672C385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FFB-9659-4DCD-A75A-492B43CE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C8D-12E4-4435-81A7-0AE1FECE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2BB5-FAF9-4455-9514-ED13F5A9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A8E2-7BB1-4896-A7B2-89B719C6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F353-6A90-4B18-B125-B7896683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522D-618C-4EFA-BF92-7F251C8C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9032-83AB-439D-A406-5FE15D95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FAA8-0EB7-41EA-AB49-C439FC95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F49D-97B4-4077-AB51-2640F57F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865-65DF-40FA-AAE1-664DC8BC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A469-62CB-4B96-AD40-52EC71AE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48D4-FBB4-4734-9A02-07A6907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13FC-1603-4012-8693-FBF08432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8675-A8D5-4859-8061-BBB35EE1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122E-7D1C-419F-BCB9-0434A889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A8A-85DB-497F-A46E-D90C400A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77E-0430-47E6-AD7F-B13060A2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D4A-2E04-4C99-B015-F1A3921F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5FD-8599-4A42-9E77-EA3C0907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349-8E8F-41ED-83BD-BE3F5570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5D6-74E0-4A8A-BF67-BCF2A732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D07-5E18-4A23-8624-5E884831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1871-53E0-428C-B363-8AB7BF74D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4070-6218-46DB-93C5-9582BF938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apter 3.8 – Mail Mer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3 – Creating a new lis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420640"/>
            <a:ext cx="38559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Mail Merge recip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ofread to make sure the information is accurate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you need to make any changes, click in the row required then click o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Edi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ke any changes and click O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l Merge recipients window will appear again –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bottom of the task pane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xt:  Write your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293688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4 – Write your lette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ow need to insert the names and addresses from your data file into the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me and address and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Address B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Task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 Address B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suitable format for the recipient's name and set the other options –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1162080" cy="187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16720" y="2852640"/>
            <a:ext cx="233352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4 – Write your lette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030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the first line of the letter (eg Dear Mrs Co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Greeting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ask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Greeting line format that uses the first name then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e Enter key so that there is a clear line space between the Greeting line and the first paragraph of the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Next: Preview your let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bottom of the Task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32360" y="3141720"/>
            <a:ext cx="38480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5 – Previewing the lette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see a preview of the first of your letters with the Address Block and Greeting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Arrow button next to the right of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cipient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eview the othe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xt:  Complete the me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ove to the final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468520" cy="334656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tep 6 – Completing the merge (1)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dit Individual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erge to New Document dialogue box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document automatically appears with the file nam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Letter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first edit your individual letters to make sure the layout is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1192320" cy="180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3268440" cy="3090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3708360" y="3429000"/>
            <a:ext cx="1800360" cy="144000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tep 6 – Completing the merge (2)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first letter just before Postcode and press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with the othe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give the final merged document a file name,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then print out the final mail mer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all open documents and save any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716360" y="2349360"/>
            <a:ext cx="3483000" cy="4133880"/>
            <a:chOff x="4716360" y="2349360"/>
            <a:chExt cx="3483000" cy="413388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788000" y="2349360"/>
              <a:ext cx="2449440" cy="2038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5364000" y="2781360"/>
              <a:ext cx="2390760" cy="1981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5867280" y="3141720"/>
              <a:ext cx="2332080" cy="196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5651640" y="3716280"/>
              <a:ext cx="2369880" cy="17067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5219640" y="4076640"/>
              <a:ext cx="2292480" cy="1805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4716360" y="4581360"/>
              <a:ext cx="2332080" cy="1901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reating mailing label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now use the same data source to create labels rather than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New Blank Document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To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Letters and Mail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Mail 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labels option before clicking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Next:  Starting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2781360"/>
            <a:ext cx="200016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etting up the labels documen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hange document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lick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Labe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bel products text box, select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Avery A4 and A5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roduct Number section, scroll down and click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L715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the product number of the labels you will be u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32360" y="2852640"/>
            <a:ext cx="3666960" cy="26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electing Recipient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276640"/>
            <a:ext cx="41734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grid of label outlines will show on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Next: Selec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use the data file you have already created, select </a:t>
            </a: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Use an existing li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click on </a:t>
            </a: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Brow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Select Data Sour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dow will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uble-click on the file required (e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nzaniaTrip.md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Mail Merge Recipi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dow will appear –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Next:  Arrange your 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03640" y="2205000"/>
            <a:ext cx="3097440" cy="2025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12000" y="4149720"/>
            <a:ext cx="280800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anually inserting data field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an using the Address block you can insert fields ma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More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nsert Merge Fie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ach of the fields required followed by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ncel button will change to Close - click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turn to your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261936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What is mail merge?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 merge is very useful if you want to send the same letter to a number of different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nd address can be inserted from a database or spreadshee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d result will look like each letter has been individually typ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the address list to create envelopes or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35640" y="2852640"/>
            <a:ext cx="3087720" cy="27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pdating Label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ields have no spacing 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the insertion point to between Title and First Name and press the space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space between First Name and 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e Enter key after Last Name and the rest of th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Update lab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nsure that the labels all have the same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2565360" cy="80964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1668600" cy="131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reviewing and Printing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Next:  Preview your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bels will appear 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Next:  Complete the 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inal Task Pane click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dit Individual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erge to new documents window, select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lick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076720" y="5013360"/>
            <a:ext cx="2995560" cy="110808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w document appears 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e the document using a sensible file name (eg </a:t>
            </a:r>
            <a:r>
              <a:rPr b="1" lang="en-GB" sz="2000" spc="-1" strike="noStrike">
                <a:solidFill>
                  <a:srgbClr val="006699"/>
                </a:solidFill>
                <a:latin typeface="Arial"/>
              </a:rPr>
              <a:t>TanzaniaLabe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, load the labels sheet into the printer and click on the </a:t>
            </a:r>
            <a:r>
              <a:rPr b="1" lang="en-GB" sz="2000" spc="-1" strike="noStrike">
                <a:solidFill>
                  <a:srgbClr val="006699"/>
                </a:solidFill>
                <a:latin typeface="Arial"/>
              </a:rPr>
              <a:t>pr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reating the lette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5902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ix steps involved in setting up a mail 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Step 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Select the type of docu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Step 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Set up and display the docu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Step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Select Recipi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Step 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Writing the lett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Step 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Previewing the lett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Step 6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Completing the merg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446640" cy="16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8469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tep 1 – Select the type of documen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ocument to be used for the mail 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main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o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Letters and Mail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ail Me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ail Merge wizard in X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xt: Starting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ow be taken to 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1471680" cy="41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2 – Setting up your lette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102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already have the document open that you want to work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Use current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xt: Select Recip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ove on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54239"/>
          <a:stretch/>
        </p:blipFill>
        <p:spPr>
          <a:xfrm>
            <a:off x="5651640" y="2421000"/>
            <a:ext cx="272880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3 –Selecting recipient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ow have the choice of using an existing data file such as a database table or a spread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Use existing 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use an existing dat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 to the location that contains the dat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will appear in a Mail Merge Recipients box as described at the end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246240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3 – Creating a new lis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2421000"/>
            <a:ext cx="38559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reate a new list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ype a new 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tion and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w Add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form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move fields you don’t need click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ustomi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field name and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rename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Zip Co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Post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1274760" cy="172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33145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3 – Creating a new lis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that you’re back in the New Address list box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w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data required and use the Tab key to move from one text box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have typed in your first address entry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w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’ve typed in the final entry,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32360" y="2795760"/>
            <a:ext cx="3851280" cy="31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3 – Creating a new lis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 Address 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ess you choose otherwise, the address list will be saved as a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cess data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folder calle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y Data Sou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id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y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 the file name box and type in a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65436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2:29:37Z</dcterms:created>
  <dc:creator>Karen Blakeley</dc:creator>
  <dc:description/>
  <dc:language>en-US</dc:language>
  <cp:lastModifiedBy>oliver</cp:lastModifiedBy>
  <dcterms:modified xsi:type="dcterms:W3CDTF">2004-05-26T16:08:33Z</dcterms:modified>
  <cp:revision>12</cp:revision>
  <dc:subject/>
  <dc:title>European Computer Driving Licence</dc:title>
</cp:coreProperties>
</file>