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E9E-210A-49BC-96C2-0FB2356E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1F5-3351-473F-9E95-387E8FB0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10A-0715-4FEF-8CD5-4FF19B3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44C-B47C-452F-A84D-1915FA3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BDCA-F6DD-4454-9A76-0E11D84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D9B7-FC44-4203-BE10-18793724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DFBB-290D-45D8-B547-BF0BE2E5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F1E6-8C6C-4EE1-AA00-D161EEF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843A-36AB-4820-945F-277714C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30C-CE4A-4630-9749-0CAE59D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C3EE-7657-4814-ADE8-A9DF4E0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A49-8CAE-4F00-88EF-0C07A5FA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F30-EEFC-4CBF-823A-5C3287D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2D84-FB60-4046-920C-21975D9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5D9-0CFA-4261-8756-6AD4A7E2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7A7A-4429-4C7A-976C-9E61EA8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512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4440" y="24098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512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4440" y="4422240"/>
            <a:ext cx="253224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B39D-F5FD-40B2-A53E-14F6C797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C20-43F9-40E1-92FC-16C134F0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102-F0FC-459F-9D58-43E71BDF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562-F1E3-4A8D-AAFC-95ABD35E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1118880"/>
            <a:ext cx="784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4D4-D17E-4A3E-8F57-FCD2ECD3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DBF-DC3E-414A-AFB0-77825F5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44222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0B5-1D89-48C4-81C7-734EF65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2409840"/>
            <a:ext cx="383760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2240"/>
            <a:ext cx="7864560" cy="18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B68-EFBD-4CCE-A7A0-05BD2725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09840"/>
            <a:ext cx="78645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265-63D4-45E7-A37D-1AD2C4D26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A2D-0085-4894-A361-20858E7C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30760" y="22320"/>
            <a:ext cx="53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11681" r="2025" b="0"/>
          <a:stretch/>
        </p:blipFill>
        <p:spPr>
          <a:xfrm>
            <a:off x="0" y="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5320" y="1828800"/>
            <a:ext cx="790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uropean Computer Driving Licenc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3880" y="4572000"/>
            <a:ext cx="7926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dule 3 – Word Proce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pter 3.8 – Mail Mer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38559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il Merge recip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ofread to make sure the information is accurate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you need to make any changes, click in the row required then click on the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Ed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ke any changes and click O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l Merge recipients window will appear again –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bottom of the task pane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 Write your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29368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4 – Write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ow need to insert the names and addresses from your data file into th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 and address and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ddress 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Insert Address 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suitable format for the recipient's name and set the other options –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116208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233352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4 – Write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4030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 the first line of the letter (eg Dear Mrs Co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Greeting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Greeting line format that uses the first name then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so that there is a clear line space between the Greeting line and the first paragraph of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xt: Preview your let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bottom of the Task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8480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5 – Previewing the let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see a preview of the first of your letters with the Address Block and Greeting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Arrow button next to the right of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cipien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eview the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 Complete the 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ve to the fina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468520" cy="334656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6 – Completing the merge (1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dit Individu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rge to New Document dialogue box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document automatically appears with the file nam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first edit your individual letters to make sure the layout i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1192320" cy="180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3268440" cy="3090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3708360" y="3429000"/>
            <a:ext cx="1800360" cy="144000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6 – Completing the merge (2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rst letter just before Postcode and press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with the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give the final merged document a file name,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then print out the final mail mer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all open documents and save an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716360" y="2349360"/>
            <a:ext cx="3483000" cy="4133880"/>
            <a:chOff x="4716360" y="2349360"/>
            <a:chExt cx="3483000" cy="41338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788000" y="2349360"/>
              <a:ext cx="2449440" cy="2038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364000" y="2781360"/>
              <a:ext cx="2390760" cy="1981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332080" cy="1962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5651640" y="3716280"/>
              <a:ext cx="2369880" cy="1706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5219640" y="4076640"/>
              <a:ext cx="2292480" cy="18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716360" y="4581360"/>
              <a:ext cx="2332080" cy="1901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mailing labe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now use the same data source to create labels rather than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New Blank Document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etters and Mail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il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abels option before clicking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Star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00016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tting up the labels documen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hange document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abe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el products text box, 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very A4 and A5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oduct Number section, scroll down and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L715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the product number of the labels you will be 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366696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electing Recipie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41734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grid of label outlines will show on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Next: Selec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the data file you have already created, select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Use an existing 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click on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Select Data Sour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dow will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-click on the file required (e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nzaniaTrip.md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Mail Merge Recipi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dow will appear – click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GB" sz="1800" spc="-1" strike="noStrike">
                <a:solidFill>
                  <a:srgbClr val="006699"/>
                </a:solidFill>
                <a:latin typeface="Arial"/>
              </a:rPr>
              <a:t>Next:  Arrange your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097440" cy="2025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80800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anually inserting data field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using the Address block you can insert fields ma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or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sert Merge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logue box 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ach of the fields required followed by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ncel button will change to Close -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turn to you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61936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hat is mail merge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merge is very useful if you want to send the same letter to a number of differen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nd address can be inserted from a database or spreadshee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result will look like each letter has been individually typ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address list to create envelopes o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308772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Updating Label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ields have no spacing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he insertion point to between Title and First Name and press the space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space between First Name and 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he Enter key after Last Name and the rest of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Update lab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nsure that the labels all have the sam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565360" cy="80964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166860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reviewing and Printing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Preview your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bels will appear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xt:  Complete the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nal Task Pane click on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dit Individual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erge to new documents window, select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76720" y="5013360"/>
            <a:ext cx="2995560" cy="1108080"/>
          </a:xfrm>
          <a:prstGeom prst="rect">
            <a:avLst/>
          </a:prstGeom>
          <a:ln w="38160">
            <a:solidFill>
              <a:srgbClr val="006699"/>
            </a:solidFill>
            <a:miter/>
          </a:ln>
        </p:spPr>
      </p:pic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0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w document appears on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the document using a sensible file name (eg </a:t>
            </a: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TanzaniaLabe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load the labels sheet into the printer and click on the </a:t>
            </a: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pr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Creating the letter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59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steps involved in setting up a mail 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lect the type of docu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t up and display the docu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Select Recipi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Writing the lett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Previewing the let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BulletBalls AOE"/>
              <a:buChar char=",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Step 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Completing the merg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46640" cy="16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846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tep 1 – Select the type of documen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ocument to be used for the mail 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main menu,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 and Mail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ail 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il Merge wizard in X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Star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ow be taken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471680" cy="41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2 – Setting up your lette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41022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already have the document open that you want to work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se curren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xt: Select Recip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ve on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54239"/>
          <a:stretch/>
        </p:blipFill>
        <p:spPr>
          <a:xfrm>
            <a:off x="5651640" y="2421000"/>
            <a:ext cx="27288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Selecting recipient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ow have the choice of using an existing data file such as a database table or a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Use existing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se an existing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to the location that contains the dat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will appear in a Mail Merge Recipients box as described at the end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4624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38559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new list selec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ype a new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tion and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form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move fields you don’t need 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ustom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field name and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rename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Zip C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Pos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1274760" cy="172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33145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that you’re back in the New Address list box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 the data required and use the Tab key to move from one text box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have typed in your first address entry click o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New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’ve typed in the final entry, click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2795760"/>
            <a:ext cx="385128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1888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Step 3 – Creating a new lis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409840"/>
            <a:ext cx="385596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 Address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hoose otherwise, the address list will be saved as a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cess data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folder call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y Data 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in the file name box and type in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BulletBalls AOE"/>
              <a:buChar char="Z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65436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2:29:37Z</dcterms:created>
  <dc:creator>Karen Blakeley</dc:creator>
  <dc:description/>
  <dc:language>en-US</dc:language>
  <cp:lastModifiedBy>oliver</cp:lastModifiedBy>
  <dcterms:modified xsi:type="dcterms:W3CDTF">2004-05-26T16:08:33Z</dcterms:modified>
  <cp:revision>12</cp:revision>
  <dc:subject/>
  <dc:title>European Computer Driving Licence</dc:title>
</cp:coreProperties>
</file>