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DB5-4EE3-4D21-8721-FA002202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609-DD8C-4D0F-8BE6-395599AB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484-3854-4AFA-B378-89D6A2AC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76E-D212-42D6-9130-F4F27672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F48F-2ABC-4F6A-9D68-568CA0B8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A949-3FBC-4327-ADC0-141F97C1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CD97-EB4A-465D-8FAE-39602EF6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1C8A-1E21-4622-9D82-D4C49D00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C26F-CC29-480C-99F9-EF1A8F43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9140-641C-4A78-9EE2-77E8D5B1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C3C3-7C19-4092-96AD-8C28FB36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C70-94BD-4DEA-958A-9C08EBD5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22D1-9366-4F0B-B2ED-B8F6BFA6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332A-410E-46D8-A40E-C8A4D199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60B6-E5A5-465C-92A0-4E182A21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E354-FC0B-4DF3-B8E1-AC457BE2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F8D8-4392-4002-A394-3E14C437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E61-76AC-4718-B23D-6332A519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293-CD78-453C-A27A-7EDB9B3E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729-757B-408F-9E31-FA35E92D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725-3011-4101-8B92-D608BEFC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9C4-E59A-45BB-99E4-7DB1EDF0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BCD-75E0-44A6-A186-48B8EDA4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CAA-E05E-4BF1-A5C5-6C60D619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F865-2752-4036-9A18-CDF728F82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1EC7-CF72-47A3-92B9-D5CE2ACFB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pter 4.1 – First Step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tering data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38163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cell where you want the data to appear and type in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ype data into the next cell, press the right arrow key (or click in the 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pres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he active cell will move to the cell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ow 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tomatic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igned to the left of the cell and numbers are aligned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you type in text Excel may type in a previous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arry on typing this will dis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3384360" cy="21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diting data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ick on the cell to be chang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cell contents will appear in the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ormula ba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ve the insertion point to the appropriate pla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Backspac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let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o delete text or type in text to be insert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key to confirm the chang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ick on the cell to be chang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ype in the new text and press the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old text will disappear and be replaced by your new text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4941720"/>
            <a:ext cx="2233800" cy="1395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708360" y="4437000"/>
            <a:ext cx="324000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Deleting Data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the cell (or click and drag to highlight the cells to be dele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acksp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ele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tents of the cell will be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1971720" cy="6048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5867280" y="2997360"/>
            <a:ext cx="2313000" cy="1741320"/>
            <a:chOff x="5867280" y="2997360"/>
            <a:chExt cx="2313000" cy="174132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5867280" y="3500280"/>
              <a:ext cx="231300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867280" y="2997360"/>
              <a:ext cx="1009800" cy="14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serting/deleting rows &amp; colum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2409840"/>
            <a:ext cx="40734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delete a row,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the row number and left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ee be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sert a row,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row number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sert a spreadsheet title, highlight row 1, right click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ype the title in the top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to insert or delet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lum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right click the column header and select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ser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ele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2664000" cy="3502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95640" y="2708280"/>
            <a:ext cx="1297080" cy="749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3141720"/>
            <a:ext cx="2665080" cy="153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aving your work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main menu,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click o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ton on the standard toolb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right location is displayed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 suitable filename (e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idayDay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to save the work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211640" cy="275436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5868360" y="4437000"/>
            <a:ext cx="2638800" cy="482760"/>
            <a:chOff x="5868360" y="4437000"/>
            <a:chExt cx="2638800" cy="482760"/>
          </a:xfrm>
        </p:grpSpPr>
        <p:sp>
          <p:nvSpPr>
            <p:cNvPr id="158" name=""/>
            <p:cNvSpPr/>
            <p:nvPr/>
          </p:nvSpPr>
          <p:spPr>
            <a:xfrm>
              <a:off x="5868360" y="443700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Workbook 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3080" y="443700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ave but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267600" y="4703760"/>
              <a:ext cx="1238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20160" y="4703760"/>
              <a:ext cx="358560" cy="20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V="1">
            <a:off x="4211640" y="2923920"/>
            <a:ext cx="1440000" cy="10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78469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Closing a workbook and exiting Excel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main menu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lose the work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c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clicking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in the top right corn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76720" y="2997360"/>
            <a:ext cx="3510000" cy="2840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flipV="1">
            <a:off x="4572000" y="3141360"/>
            <a:ext cx="3816360" cy="7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oading Excel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click the Excel icon on the desktop (if you have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Program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crosoft Office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crosoft Office Exce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672840" cy="635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rcRect l="0" t="49560" r="0" b="0"/>
          <a:stretch/>
        </p:blipFill>
        <p:spPr>
          <a:xfrm>
            <a:off x="4724280" y="3573360"/>
            <a:ext cx="4419720" cy="27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opening scree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75840" y="2214720"/>
            <a:ext cx="8445240" cy="4300560"/>
            <a:chOff x="375840" y="2214720"/>
            <a:chExt cx="8445240" cy="4300560"/>
          </a:xfrm>
        </p:grpSpPr>
        <p:sp>
          <p:nvSpPr>
            <p:cNvPr id="93" name=""/>
            <p:cNvSpPr/>
            <p:nvPr/>
          </p:nvSpPr>
          <p:spPr>
            <a:xfrm>
              <a:off x="378360" y="45086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2920" y="5445000"/>
              <a:ext cx="9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ask P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56560" y="3068640"/>
              <a:ext cx="1063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lick here to close the Task P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5840" y="364500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ctive 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6200" y="2781360"/>
              <a:ext cx="120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me of Active 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1908000" y="2214720"/>
              <a:ext cx="5499360" cy="43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78360" y="5178600"/>
              <a:ext cx="74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lum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6560" y="5970600"/>
              <a:ext cx="99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heet Ta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8000" y="244152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tandard Tool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19840" y="2276640"/>
              <a:ext cx="1100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Formatting Tool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637000"/>
              <a:ext cx="432000" cy="11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2997360"/>
              <a:ext cx="72072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332000" y="3357360"/>
              <a:ext cx="115236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000" y="4653000"/>
              <a:ext cx="1584360" cy="7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16000" y="5300640"/>
              <a:ext cx="374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332000" y="6021000"/>
              <a:ext cx="1224000" cy="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156000" y="2492280"/>
              <a:ext cx="1584360" cy="4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236000" y="3284640"/>
              <a:ext cx="50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803640" y="5589720"/>
              <a:ext cx="108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 all the different parts mea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2276640"/>
          <a:ext cx="8353440" cy="4105080"/>
        </p:xfrm>
        <a:graphic>
          <a:graphicData uri="http://schemas.openxmlformats.org/drawingml/2006/table">
            <a:tbl>
              <a:tblPr/>
              <a:tblGrid>
                <a:gridCol w="1374840"/>
                <a:gridCol w="6978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she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orksheet consists of a grid containing 256 columns and 65,536 rows.  The columns are labelled A, B, C, etc.  The rows are labelled 1, 2, 3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b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 contain a number of icons which can be clicked to use frequently used command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ddress of the cell in the top left-hand corner is A1 because it is in column A and row 1.  You can type a number, label or formula into a cel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you click or type into a cell, this is surrounded by a black border, making it the active cell.  When you view a blank file, this will be cell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s and colum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you click on the column or row headers (the letters or numbers to the top and left of the worksheet area, the entire column or row will be highligh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boo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books contain several blank worksheets usually named Sheet1, Sheet2, Sheet3, etc which are shown on the sheet tabs at the bott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p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area lists workbooks recently opened and other options.  You can close this by clicking on the Close icon in the top right hand corn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oving around the workshee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move the pointer using the mouse and clicking the left mouse button in the cell you w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s to move up and down the spread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pres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o move right and hold dow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and pres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o move back to the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old dow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and pres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from anywhere in the spreadsheet, this will take you back to cell A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iding/Displaying Toolba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741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olb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the one you want from the list that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ide a toolbar, simply click on it in the list again s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tick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2539" r="0" b="0"/>
          <a:stretch/>
        </p:blipFill>
        <p:spPr>
          <a:xfrm>
            <a:off x="5724360" y="2565360"/>
            <a:ext cx="21942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ustomising Toolba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55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mo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tton from view hold dow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, then click and drag the button off the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place a button, 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olbar options ar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e end of the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or Remove butt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lect the toolbar name then click to select or deselect but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way from the buttons menu when f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635280" y="2852640"/>
            <a:ext cx="5008680" cy="2536920"/>
            <a:chOff x="3635280" y="2852640"/>
            <a:chExt cx="5008680" cy="25369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643280" y="2852640"/>
              <a:ext cx="4000680" cy="25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flipV="1">
              <a:off x="3635280" y="2997360"/>
              <a:ext cx="2232000" cy="86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nging defaults and preferenc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073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way Excel works,  from the main menu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o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default directory for opening and saving files, 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how frequently your document is autosaved, selec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ing on the various other tabs will change other Excel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659400" cy="29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sing the help fun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get stuck use Excel’s online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main menu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l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crosoft Excel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wor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the Search text box click on the Go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related topics will appear – click on a link for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elp window appears giving information on this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5640" y="4221000"/>
            <a:ext cx="269640" cy="28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1951200" cy="1424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2000" y="2924280"/>
            <a:ext cx="1901520" cy="221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364000" y="4149720"/>
            <a:ext cx="2448000" cy="235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0:53:29Z</dcterms:created>
  <dc:creator>Karen Blakeley</dc:creator>
  <dc:description/>
  <dc:language>en-US</dc:language>
  <cp:lastModifiedBy>Karen Blakeley</cp:lastModifiedBy>
  <dcterms:modified xsi:type="dcterms:W3CDTF">2004-04-27T17:57:39Z</dcterms:modified>
  <cp:revision>13</cp:revision>
  <dc:subject/>
  <dc:title>European Computer Driving Licence</dc:title>
</cp:coreProperties>
</file>