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05B-51A4-4CCE-897C-A6A2C6D8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BCA-9BA2-4248-893F-BC2EE3A1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4E5-4E0E-4EF2-AC55-6952EDFD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0BD-A188-4A23-8283-255C914E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309-9868-429B-A219-F23BC93F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F22D-81EA-4A09-8870-F9185C1A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E604-14CA-4F00-A6E4-110B7160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CF9-1167-44BA-8F9E-81BA9141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8240-C3D5-47C3-B26A-00450A8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4AC-63E6-49B1-AE98-61C9B55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9D8F-22FA-4763-A8DB-F18440F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81F-50B1-40AF-9BE6-622A7186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320-EBBB-4601-9207-CDF5053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B48D-3CA2-459C-AC58-9ACAED8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AB33-17B0-4D77-8A9B-ABB3F219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541F-1913-4001-BA81-743C7C21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50C-771E-4806-A5B8-843A371E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0BF-7706-4BE2-9BE7-3568DB4F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167-00F8-4697-AB47-5847244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7AE-0956-4CAC-9C85-CCA075EE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026-DDA0-433B-B033-F7DA034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E2A-71E0-4B04-AC44-B3BA2A9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647-0167-4539-9CB9-65FF89A0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1D2-86CF-4E46-ABC2-6F37EA6E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9DB-7B93-4FB1-B44D-9B3B791AC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E1E-7281-416D-BCBA-2793C2647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pter 4.2 - Formulae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part of spreadsheets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ul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make it possible to perform calculations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dd, subtract, multiply and divid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ormulae start with an equals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3574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Excel that you are going to insert a formula as opposed to text o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0">
              <a:spcBef>
                <a:spcPts val="499"/>
              </a:spcBef>
              <a:buNone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find it easier to use the keys on the right hand side of the keyboard to type the symbol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76640" y="4010040"/>
          <a:ext cx="3649680" cy="1863720"/>
        </p:xfrm>
        <a:graphic>
          <a:graphicData uri="http://schemas.openxmlformats.org/drawingml/2006/table">
            <a:tbl>
              <a:tblPr/>
              <a:tblGrid>
                <a:gridCol w="1149120"/>
                <a:gridCol w="250056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electing Cel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4320"/>
            <a:ext cx="385596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 the intersection of ro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lumn headers to select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umn h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lect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w h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lect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lect non adjacent cells hold dow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t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whilst you click on cells or column or row headers (the last cell clicked will appear wh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select a range of cells the first cell will be coloured white, the rest pale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211640" y="2252520"/>
            <a:ext cx="4651200" cy="733680"/>
            <a:chOff x="4211640" y="2252520"/>
            <a:chExt cx="4651200" cy="7336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0" t="0" r="0" b="25115"/>
            <a:stretch/>
          </p:blipFill>
          <p:spPr>
            <a:xfrm>
              <a:off x="5122800" y="2252520"/>
              <a:ext cx="37400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flipV="1">
              <a:off x="4211640" y="2313000"/>
              <a:ext cx="1008000" cy="8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22800" y="5084640"/>
            <a:ext cx="3789360" cy="714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836880" y="3208320"/>
            <a:ext cx="2935440" cy="873000"/>
            <a:chOff x="3836880" y="3208320"/>
            <a:chExt cx="2935440" cy="873000"/>
          </a:xfrm>
        </p:grpSpPr>
        <p:pic>
          <p:nvPicPr>
            <p:cNvPr id="98" name="" descr=""/>
            <p:cNvPicPr/>
            <p:nvPr/>
          </p:nvPicPr>
          <p:blipFill>
            <a:blip r:embed="rId3"/>
            <a:srcRect l="0" t="0" r="0" b="46409"/>
            <a:stretch/>
          </p:blipFill>
          <p:spPr>
            <a:xfrm>
              <a:off x="5122800" y="3208320"/>
              <a:ext cx="16495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36880" y="3311640"/>
              <a:ext cx="1774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97240" y="3976560"/>
            <a:ext cx="5565600" cy="912960"/>
            <a:chOff x="3297240" y="3976560"/>
            <a:chExt cx="5565600" cy="912960"/>
          </a:xfrm>
        </p:grpSpPr>
        <p:pic>
          <p:nvPicPr>
            <p:cNvPr id="101" name="" descr=""/>
            <p:cNvPicPr/>
            <p:nvPr/>
          </p:nvPicPr>
          <p:blipFill>
            <a:blip r:embed="rId4"/>
            <a:srcRect l="0" t="0" r="7860" b="0"/>
            <a:stretch/>
          </p:blipFill>
          <p:spPr>
            <a:xfrm>
              <a:off x="5122800" y="4329000"/>
              <a:ext cx="3740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297240" y="3976560"/>
              <a:ext cx="1859040" cy="55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cel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cells, select the cells you want to format and click on the bold, italics, underline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formatting, select the cell(s) and click on the icons again to switch them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more formatting options, select the cells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7760" y="2414520"/>
            <a:ext cx="3800160" cy="3667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74920" y="3386160"/>
            <a:ext cx="1122480" cy="3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ting a bord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189160"/>
            <a:ext cx="385596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you want to apply a borde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Border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 click in the Style section to select a style and/or colou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click on the border icons to select non-standard borders – the preview will show your choic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52960" y="2306520"/>
            <a:ext cx="3800520" cy="3667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4017960" y="3630240"/>
            <a:ext cx="3649680" cy="73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12560"/>
            <a:ext cx="3855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re you want the resul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n equal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first cell referenc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+ - * /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second cell referenc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967280" y="2262240"/>
            <a:ext cx="3485880" cy="3444480"/>
            <a:chOff x="4967280" y="2262240"/>
            <a:chExt cx="3485880" cy="34444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5326560" y="3295080"/>
              <a:ext cx="2874600" cy="172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967280" y="5247720"/>
              <a:ext cx="281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GB" sz="1200" spc="-1" strike="noStrike">
                  <a:solidFill>
                    <a:srgbClr val="ff0000"/>
                  </a:solidFill>
                  <a:latin typeface="Arial"/>
                </a:rPr>
                <a:t>result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of the formula appears in the spreadshe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910120" y="4739760"/>
              <a:ext cx="322560" cy="570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3000" y="2262240"/>
              <a:ext cx="326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GB" sz="1200" spc="-1" strike="noStrike">
                  <a:solidFill>
                    <a:srgbClr val="ff0000"/>
                  </a:solidFill>
                  <a:latin typeface="Arial"/>
                </a:rPr>
                <a:t>formula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is displayed in the formula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18400" y="2676240"/>
              <a:ext cx="848880" cy="55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tomatic Recalcula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entered your formula correctly and if you change a number, Excel will recalcul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insert a space into a cell used in a formula otherwise you will receive an error message #VAL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 if you try to divide a cell by 0 or an empty cell, #DIV/0!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ither of these messages appear, check that your formula points to the right cells and that the cells contain the right inform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48040" y="4449600"/>
            <a:ext cx="3980160" cy="9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 formulae by point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273040"/>
            <a:ext cx="385596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typing in a formula such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A2+A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ou can use the mouse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e cells in the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cell to contain th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n equals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cell 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plus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cell 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38760" y="2406600"/>
            <a:ext cx="3540240" cy="3036960"/>
            <a:chOff x="4838760" y="2406600"/>
            <a:chExt cx="3540240" cy="30369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838760" y="2406600"/>
              <a:ext cx="354024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89680" y="4802040"/>
              <a:ext cx="21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s you click on the cells, notice how Excel inserts the cell reference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759280" y="4035240"/>
              <a:ext cx="260640" cy="85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numb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numbers to display to 2 decimal places with a thousands separator, select the cells, right-click in the selection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click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bo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1000 separator (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80"/>
          <a:stretch/>
        </p:blipFill>
        <p:spPr>
          <a:xfrm>
            <a:off x="5313240" y="2239920"/>
            <a:ext cx="3556080" cy="2762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35600" y="5183280"/>
            <a:ext cx="4829040" cy="106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4038480" y="3633480"/>
            <a:ext cx="2651400" cy="709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27:40Z</dcterms:created>
  <dc:creator/>
  <dc:description/>
  <dc:language>en-US</dc:language>
  <cp:lastModifiedBy/>
  <dcterms:modified xsi:type="dcterms:W3CDTF">2004-06-01T16:00:31Z</dcterms:modified>
  <cp:revision>13</cp:revision>
  <dc:subject/>
  <dc:title>European Computer Driving Licence</dc:title>
</cp:coreProperties>
</file>