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496-086A-4876-A40D-65BE1969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2E2-AC5D-484C-A5BA-E1DD082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77E-05B5-4D95-9979-A5044220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11B-2013-44EC-B60B-373EF37D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C8B7-7108-4B08-9CB1-DD77579A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A89F-A5E1-4B81-87F6-9DB92255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3E6-2596-4745-936F-64DB538E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662A-CB1F-4CA1-9913-70FC85F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0D88-4A98-45D1-BC95-8AA26F3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8C59-B8C1-4CF0-AC89-5C458F8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DBD-80D8-4295-B37B-5DB86D4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273-16F2-4F4E-94C0-1858762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139-7547-41CB-9AE8-BF43506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EAD-856A-4BDA-B703-C10C9C3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D1C-1CAE-4A30-AD91-2B602E9C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23D-887D-4069-A648-9BBAE42F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EA44-A206-42FD-BF3F-A14BD42A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8FB-7F89-4667-BBF1-6D77830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8B0-B009-4AC3-AC24-370EFE7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B8B-5ADB-445E-8514-59A6FC2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653-80B6-46BF-9B13-E085134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C65-06AA-4ECD-B771-DC91CA4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916-252C-4C05-AF1B-E47F636A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539-7180-43FC-8E7C-E2046B3E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EFBC-041E-4D85-AD00-9CE92C660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0DD-01C0-457E-BD1A-09A3ADB5B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2 - Formulae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part of spreadsheets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make it possible to perform calculations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, subtract, multiply and divid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ormulae start with an equal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Excel that you are going to insert a formula as opposed to text o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spcBef>
                <a:spcPts val="499"/>
              </a:spcBef>
              <a:buNone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find it easier to use the keys on the right hand side of the keyboard to type the symbol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76640" y="4010040"/>
          <a:ext cx="3649680" cy="1863720"/>
        </p:xfrm>
        <a:graphic>
          <a:graphicData uri="http://schemas.openxmlformats.org/drawingml/2006/table">
            <a:tbl>
              <a:tblPr/>
              <a:tblGrid>
                <a:gridCol w="1149120"/>
                <a:gridCol w="250056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electing Cel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4320"/>
            <a:ext cx="385596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 the intersection of ro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lumn headers to select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umn h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lect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w h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lect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lect non adjacent cells hold dow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whilst you click on cells or column or row headers (the last cell clicked will appear wh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select a range of cells the first cell will be coloured white, the rest pale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11640" y="2252520"/>
            <a:ext cx="4651200" cy="733680"/>
            <a:chOff x="4211640" y="2252520"/>
            <a:chExt cx="4651200" cy="7336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0" t="0" r="0" b="25115"/>
            <a:stretch/>
          </p:blipFill>
          <p:spPr>
            <a:xfrm>
              <a:off x="5122800" y="2252520"/>
              <a:ext cx="37400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flipV="1">
              <a:off x="4211640" y="2313000"/>
              <a:ext cx="1008000" cy="8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22800" y="5084640"/>
            <a:ext cx="3789360" cy="714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836880" y="3208320"/>
            <a:ext cx="2935440" cy="873000"/>
            <a:chOff x="3836880" y="3208320"/>
            <a:chExt cx="2935440" cy="873000"/>
          </a:xfrm>
        </p:grpSpPr>
        <p:pic>
          <p:nvPicPr>
            <p:cNvPr id="98" name="" descr=""/>
            <p:cNvPicPr/>
            <p:nvPr/>
          </p:nvPicPr>
          <p:blipFill>
            <a:blip r:embed="rId3"/>
            <a:srcRect l="0" t="0" r="0" b="46409"/>
            <a:stretch/>
          </p:blipFill>
          <p:spPr>
            <a:xfrm>
              <a:off x="5122800" y="3208320"/>
              <a:ext cx="16495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36880" y="3311640"/>
              <a:ext cx="177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97240" y="3976560"/>
            <a:ext cx="5565600" cy="912960"/>
            <a:chOff x="3297240" y="3976560"/>
            <a:chExt cx="5565600" cy="91296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rcRect l="0" t="0" r="7860" b="0"/>
            <a:stretch/>
          </p:blipFill>
          <p:spPr>
            <a:xfrm>
              <a:off x="5122800" y="4329000"/>
              <a:ext cx="3740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297240" y="3976560"/>
              <a:ext cx="1859040" cy="55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cel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cells, select the cells you want to format and click on the bold, italics, underlin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formatting, select the cell(s) and click on the icons again to switch them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more formatting options, select the cells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7760" y="2414520"/>
            <a:ext cx="3800160" cy="366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74920" y="3386160"/>
            <a:ext cx="1122480" cy="3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 bord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189160"/>
            <a:ext cx="385596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apply a borde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order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 click in the Style section to select a style and/or colou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click on the border icons to select non-standard borders – the preview will show your cho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52960" y="2306520"/>
            <a:ext cx="3800520" cy="3667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4017960" y="3630240"/>
            <a:ext cx="3649680" cy="73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12560"/>
            <a:ext cx="3855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re you want the resul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n equal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first cell referenc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+ - * /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second cell referenc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967280" y="2262240"/>
            <a:ext cx="3485880" cy="3444480"/>
            <a:chOff x="4967280" y="2262240"/>
            <a:chExt cx="3485880" cy="34444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5326560" y="3295080"/>
              <a:ext cx="2874600" cy="172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967280" y="5247720"/>
              <a:ext cx="281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GB" sz="1200" spc="-1" strike="noStrike">
                  <a:solidFill>
                    <a:srgbClr val="ff0000"/>
                  </a:solidFill>
                  <a:latin typeface="Arial"/>
                </a:rPr>
                <a:t>resul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of the formula appears in the spreadshe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910120" y="4739760"/>
              <a:ext cx="322560" cy="57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3000" y="2262240"/>
              <a:ext cx="326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GB" sz="1200" spc="-1" strike="noStrike">
                  <a:solidFill>
                    <a:srgbClr val="ff0000"/>
                  </a:solidFill>
                  <a:latin typeface="Arial"/>
                </a:rPr>
                <a:t>formula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is displayed in the formula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18400" y="2676240"/>
              <a:ext cx="848880" cy="55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tomatic Recalc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entered your formula correctly and if you change a number, Excel will recalcul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sert a space into a cell used in a formula otherwise you will receive an error message #VA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 if you try to divide a cell by 0 or an empty cell, #DIV/0!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ither of these messages appear, check that your formula points to the right cells and that the cells contain the right inform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48040" y="4449600"/>
            <a:ext cx="398016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 formulae by point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273040"/>
            <a:ext cx="385596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typing in a formula such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A2+A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ou can use the mouse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cells in the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cell to contain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n equal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cell 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plu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cell 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38760" y="2406600"/>
            <a:ext cx="3540240" cy="3036960"/>
            <a:chOff x="4838760" y="2406600"/>
            <a:chExt cx="3540240" cy="30369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838760" y="2406600"/>
              <a:ext cx="35402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89680" y="4802040"/>
              <a:ext cx="21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s you click on the cells, notice how Excel inserts the cell reference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759280" y="4035240"/>
              <a:ext cx="260640" cy="85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numb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numbers to display to 2 decimal places with a thousands separator, select the cells, right-click in the selection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click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bo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1000 separator (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80"/>
          <a:stretch/>
        </p:blipFill>
        <p:spPr>
          <a:xfrm>
            <a:off x="5313240" y="2239920"/>
            <a:ext cx="3556080" cy="276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35600" y="5183280"/>
            <a:ext cx="4829040" cy="106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4038480" y="3633480"/>
            <a:ext cx="2651400" cy="709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27:40Z</dcterms:created>
  <dc:creator/>
  <dc:description/>
  <dc:language>en-US</dc:language>
  <cp:lastModifiedBy/>
  <dcterms:modified xsi:type="dcterms:W3CDTF">2004-06-01T16:00:31Z</dcterms:modified>
  <cp:revision>13</cp:revision>
  <dc:subject/>
  <dc:title>European Computer Driving Licence</dc:title>
</cp:coreProperties>
</file>