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09A-CBD0-4B8D-841A-6EA6AB8E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8D0-3702-46E1-BADF-0DBB52F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56A-CFC4-4D8F-9365-FDCBA6CE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296-6F55-4680-B54E-C5869192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F860-CAA8-4376-85E5-83450D02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E72E-698F-48F6-A064-C405072C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E2F-53E3-408D-8DF9-C53107F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87A6-FF5E-4476-A596-882453C1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6BA3-C13E-427E-9E85-EC790BDE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7606-957E-4108-9414-779CA466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05B0-5CE8-44D9-8179-C3A21E44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79B-7477-4F3D-ACC4-3EEFAED0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DA06-4AE2-4413-A41C-FDC6B2A1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3D1-72B8-4E58-93F2-978D2D6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575B-2849-4810-A144-213CD4EC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2E62-F937-41B6-8502-48884AB6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D06-E4EA-4D2C-8028-1CE9F0E2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2FB-54B6-448F-B266-BCDF0789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396-D236-4BDA-97E7-85B763B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657-0D4B-43B2-B30A-34FDBCB6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2BD-0210-4BED-9FFF-539213C3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B2E-B7B8-4059-8246-21CC0590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CFC-D264-4E08-A97C-DB3892F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B19-977F-4DC8-B52B-1409F032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18A-91C9-4A17-A698-E8A9D354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A159-9B58-4DE7-9174-63ED6B60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pter 4.3 – Columns of Data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eating a spread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type in a spreadsheet title, it will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nothing in the next cell this is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yping in row labels you may need to change the column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the mouse pointer to the column header and drag to make the column wid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ble-click on the Column border and the column will adjust itself to the widest entry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3719520" cy="21844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 flipV="1">
            <a:off x="3851280" y="2997000"/>
            <a:ext cx="244944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5300640"/>
            <a:ext cx="2604960" cy="555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Decima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55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type in numbers, Excel shorten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numbers to display to 2 decimal places, select the cells and click the Increase Decimal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4437000"/>
            <a:ext cx="5497560" cy="2173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4040" y="2133360"/>
            <a:ext cx="3855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hange the format of numbers by right- clicking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ype in the number of decimal places requi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933720"/>
            <a:ext cx="2808000" cy="57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a Column of Numb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 a cell below the column of numbers you want to ad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to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o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will guess which numbers you want to add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e Enter key to con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cel doesn’t select the right cells, select the cells you want to add up and press En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724" t="0" r="0" b="0"/>
          <a:stretch/>
        </p:blipFill>
        <p:spPr>
          <a:xfrm>
            <a:off x="4932360" y="2708280"/>
            <a:ext cx="3919680" cy="2589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3059280" y="2852280"/>
            <a:ext cx="518472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4149720"/>
            <a:ext cx="57600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orkshee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by default gives you 3 sheets to work on – each sheet has a tab at the bottom of the Excel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name of a sheet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pop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rename a sheet by double-clicking on the sheet name and typing in a ne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1766880" cy="22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097000" cy="17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5300640"/>
            <a:ext cx="3092400" cy="4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serting and Deleting Shee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lete a sheet,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ick the sheet tab and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sert a new sheet (for example betwee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irth St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aily Weigh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right-click the second sheet and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sheet will be inserted with the name Sheet(No) –you can rename it if necessa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2521" b="0"/>
          <a:stretch/>
        </p:blipFill>
        <p:spPr>
          <a:xfrm>
            <a:off x="5580000" y="2381400"/>
            <a:ext cx="2683080" cy="1838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2683080" cy="1823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pying a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py a worksheet within a spreadsheet or open spread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a sheet to a different spreadsheet you must have both spreadsheets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the sheet you want to cop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ove or Cop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workbook you want it to be copied 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where you want it to go and click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eate a cop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24000" cy="1460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4292640"/>
            <a:ext cx="1446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03640" y="4292640"/>
            <a:ext cx="1486080" cy="1944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4067280" y="5229360"/>
            <a:ext cx="8650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27640" y="5877000"/>
            <a:ext cx="252072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ving a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a worksheet follow the previous instructions but don’t tic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eate a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lick and drag the sheet tabs to move worksheets within a work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on as the black arrow is in the place you want, release the left mous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seful for changing the order of work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527640" cy="6192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5506920"/>
            <a:ext cx="3600720" cy="474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4:51:47Z</dcterms:created>
  <dc:creator/>
  <dc:description/>
  <dc:language>en-US</dc:language>
  <cp:lastModifiedBy/>
  <dcterms:modified xsi:type="dcterms:W3CDTF">2004-06-08T11:38:08Z</dcterms:modified>
  <cp:revision>5</cp:revision>
  <dc:subject/>
  <dc:title>European Computer Driving Licence</dc:title>
</cp:coreProperties>
</file>