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0BF-551A-4233-BC1D-FFE6430D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0F0-4962-45B5-9915-2C425B2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BFF-1915-441D-8A53-4CFC2C5B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284-B474-490E-96E3-8E0E4E6C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BC78-EA3D-4CD8-98F2-32F3A10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D509-C571-40E7-917E-235106B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D458-486D-4068-B1CC-A4198667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D7A9-B142-4578-B995-C24FDAF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2275-02B4-43AE-B252-F241E2F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12E8-3FF6-4446-B19B-5C193A05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00EC-EA81-46EB-BB67-54F30863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003-076A-418E-8779-0FC8394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2C77-FBE6-4EC2-A46E-82AF0B2B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9690-5587-4F7D-B375-BC7A7C3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E89-F7BB-492F-B25C-4B907D59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2AF4-443A-41F6-A296-D159D658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6409-7A20-4657-95E7-0600FD67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78A-02C4-4D3C-968B-AA734CD2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82F-E9DE-4A36-8BC8-A4E60558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72B-F41F-48B5-ACFA-ADA1ED8E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526-54E4-4E04-90FF-3053370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93C-66DC-4879-8B8B-3809BB4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688-EA10-4ABD-9A2B-2AE660F7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7BF-2FF6-45FF-8F98-F541021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C2E8-E545-4988-906C-E0394C4B6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0CC-E520-4061-9659-1953C9D7B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pter 4.3 – Columns of Data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eating a spread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type in a spreadsheet title, it will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nothing in the next cell this is o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yping in row labels you may need to change the column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the mouse pointer to the column header and drag to make the column wid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ble-click on the Column border and the column will adjust itself to the widest entry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3719520" cy="21844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 flipV="1">
            <a:off x="3851280" y="2997000"/>
            <a:ext cx="244944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5300640"/>
            <a:ext cx="2604960" cy="555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Decima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55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type in numbers, Excel shorten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numbers to display to 2 decimal places, select the cells and click the Increase Decimal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4437000"/>
            <a:ext cx="5497560" cy="2173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4040" y="2133360"/>
            <a:ext cx="3855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hange the format of numbers by right- clicking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ype in the number of decimal places requi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933720"/>
            <a:ext cx="2808000" cy="57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a Column of Numb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 a cell below the column of numbers you want to ad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to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o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will guess which numbers you want to add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e Enter key to con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cel doesn’t select the right cells, select the cells you want to add up and press En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724" t="0" r="0" b="0"/>
          <a:stretch/>
        </p:blipFill>
        <p:spPr>
          <a:xfrm>
            <a:off x="4932360" y="2708280"/>
            <a:ext cx="3919680" cy="2589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3059280" y="2852280"/>
            <a:ext cx="518472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4149720"/>
            <a:ext cx="576000" cy="3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orkshee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by default gives you 3 sheets to work on – each sheet has a tab at the bottom of the Excel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name of a sheet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pop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rename a sheet by double-clicking on the sheet name and typing in a ne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1766880" cy="22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097000" cy="17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5300640"/>
            <a:ext cx="3092400" cy="4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serting and Deleting Shee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lete a sheet,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ick the sheet tab and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sert a new sheet (for example betwee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irth Sta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aily Weigh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right-click the second sheet and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sheet will be inserted with the name Sheet(No) –you can rename it if necessa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2521" b="0"/>
          <a:stretch/>
        </p:blipFill>
        <p:spPr>
          <a:xfrm>
            <a:off x="5580000" y="2381400"/>
            <a:ext cx="2683080" cy="1838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2683080" cy="18237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pying a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py a worksheet within a spreadsheet or open spread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a sheet to a different spreadsheet you must have both spreadsheets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the sheet you want to cop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ove or Cop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workbook you want it to be copied 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where you want it to go and click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eate a cop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24000" cy="14601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4292640"/>
            <a:ext cx="1446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03640" y="4292640"/>
            <a:ext cx="1486080" cy="1944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4067280" y="5229360"/>
            <a:ext cx="8650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27640" y="5877000"/>
            <a:ext cx="252072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ving a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a worksheet follow the previous instructions but don’t tic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eate a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lick and drag the sheet tabs to move worksheets within a work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on as the black arrow is in the place you want, release the left mous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seful for changing the order of work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527640" cy="6192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5506920"/>
            <a:ext cx="3600720" cy="474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4:51:47Z</dcterms:created>
  <dc:creator/>
  <dc:description/>
  <dc:language>en-US</dc:language>
  <cp:lastModifiedBy/>
  <dcterms:modified xsi:type="dcterms:W3CDTF">2004-06-08T11:38:08Z</dcterms:modified>
  <cp:revision>5</cp:revision>
  <dc:subject/>
  <dc:title>European Computer Driving Licence</dc:title>
</cp:coreProperties>
</file>