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ABD-7D21-43C6-8AFC-5C893332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B3E-3C9C-423B-8953-A6F8EE6B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68F-A568-4285-B114-224FFF73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31B-1D97-45F4-AC12-0A9710A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8B4-4CD3-414F-A2B6-E638F4F3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C979-8C67-4C31-92AE-5FF8EF41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F6AF-FC7B-42EF-9D54-DC420BF9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A736-E9F8-4B7A-AF7C-D355259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9541-6AD4-42EE-A16C-F912E689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0A52-840A-4A34-A2FE-CE9B8D17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878-D1F3-4143-B1B5-3B6C1DD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03D-64B9-449D-B0B4-74497DF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E0E-9825-4998-9E46-D486D13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00A7-4AC3-4214-9243-8E1444F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8E1-0932-4969-8232-100484EB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365A-18F3-4A9D-8A0D-820384B8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032-96A9-48FA-8873-1EAC755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6E8-C9AF-4962-8EC8-D6DBABE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3A9-5961-47E4-8614-5EB3E35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2DA-F174-4EEF-BB6B-0E3E2BAA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BE3-AB42-4B5F-86E8-106599E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AA2-5230-4912-906D-31FE508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559-673E-488C-AA83-8C02C3A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F19-F4CB-415A-8080-48E0C7CB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AEAA-1923-49D8-84EE-16EDD903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302D-1949-41B5-8918-A7EDD3D6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4 - Function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ding and Unhiding Row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hide” a row, click any-where in the row (eg row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w will disappear from view – the row number will not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the “hidden” row select the row headers above and below (eg 11 and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1687680" cy="2800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32720" y="3429000"/>
            <a:ext cx="1766880" cy="2800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 flipV="1">
            <a:off x="4140360" y="3716280"/>
            <a:ext cx="273672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reezing row and column titl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7760" y="2144880"/>
            <a:ext cx="38559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orking on a big spreadsheet, it is useful to have either row labels or column headings showing no matter how far you scroll in the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437000"/>
            <a:ext cx="5954760" cy="198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6360" y="2133360"/>
            <a:ext cx="385632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in the cell nearest to A1 that you don’t want to freeze (eg cell B4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eez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n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rom the menu – black borders will appear next to the frozen pan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897000" y="2637000"/>
            <a:ext cx="153828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freezing Pan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unfreeze” panes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freeze Pa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ck borders will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oesn’t matter where the active cell is when doing th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2492280"/>
            <a:ext cx="2195640" cy="22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ing several workbook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several workbooks open, you will see a taskbar button for each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witch between open workbooks, click the taskba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 and select the workbook you want to work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is handy if you have more than 3 workbooks open and Windows XP “groups” the taskbar butt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672000" cy="34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174760" cy="2370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under another file nam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an existing workbook with a different file name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new file name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to a different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99564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4292640"/>
            <a:ext cx="2663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as a different file typ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to save a workbook in a different 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in the File typ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 type from the drop dow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911760" cy="1668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372360" y="4222440"/>
            <a:ext cx="1942920" cy="1311120"/>
            <a:chOff x="6372360" y="4222440"/>
            <a:chExt cx="1942920" cy="1311120"/>
          </a:xfrm>
        </p:grpSpPr>
        <p:sp>
          <p:nvSpPr>
            <p:cNvPr id="143" name=""/>
            <p:cNvSpPr/>
            <p:nvPr/>
          </p:nvSpPr>
          <p:spPr>
            <a:xfrm>
              <a:off x="6372360" y="5013360"/>
              <a:ext cx="194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croll down to see more options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222440"/>
              <a:ext cx="71928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fferent file forma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ost a spreadsheet file on the web, save as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ingle File Web Page (.htm or .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as a text file that can be read by other operating systems, choos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ex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as a template, selec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in a format suitable for older spreadsheet or database programs, selec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sv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also save as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otus 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-2-3 spreadsheet (.wk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Base (.db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276640"/>
            <a:ext cx="3960720" cy="3528720"/>
          </a:xfrm>
          <a:prstGeom prst="irregularSeal2">
            <a:avLst/>
          </a:prstGeom>
          <a:solidFill>
            <a:srgbClr val="ffff00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more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n file forma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File Forma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cel’s Help sec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is a formula used in a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has over 200 functions to help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CDL4 you will lear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SU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AVER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M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MA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COU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42432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SUM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you can use the AutoSum button to add up a column or row of numbers, you can also type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total to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SUM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and drag the cells you want to add u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560760" cy="332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AVERAGE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o work out the average of a rang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3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AVERAGE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cells you want to find the average o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atch ou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y blank cell formatted as Number will upset your averag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560760" cy="332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MAX and MIN 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the highest number in a range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5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MAX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range of cel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lowest number, repla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MAX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MIN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72080" y="2276640"/>
            <a:ext cx="2887560" cy="277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4516" b="0"/>
          <a:stretch/>
        </p:blipFill>
        <p:spPr>
          <a:xfrm>
            <a:off x="5580000" y="5300640"/>
            <a:ext cx="2879640" cy="820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OUNT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unt the number of entries in a range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9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COUNT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range of cel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 the COUNT function only counts cells that contain a number – it will ignore blank cells or cells which contain tex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3424320" cy="361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a new recor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new record, you will need to insert a new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the row header where you want the new row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lank row will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your new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2995560" cy="285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4140360" y="2943000"/>
            <a:ext cx="1008000" cy="26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data between 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heet which contains the data you want to copy (e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rth S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select the cells (eg A1 to D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py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heet you want to copy the cells to (e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ily Weigh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appropriate cell and 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to widen the columns to fit the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9640" y="2492280"/>
            <a:ext cx="3502080" cy="106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1308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419640" y="2637000"/>
            <a:ext cx="403200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51280" y="4292640"/>
            <a:ext cx="42498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lling a seri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26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numeric value in the first cell (eg Day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bottom right corner until the pointer changes to a black plus-sign (the fill hand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157720"/>
            <a:ext cx="5734080" cy="974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204640"/>
            <a:ext cx="3855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across (a tool tip will appear as you drag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will automatically increment the va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This also works with Days, Months and plain numb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221000"/>
            <a:ext cx="3311640" cy="151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21:00:13Z</dcterms:created>
  <dc:creator/>
  <dc:description/>
  <dc:language>en-US</dc:language>
  <cp:lastModifiedBy/>
  <dcterms:modified xsi:type="dcterms:W3CDTF">2004-06-08T13:05:31Z</dcterms:modified>
  <cp:revision>8</cp:revision>
  <dc:subject/>
  <dc:title>European Computer Driving Licence</dc:title>
</cp:coreProperties>
</file>