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30E8-FE35-41F6-889A-94397C86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C8D2-5EE7-4CD4-AE6D-637B9938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CE96-311B-4CA4-90E3-A5EFAC94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5B90-AD48-4281-8A17-387180721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0A4E-9793-411C-B7DD-1E20C8D3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9F76-D463-4445-8746-EF19287C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8ED1-11A4-4E0B-AA0F-1B9A0ACB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DEFB-BE06-40AD-B03C-B51D8CEA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9358-675F-482F-A4AE-6A4D0BDF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5DE3-415E-4AF1-ABB1-EC7C7C12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4758-1592-42B6-9F80-165CD97B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50E0-806C-474D-9AEB-A71DA177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7998-7236-4204-9951-F28721E8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2146-8CFA-4978-9471-E7570A38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A201-1BF4-4A19-BD92-5AA00568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1CCB-AFD2-4728-B52D-873FF1B8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E348-53B6-4EA7-917A-CD822F74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B26D-859B-45B5-BAC5-785E5270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0F24-0DE2-41AC-B4F2-9A6B2E09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B3B5-EE9F-4427-8841-A1FA3992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A9B6-41CC-48D8-8F4A-369EBA39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5CFD-F7DA-4628-A344-EFC64A4F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6D77-4E20-418F-B559-95BC1744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B54D-8E90-45F8-8323-95A8BDDE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E797-79AE-40D6-A0EA-5FD17F275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5AA7-9C49-4DF4-81B2-F5047B49C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odule 4 – Spreadsheets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apter 4.4 - Functions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iding and Unhiding Row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2205000"/>
            <a:ext cx="38559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“hide” a row, click any-where in the row (eg row 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w will disappear from view – the row number will not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isplay the “hidden” row select the row headers above and below (eg 11 and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h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16360" y="2205000"/>
            <a:ext cx="1687680" cy="2800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732720" y="3429000"/>
            <a:ext cx="1766880" cy="2800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22" name=""/>
          <p:cNvSpPr/>
          <p:nvPr/>
        </p:nvSpPr>
        <p:spPr>
          <a:xfrm flipV="1">
            <a:off x="4140360" y="3716280"/>
            <a:ext cx="2736720" cy="194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1119240"/>
            <a:ext cx="784692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reezing row and column title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07760" y="2144880"/>
            <a:ext cx="38559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orking on a big spreadsheet, it is useful to have either row labels or column headings showing no matter how far you scroll in the spread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08000" y="4437000"/>
            <a:ext cx="5954760" cy="19843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6360" y="2133360"/>
            <a:ext cx="3856320" cy="20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in the cell nearest to A1 that you don’t want to freeze (eg cell B4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indow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reez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an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from the menu – black borders will appear next to the frozen pan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897000" y="2637000"/>
            <a:ext cx="1538280" cy="26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nfreezing Pane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“unfreeze” panes,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ind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freeze Pa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lack borders will dis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doesn’t matter where the active cell is when doing thi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96000" y="2492280"/>
            <a:ext cx="2195640" cy="22543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0920" y="1119240"/>
            <a:ext cx="784692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pening several workbook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204640"/>
            <a:ext cx="38559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have several workbooks open, you will see a taskbar button for each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witch between open workbooks, click the taskbar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ind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menu bar and select the workbook you want to work 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is is handy if you have more than 3 workbooks open and Windows XP “groups” the taskbar butt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932360" y="2924280"/>
            <a:ext cx="3672000" cy="342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580000" y="3789360"/>
            <a:ext cx="2174760" cy="2370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aving under another file name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ave an existing workbook with a different file name,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ve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n the new file name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 Name bo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us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ve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save to a different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88000" y="2421000"/>
            <a:ext cx="3995640" cy="2612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03640" y="4292640"/>
            <a:ext cx="266364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aving as a different file type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hoose to save a workbook in a different file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ve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lick in the File typ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file type from the drop down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3280" y="2997360"/>
            <a:ext cx="3911760" cy="166824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6372360" y="4222440"/>
            <a:ext cx="1942920" cy="1311120"/>
            <a:chOff x="6372360" y="4222440"/>
            <a:chExt cx="1942920" cy="1311120"/>
          </a:xfrm>
        </p:grpSpPr>
        <p:sp>
          <p:nvSpPr>
            <p:cNvPr id="143" name=""/>
            <p:cNvSpPr/>
            <p:nvPr/>
          </p:nvSpPr>
          <p:spPr>
            <a:xfrm>
              <a:off x="6372360" y="5013360"/>
              <a:ext cx="1942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croll down to see more options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222440"/>
              <a:ext cx="719280" cy="71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ifferent file format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2204640"/>
            <a:ext cx="3855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post a spreadsheet file on the web, save as a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ingle File Web Page (.htm or .ht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save as a text file that can be read by other operating systems, choos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Tex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save as a template, select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save in a format suitable for older spreadsheet or database programs, select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sv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can also save as a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Lotus 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1-2-3 spreadsheet (.wk4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Base (.db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2276640"/>
            <a:ext cx="3960720" cy="3528720"/>
          </a:xfrm>
          <a:prstGeom prst="irregularSeal2">
            <a:avLst/>
          </a:prstGeom>
          <a:solidFill>
            <a:srgbClr val="ffff00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 more inform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n file format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File Format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xcel’s Help sect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unction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85596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unction is a formula used in a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 has over 200 functions to help with many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CDL4 you will learn abo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SU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AVERAG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MI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MAX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COUN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424320" cy="35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SUM function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hough you can use the AutoSum button to add up a column or row of numbers, you can also type th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where you want the total to appea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yp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=SUM(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and drag the cells you want to add up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ss the Enter ke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076720" y="2421000"/>
            <a:ext cx="3560760" cy="3327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AVERAGE Function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o work out the average of a range of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where you want the result of the function to appear (eg cell B13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yp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=AVERAGE(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the cells you want to find the average of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ss the Enter ke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Watch out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ny blank cell formatted as Number will upset your average!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76720" y="2276640"/>
            <a:ext cx="3560760" cy="3327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MAX and MIN function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2204640"/>
            <a:ext cx="3855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isplay the highest number in a range of cel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where you want the result of the function to appear (eg cell B15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yp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=MAX(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the range of cell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ss the Enter ke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how the lowest number, replac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MAX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MIN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572080" y="2276640"/>
            <a:ext cx="2887560" cy="2773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2"/>
          <a:srcRect l="0" t="0" r="4516" b="0"/>
          <a:stretch/>
        </p:blipFill>
        <p:spPr>
          <a:xfrm>
            <a:off x="5580000" y="5300640"/>
            <a:ext cx="2879640" cy="820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0920" y="1119240"/>
            <a:ext cx="784692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COUNT Function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204640"/>
            <a:ext cx="385596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unt the number of entries in a range of cel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where you want the result of the function to appear (eg cell B19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yp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=COUNT(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the range of cell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ss the Enter ke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e the COUNT function only counts cells that contain a number – it will ignore blank cells or cells which contain text!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292720" y="2349360"/>
            <a:ext cx="3424320" cy="3619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dding a new record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dd a new record, you will need to insert a new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ck the row header where you want the new row to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s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shortcu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lank row will app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n your new dat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2995560" cy="2858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>
            <a:off x="4140360" y="2943000"/>
            <a:ext cx="1008000" cy="26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opying data between sheet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sheet which contains the data you want to copy (e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irth Sta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select the cells (eg A1 to D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Copy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sheet you want to copy the cells to (e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aily Weigh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in the appropriate cell and click the paste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need to widen the columns to fit the dat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219640" y="2492280"/>
            <a:ext cx="3502080" cy="1068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313080" cy="2011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3419640" y="2637000"/>
            <a:ext cx="4032000" cy="107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851280" y="4292640"/>
            <a:ext cx="4249800" cy="93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0920" y="1119240"/>
            <a:ext cx="784692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illing a serie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204640"/>
            <a:ext cx="3855960" cy="26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a numeric value in the first cell (eg Day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mouse pointer to the bottom right corner until the pointer changes to a black plus-sign (the fill hand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19280" y="5157720"/>
            <a:ext cx="5734080" cy="9748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2204640"/>
            <a:ext cx="38559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nd drag across (a tool tip will appear as you drag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the mouse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 will automatically increment the valu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andy Hint:  This also works with Days, Months and plain number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92360" y="4221000"/>
            <a:ext cx="3311640" cy="1513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21:00:13Z</dcterms:created>
  <dc:creator/>
  <dc:description/>
  <dc:language>en-US</dc:language>
  <cp:lastModifiedBy/>
  <dcterms:modified xsi:type="dcterms:W3CDTF">2004-06-08T13:05:31Z</dcterms:modified>
  <cp:revision>8</cp:revision>
  <dc:subject/>
  <dc:title>European Computer Driving Licence</dc:title>
</cp:coreProperties>
</file>