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01EF-8F95-412C-AD27-903C894A2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7EB7-1D3D-4A64-B470-EBD1BCDFB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B87D-3C1C-461F-87BE-B4C58AB86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512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444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512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444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CE5C-0B86-4185-B491-DBC6EA326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8EBB4-14FF-4C58-9082-DB791C636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A7EB8-778B-4D87-9BCA-E4B238FFF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E4DF3-36E5-47A4-BBCD-23EFBFE6B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16159-26E9-41FE-B268-FE906D6D2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34CE2-EFCA-4BD8-BC9C-1A95DF0E3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10920" y="1118880"/>
            <a:ext cx="784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5BBCD-E08D-4B7C-953E-601126875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45A02-AEAF-4605-830F-C79D3A2F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9EF8-E425-414E-98EA-7D17B569A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435D9-37CB-40B5-ABD0-37CEB557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77C25-908B-4D42-B666-2C81C3D9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AD6BB-F729-445B-8F26-36DC4380B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9CC71-ADDD-408B-9FD4-CD337A6F3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4512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0444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4512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0444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1EBD8-75B4-450A-9622-1D2F32C3F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221A-8E43-4D1C-9ADF-B235713AF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5958-C6EA-44A1-A5CA-E8601B5CB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C021-5FC9-4A95-A90B-898F884CF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10920" y="1118880"/>
            <a:ext cx="784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F101-75BA-4883-84DB-C3A29A471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9AFD-EA94-4CD3-9310-88F20BF48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9DDE-FE9C-43CD-87CF-40F5B51B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1FCA-526C-4DE4-B450-CEF6A20B7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E8AE4-14CB-4A13-8FBA-91DFF103DE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11681" r="2025" b="0"/>
          <a:stretch/>
        </p:blipFill>
        <p:spPr>
          <a:xfrm>
            <a:off x="0" y="0"/>
            <a:ext cx="9144000" cy="1320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5320" y="1828800"/>
            <a:ext cx="7909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9F10D-2896-410E-B774-8875BF6EB9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30760" y="22320"/>
            <a:ext cx="5313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0" t="11681" r="2025" b="0"/>
          <a:stretch/>
        </p:blipFill>
        <p:spPr>
          <a:xfrm>
            <a:off x="0" y="0"/>
            <a:ext cx="9144000" cy="13208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5320" y="1828800"/>
            <a:ext cx="7909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European Computer Driving Licence</a:t>
            </a:r>
            <a:endParaRPr b="1" lang="en-US" sz="40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23880" y="4572000"/>
            <a:ext cx="79264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odule 4 – Spreadsheets</a:t>
            </a:r>
            <a:endParaRPr b="0" i="1" lang="en-US" sz="2400" spc="-1" strike="noStrike">
              <a:solidFill>
                <a:srgbClr val="ff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hapter 4.5 – Bar Charts</a:t>
            </a:r>
            <a:endParaRPr b="0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0920" y="1341360"/>
            <a:ext cx="784692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hanging the background colour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e the cursor over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Are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if you hover your mouse pointer a tool tip will app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igh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ouse button – a shortcut menu app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ormat Plot Are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om the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a new colour or any other options and click 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716360" y="2276640"/>
            <a:ext cx="1195560" cy="15112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651640" y="3544920"/>
            <a:ext cx="3241440" cy="274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hanging the Bar Colours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 your mouse pointer over the bar you want to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right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mouse button – select 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Format Data Series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from the shortcut menu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Format Data Series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window appears – you can change the border around each bar or the fill colours of the bars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at for the other bar series then click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788000" y="2349360"/>
            <a:ext cx="1901880" cy="13957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364000" y="3500280"/>
            <a:ext cx="338472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300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nd the finished result?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619280" y="2135160"/>
          <a:ext cx="5832360" cy="428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2135160"/>
                    <a:ext cx="5832360" cy="42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harts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ts are a very good way of presenting information that is easy to grasp immediat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you need to do is type in some data into a worksheet and run the Chart wiz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is chapter you will learn how to create and edit Bar Charts (Excel calls these Column char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970520" y="2505240"/>
          <a:ext cx="3168720" cy="2325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70520" y="2505240"/>
                    <a:ext cx="3168720" cy="2325600"/>
                  </a:xfrm>
                  <a:prstGeom prst="rect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5880240" y="4567320"/>
          <a:ext cx="2939760" cy="1685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4567320"/>
                    <a:ext cx="2939760" cy="1685880"/>
                  </a:xfrm>
                  <a:prstGeom prst="rect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Sorting data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988640"/>
            <a:ext cx="3855960" cy="42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fore you create your chart you may want to sort the data into a particular order (eg birds appear in alphabetical ord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data to be s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o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om the menu b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94040" y="1988640"/>
            <a:ext cx="3855960" cy="42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column you want to sort and whether you want it i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scend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escend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 click o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 header ro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as you haven’t selected the column head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311640" y="4815000"/>
            <a:ext cx="3240000" cy="17985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 flipH="1">
            <a:off x="6011640" y="3645000"/>
            <a:ext cx="1655640" cy="2592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10920" y="1119240"/>
            <a:ext cx="784692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Drawing a Bar Chart – Step 1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2205000"/>
            <a:ext cx="38559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cells to be charted (eg A4 through to C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hart Wizard ic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the Standard Toolb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hart Wiza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ialogue box appears (Step 1 of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type of chart to be created (eg Clustered Colum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here and hold down the left mouse button if you want a quick Previe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ex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2449440" cy="8492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932360" y="3141720"/>
            <a:ext cx="3672000" cy="3389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 flipV="1">
            <a:off x="3924360" y="3881160"/>
            <a:ext cx="2879640" cy="771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24360" y="5516640"/>
            <a:ext cx="2663640" cy="50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1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Bar Chart Steps 2 and 3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0942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don’t need to do anything in Step 2 so click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ex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contin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3 app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in the Chart title here (eg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ecline in Songbirds 1972 -199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– notice how the preview displays your text as you type it 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ex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contin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995640" y="2565360"/>
            <a:ext cx="4861080" cy="31701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 flipV="1">
            <a:off x="3348000" y="3443400"/>
            <a:ext cx="1224000" cy="706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Bar Chart Step 4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Step 4 you can specify where you want the Chart to app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ew She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ll put the chart onto a separate sheet in the work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bject in Sheet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ll put the chart as an object in the she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second option then click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n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643280" y="3141720"/>
            <a:ext cx="4151520" cy="16970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flipV="1">
            <a:off x="2987640" y="4365720"/>
            <a:ext cx="2664000" cy="107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So far so good!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84360" y="2421000"/>
            <a:ext cx="7697520" cy="414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Moving and Sizing A Chart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move a chart so it doesn’t overlap th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inside the Chart area and drag the chart below the data – a dashed outline will appear. As soon as it’s in the right place let go of the mouse button – the chart will mo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also make the chart bigger by dragging the bottom right-hand corner of the ch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435640" y="2276640"/>
            <a:ext cx="3282840" cy="18223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508720" y="4221000"/>
            <a:ext cx="3152520" cy="228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hart Titles and Axis Titles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delete the chart title, click it and pres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e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dd it again, click inside the Chart area and selec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ha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hart Op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om the menu b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hart Op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ialogue box will app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ab you can add or change axis tit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643280" y="2781360"/>
            <a:ext cx="4213440" cy="274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3000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9T18:26:51Z</dcterms:created>
  <dc:creator>Karen Blakeley</dc:creator>
  <dc:description/>
  <dc:language>en-US</dc:language>
  <cp:lastModifiedBy>oliver</cp:lastModifiedBy>
  <dcterms:modified xsi:type="dcterms:W3CDTF">2004-06-08T13:22:49Z</dcterms:modified>
  <cp:revision>8</cp:revision>
  <dc:subject/>
  <dc:title>European Computer Driving Licence</dc:title>
</cp:coreProperties>
</file>