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11B-489A-402A-9900-F41BF241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F00-E781-4BA8-939D-BDCA6AB9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5D9-2B15-44DB-86FA-28B0AD4E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760-5737-4DD0-BDE1-5E6CFB85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9B50-BC8E-4BBB-935C-FA4987A4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BAB2-2FE7-461B-B11A-CE9EE376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5E36-1592-4E14-A858-015A7104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AB72-1AD3-4368-9FE6-86F79956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1286-EB84-478B-BFB0-1345D339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EFD5-68D2-41EE-B649-8B6322AE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78A2-A517-4641-8E93-58F84D5E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69A-387D-4C47-801A-94119B42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B2B2-7CB5-47CD-8410-E33E098A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5E40-DC33-4E4E-841B-E034BC19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F5E9-C2C0-49A1-B6BC-E64A0E5E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23CC-0F83-4417-8044-D0D51F8E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0185-92E4-45C3-BEC9-B755F0ED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658-0DF9-4942-A04A-14B66847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96E-8A73-4E1C-9EC7-0998830C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CE1C-8D42-44F2-8DED-64BD426D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B2A-D3BC-49FA-B49B-5B992DA2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4F35-4260-4C9C-AD95-F530AEB3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CE3-B0C3-49B9-8DB1-8A97D8FB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3C8-B098-4556-BE60-ACB8681B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DD45-56A6-46D8-A570-972A59815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A1D8-9594-4B81-B37D-0366E67C1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dule 4 –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pter 4.5 – Bar Char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784692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nging the background colour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the cursor over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f you hover your mouse pointer a tool tip will app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use button – a shortcut menu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Plot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new colour or any other options and 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16360" y="2276640"/>
            <a:ext cx="1195560" cy="1511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651640" y="3544920"/>
            <a:ext cx="3241440" cy="27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nging the Bar Colour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your mouse pointer over the bar you want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mouse button – select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Format Data Serie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Format Data Serie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window appears – you can change the border around each bar or the fill colours of the ba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for the other bar series then clic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1901880" cy="1395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33847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d the finished result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19280" y="2135160"/>
          <a:ext cx="5832360" cy="42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135160"/>
                    <a:ext cx="583236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r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ts are a very good way of presenting information that is easy to grasp immed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you need to do is type in some data into a worksheet and run the Chart wiz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is chapter you will learn how to create and edit Bar Charts (Excel calls these Column cha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70520" y="2505240"/>
          <a:ext cx="3168720" cy="232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0520" y="2505240"/>
                    <a:ext cx="3168720" cy="232560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880240" y="4567320"/>
          <a:ext cx="2939760" cy="1685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4567320"/>
                    <a:ext cx="2939760" cy="16858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orting data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8640"/>
            <a:ext cx="385596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you create your chart you may want to sort the data into a particular order (eg birds appear in alphabetical or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data to be s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94040" y="1988640"/>
            <a:ext cx="385596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olumn you want to sort and whether you want it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ce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sce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 header 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s you haven’t selected the column head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311640" y="4815000"/>
            <a:ext cx="3240000" cy="1798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>
            <a:off x="6011640" y="3645000"/>
            <a:ext cx="1655640" cy="25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119240"/>
            <a:ext cx="78469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rawing a Bar Chart – Step 1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205000"/>
            <a:ext cx="3855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s to be charted (eg A4 through to C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t Wizard ic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e Standard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t Wiz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appears (Step 1 of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ype of chart to be created (eg Clustered Colu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here and hold down the left mouse button if you want a quick P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2449440" cy="849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32360" y="3141720"/>
            <a:ext cx="3672000" cy="3389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3924360" y="3881160"/>
            <a:ext cx="2879640" cy="771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516640"/>
            <a:ext cx="266364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ar Chart Steps 2 and 3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0942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don’t need to do anything in Step 2 so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Chart title here (e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cline in Songbirds 1972 -19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notice how the preview displays your text as you type i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95640" y="2565360"/>
            <a:ext cx="4861080" cy="3170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3348000" y="3443400"/>
            <a:ext cx="1224000" cy="70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ar Chart Step 4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tep 4 you can specify where you want the Chart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w She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put the chart onto a separate sheet in the work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bject in Sheet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put the chart as an object in the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second option then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3141720"/>
            <a:ext cx="4151520" cy="1697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2987640" y="4365720"/>
            <a:ext cx="2664000" cy="107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o far so good!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7697520" cy="41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oving and Sizing A Char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move a chart so it doesn’t overlap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side the Chart area and drag the chart below the data – a dashed outline will appear. As soon as it’s in the right place let go of the mouse button – the chart will m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make the chart bigger by dragging the bottom right-hand corner of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282840" cy="1822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3152520" cy="22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rt Titles and Axis Titl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lete the chart title, click it and pres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dd it again, click inside the Chart area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t Op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t Op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you can add or change axis tit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4213440" cy="27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8:26:51Z</dcterms:created>
  <dc:creator>Karen Blakeley</dc:creator>
  <dc:description/>
  <dc:language>en-US</dc:language>
  <cp:lastModifiedBy>oliver</cp:lastModifiedBy>
  <dcterms:modified xsi:type="dcterms:W3CDTF">2004-06-08T13:22:49Z</dcterms:modified>
  <cp:revision>8</cp:revision>
  <dc:subject/>
  <dc:title>European Computer Driving Licence</dc:title>
</cp:coreProperties>
</file>