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4BD-02C9-4B16-B505-B266EC97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61D-04DF-408A-B2AF-B293C3F1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6E3-1BF7-4583-9C77-732E778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2CC-A1B2-499A-B190-19F71E9D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F90-1A35-43A7-9A1D-BB0405E6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5DE-047F-47E5-8C41-6EE70BED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72F4-2EC3-4CFC-9A03-4A616553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C85-4D56-40AE-8AC5-D704B65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A721-04E2-429A-84FE-77E395D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885-71A0-4FEE-95F2-0D22D50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793-C936-4EA5-848C-A921F23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68E-E9B5-4A05-A93E-0A58AAA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760A-3F1D-42BF-9516-44A71FD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2EC-AD96-4BE4-8381-4652346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D367-46A6-4728-949C-2A9098B1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6E4A-718D-4694-B353-860E369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A08E-3A90-4100-A5A9-BFCA0645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5FD-89D0-4DB7-BB8F-299757B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976-BE92-4BBF-A479-F147A31A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564-1D7E-42E6-BA1E-B46C062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E53-E474-4987-B757-67BE812D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49A-EE93-44E6-BEFF-3BF306B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285-4EF2-475A-942A-041C55E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FB5-81EE-4E7A-AB28-8693D53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0CA-3A1F-4B25-B326-934D42F3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8BE-B0CC-4707-8E5C-45026BCF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6 – Pie Char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280" y="119700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pying a chart to a different workbook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have another  workbook op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.g. Birds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tch to the Birds workbook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hee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ce in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taskbar button of the workbook you want to copy i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Birds200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151080" cy="35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10649" r="0" b="0"/>
          <a:stretch/>
        </p:blipFill>
        <p:spPr>
          <a:xfrm>
            <a:off x="4932360" y="3213000"/>
            <a:ext cx="2610000" cy="1811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19840" y="366552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Birds.xls she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394240"/>
            <a:ext cx="11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irds2004.xls shee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72360" y="4394160"/>
            <a:ext cx="2350800" cy="2003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64000" y="4724280"/>
            <a:ext cx="122400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chart typ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chart type, right click an empty part of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 type required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160164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3833640"/>
            <a:ext cx="289584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line colours in a line char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 line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select a different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you can change the marker style here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7791" t="36803" r="16282" b="0"/>
          <a:stretch/>
        </p:blipFill>
        <p:spPr>
          <a:xfrm>
            <a:off x="4572000" y="2349360"/>
            <a:ext cx="1871640" cy="137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3771720" cy="3067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from a line chart to a bar char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y empty part of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ustered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labels above columns, right-click any of the labels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need to delete the legend as this is not required for this type of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29559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let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any white space in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401184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e 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 charts are often used to show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created in much the same way as Bar (or Column)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your data into a worksheet and run the Chart wiza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3810" t="0" r="20064" b="0"/>
          <a:stretch/>
        </p:blipFill>
        <p:spPr>
          <a:xfrm>
            <a:off x="4572000" y="2276640"/>
            <a:ext cx="3817800" cy="3608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ating a Pie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data you want to be ch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of the wizard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Chart Typ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lain Pie chart in the top left hand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8476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Wizard Steps 2 and 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tep 2 window appears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type in your ti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g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make su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ow Leg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che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egory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3240000" cy="2111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3240000" cy="2113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7" name=""/>
          <p:cNvSpPr/>
          <p:nvPr/>
        </p:nvSpPr>
        <p:spPr>
          <a:xfrm flipV="1">
            <a:off x="4356000" y="4652640"/>
            <a:ext cx="1224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3640" y="2636640"/>
            <a:ext cx="180000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Wizard Step 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you have the choice of placing the chart in a new sheet or as an object in She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27640" cy="221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Data Labe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data labels bigg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in any data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change the font size click o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ab and select the size requir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labels are overlapping, drag them apa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1922400" cy="57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673440" cy="310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2771640" y="3933720"/>
            <a:ext cx="288000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the Legen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size of the legend text, right click any text in the legend area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Legend T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ize required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14632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341964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and Pasting 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nd paste a chart, click in any white space inside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heet tab you want to copy the char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t will appear in the selected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8952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3059280" y="5661000"/>
            <a:ext cx="25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size of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hart area in any white spa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 down and right to the bottom right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handle in the bottom right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wards the left corner of you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you release the mouse button the chart will chang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76720" y="2565360"/>
            <a:ext cx="3619440" cy="3384720"/>
            <a:chOff x="5076720" y="2565360"/>
            <a:chExt cx="3619440" cy="33847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rcRect l="52952" t="0" r="0" b="0"/>
            <a:stretch/>
          </p:blipFill>
          <p:spPr>
            <a:xfrm>
              <a:off x="5076720" y="2565360"/>
              <a:ext cx="2962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12000" y="3645000"/>
              <a:ext cx="884160" cy="1006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 black squares are the handles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669080" y="4653000"/>
              <a:ext cx="50328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7595640" y="3436920"/>
              <a:ext cx="360360" cy="20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4292640"/>
            <a:ext cx="3311280" cy="144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20:06:09Z</dcterms:created>
  <dc:creator>Karen Blakeley</dc:creator>
  <dc:description/>
  <dc:language>en-US</dc:language>
  <cp:lastModifiedBy>oliver</cp:lastModifiedBy>
  <dcterms:modified xsi:type="dcterms:W3CDTF">2004-06-08T13:49:33Z</dcterms:modified>
  <cp:revision>8</cp:revision>
  <dc:subject/>
  <dc:title>European Computer Driving Licence</dc:title>
</cp:coreProperties>
</file>