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74C-DAA3-49C3-9EDC-40A76BC4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215-80E2-4A0F-8067-969907A9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F40-EE82-4522-B6A3-DCF21CF9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5B1-F260-4143-9BD6-D15038CF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903-89D0-4843-9127-18F071C1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EBAF-FE6C-4466-9868-6C34B4D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0BD-0573-4055-B049-7A4C660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3707-11D7-410B-B620-C76CB04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9C32-64B5-45F6-95FF-C904DE61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3B5A-9874-472A-BD4E-DDBEBF2B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641-BBD0-428D-BB51-A261194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338-EE87-4391-B13B-6E49E9D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575-85D2-4CA8-A0B0-B6265294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4694-B404-403B-A656-3917018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CB15-BC88-40FD-B17B-56CACF1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047-BFAF-4509-B4B3-E7E4E3F4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3B9-51F2-4AEF-BF59-2C37A17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DD6-E788-4885-9738-EBADDB0F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B17-DD0B-474F-B984-7C2D767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135-8403-4AEF-9D25-D0C6DAB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F33-CADE-43FC-A1A0-DA785DD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246-52B3-4ABA-99BD-630089E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6E7-C4D3-4CE4-BB8B-6093820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798-63A1-4598-B051-B330755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22D-9E3C-4A4A-A99D-37E6D1353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4369-7BF0-4CAB-B3CB-1C9D44B24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6 – Pie Char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280" y="1197000"/>
            <a:ext cx="7846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pying a chart to a different workbook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 have another  workbook ope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.g. Birds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tch to the Birds workbook and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hee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ce in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menu selec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the taskbar button of the workbook you want to copy it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Birds200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151080" cy="35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10649" r="0" b="0"/>
          <a:stretch/>
        </p:blipFill>
        <p:spPr>
          <a:xfrm>
            <a:off x="4932360" y="3213000"/>
            <a:ext cx="2610000" cy="1811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19840" y="366552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Birds.xls she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394240"/>
            <a:ext cx="11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irds2004.xls shee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72360" y="4394160"/>
            <a:ext cx="2350800" cy="2003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64000" y="4724280"/>
            <a:ext cx="122400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chart typ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chart type, right click an empty part of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 type required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160164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3833640"/>
            <a:ext cx="289584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line colours in a line char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a line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select a different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you can change the marker style here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7791" t="36803" r="16282" b="0"/>
          <a:stretch/>
        </p:blipFill>
        <p:spPr>
          <a:xfrm>
            <a:off x="4572000" y="2349360"/>
            <a:ext cx="1871640" cy="137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3771720" cy="3067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from a line chart to a bar char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y empty part of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ustered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labels above columns, right-click any of the labels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need to delete the legend as this is not required for this type of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29559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let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any white space in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on your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401184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e 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 charts are often used to show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created in much the same way as Bar (or Column)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your data into a worksheet and run the Chart wiza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3810" t="0" r="20064" b="0"/>
          <a:stretch/>
        </p:blipFill>
        <p:spPr>
          <a:xfrm>
            <a:off x="4572000" y="2276640"/>
            <a:ext cx="3817800" cy="3608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eating a Pie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data you want to be ch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of the wizard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Chart Typ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lain Pie chart in the top left hand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84760" cy="24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Wizard Steps 2 and 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tep 2 window appears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and type in your ti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g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make su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ow Leg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che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egory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3240000" cy="2111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3240000" cy="2113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7" name=""/>
          <p:cNvSpPr/>
          <p:nvPr/>
        </p:nvSpPr>
        <p:spPr>
          <a:xfrm flipV="1">
            <a:off x="4356000" y="4652640"/>
            <a:ext cx="1224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03640" y="2636640"/>
            <a:ext cx="180000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Wizard Step 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you have the choice of placing the chart in a new sheet or as an object in She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27640" cy="221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Data Label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data labels bigg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in any data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data lab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change the font size click o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ab and select the size requir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labels are overlapping, drag them apa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1922400" cy="57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3673440" cy="310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2771640" y="3933720"/>
            <a:ext cx="288000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the Legen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size of the legend text, right click any text in the legend area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Legend T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ize required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14632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341964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pying and Pasting 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and paste a chart, click in any white space inside the Char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heet tab you want to copy the char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t will appear in the selected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8952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3059280" y="5661000"/>
            <a:ext cx="25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size of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hart area in any white space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 down and right to the bottom right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the handle in the bottom right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wards the left corner of you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on as you release the mouse button the chart will chang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76720" y="2565360"/>
            <a:ext cx="3619440" cy="3384720"/>
            <a:chOff x="5076720" y="2565360"/>
            <a:chExt cx="3619440" cy="33847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rcRect l="52952" t="0" r="0" b="0"/>
            <a:stretch/>
          </p:blipFill>
          <p:spPr>
            <a:xfrm>
              <a:off x="5076720" y="2565360"/>
              <a:ext cx="2962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12000" y="3645000"/>
              <a:ext cx="884160" cy="1006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 black squares are the handles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669080" y="4653000"/>
              <a:ext cx="50328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7595640" y="3436920"/>
              <a:ext cx="360360" cy="20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4292640"/>
            <a:ext cx="3311280" cy="144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20:06:09Z</dcterms:created>
  <dc:creator>Karen Blakeley</dc:creator>
  <dc:description/>
  <dc:language>en-US</dc:language>
  <cp:lastModifiedBy>oliver</cp:lastModifiedBy>
  <dcterms:modified xsi:type="dcterms:W3CDTF">2004-06-08T13:49:33Z</dcterms:modified>
  <cp:revision>8</cp:revision>
  <dc:subject/>
  <dc:title>European Computer Driving Licence</dc:title>
</cp:coreProperties>
</file>