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5F2-6CA6-4E0F-998A-426587F0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EF8-901E-4161-ACD2-1AB6485B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502B-AC43-41FA-BECA-554FED7A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660-A4AF-4BBD-9172-32455B6A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9D42-6654-45DB-BBD6-84658FE3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B4BB-557F-413F-97C5-93498E3F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7741-DFFA-45D0-88FB-E87D50A6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0BBD-08EB-426E-A260-D8802F5F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09AC-93B0-4649-84BA-A8BB5055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A9AF-7D99-4AB9-8ABC-8ADADF6C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737B-C2A0-4871-BB39-4177B79C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DD8-7839-4B56-8998-7AC2928C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A1AB-8D1A-47DE-85C8-E4317FB7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C8C8-53DC-42BC-BC11-51754507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E45A-5C02-45E7-A96D-0D173ED5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EA46-12E0-46BE-B51E-45050238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DF94-3FD0-4817-A930-1124A095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98B-1308-4159-91DA-9F264B8D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821-213D-4DF4-8D81-0D83E143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9A6-D576-45E4-8367-816BBA16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94B-03FC-46DB-8411-A716FA8B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9F2-DCDC-4B1F-BF64-C4411B43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06BB-A111-4C49-87C6-80493808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ED4-E265-4450-B74D-24B8AB7F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425F-234E-4E77-A1F1-E747A923B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8111-C343-4D9A-ACEC-BC18CA6C6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dule 4 –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pter 4.7 - Printing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78469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itting worksheet contents onto a specific number of pa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come across spreadsheets that have data that fills more than one page, go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caling section, 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io but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number of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will scale the text to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48360" y="2708280"/>
            <a:ext cx="3717720" cy="2921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V="1">
            <a:off x="3348000" y="3141720"/>
            <a:ext cx="187164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419640" y="4220640"/>
            <a:ext cx="194436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8469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ding/Unhiding gridlines on printou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491920"/>
            <a:ext cx="385596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automatically prints without grid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int gridlines,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e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 click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id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eck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the Print Preview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88000" y="2781360"/>
            <a:ext cx="4071960" cy="3186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V="1">
            <a:off x="2771640" y="3213000"/>
            <a:ext cx="388800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56000" y="4436640"/>
            <a:ext cx="237636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aper orientation and siz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from Portrait to Landscape,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size of paper, click on the down arrow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per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 and select the siz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4287960" cy="3354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V="1">
            <a:off x="2627280" y="2997000"/>
            <a:ext cx="223200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132000" y="3645000"/>
            <a:ext cx="345600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4653000"/>
            <a:ext cx="34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nging the margi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r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which margin sizes you 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4241880" cy="33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epara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a number of ways to set up your worksheet before output (e.g. prin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nt Preview is a useful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for spelling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your calculations are as you int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flipH="1">
            <a:off x="5580000" y="2565360"/>
            <a:ext cx="3036960" cy="31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inting a char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workbook and select the sheet that contains the graph (e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irds.xls sheet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eview the chart, click on it to select it, then 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at the top of the preview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your print options and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3201840" cy="232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80000" y="4149720"/>
            <a:ext cx="317808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inting an entire workshee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way from the chart to de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your mouse pointer over the page – it changes to a magnifying g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ce to Zoom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e top of the preview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3024"/>
          <a:stretch/>
        </p:blipFill>
        <p:spPr>
          <a:xfrm>
            <a:off x="4572000" y="2852640"/>
            <a:ext cx="4176720" cy="255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3348000" y="4005000"/>
            <a:ext cx="3816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119240"/>
            <a:ext cx="784692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inting a cell rang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5989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s you want to print (e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rough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Prin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only the selected cells appear in pre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ed to print the whole sheet again,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ear Prin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20"/>
          <a:stretch/>
        </p:blipFill>
        <p:spPr>
          <a:xfrm>
            <a:off x="4572000" y="2276640"/>
            <a:ext cx="4359240" cy="151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0" t="42976" r="0" b="30112"/>
          <a:stretch/>
        </p:blipFill>
        <p:spPr>
          <a:xfrm>
            <a:off x="4788000" y="4437000"/>
            <a:ext cx="360036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inting an entire workbook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have no print areas set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ear Print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chart isn’t selected then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Print dialogue box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tire work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03640" y="2924280"/>
            <a:ext cx="3837240" cy="2716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3924360" y="5013360"/>
            <a:ext cx="208764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inting row and column heading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Set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age Setup dialogue box 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e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heckbox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w and Column Head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the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the Print Preview by clicking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88000" y="2133720"/>
            <a:ext cx="2684520" cy="2122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24360" y="3789360"/>
            <a:ext cx="2487600" cy="2336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3276720" y="2492280"/>
            <a:ext cx="2808000" cy="9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284720" y="3213000"/>
            <a:ext cx="136692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inting the title row on every pag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useful to have titles repeated on worksheets that span more than on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cell range (e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Prin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document is 4 pages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at the top of the preview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Set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580000" y="2708280"/>
            <a:ext cx="2365560" cy="3084840"/>
            <a:chOff x="5580000" y="2708280"/>
            <a:chExt cx="2365560" cy="30848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580000" y="2708280"/>
              <a:ext cx="236556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790600" y="5516640"/>
              <a:ext cx="182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Continued on next slide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inting the title row on every pag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276640"/>
            <a:ext cx="3855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e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(if not already show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lect row 1, typ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:$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click on the icon to the right of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first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icon to select the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76720" y="2205000"/>
            <a:ext cx="3746520" cy="1592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4292640"/>
            <a:ext cx="4241880" cy="170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4067280" y="3213000"/>
            <a:ext cx="352908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869000"/>
            <a:ext cx="3887640" cy="7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inting the title row on every pag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peat a column, do the same in the repeat column box (ie select Column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lose the Print Preview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03640" y="2354400"/>
            <a:ext cx="2733840" cy="21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17:58:27Z</dcterms:created>
  <dc:creator>Karen Blakeley</dc:creator>
  <dc:description/>
  <dc:language>en-US</dc:language>
  <cp:lastModifiedBy>oliver</cp:lastModifiedBy>
  <dcterms:modified xsi:type="dcterms:W3CDTF">2004-06-08T14:01:35Z</dcterms:modified>
  <cp:revision>6</cp:revision>
  <dc:subject/>
  <dc:title>European Computer Driving Licence</dc:title>
</cp:coreProperties>
</file>