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D83-8BEA-428D-AE85-D9DD99D2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BA9-A2FA-49E0-BDF7-F2A7AF78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106-0717-4A63-B3E6-AAE56A2F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92D-B255-4A41-A871-B495C59B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7B4C-24F3-417B-ACF7-E4F95EE8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EEB9-E896-4A9B-883B-1C1A53E8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49EC-3BFF-4B3E-A512-FCE32056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249A-65D9-4313-AB18-CD295531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EB2C-60DB-40A2-8ACD-D7AFD90E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AC67-58CE-48C9-85B7-9BB4E34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0052-AC4D-48E1-BE93-69DDB5D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D32-EFE9-4B08-ADB9-61A6CF5B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7D09-874F-4D16-8E8A-59632007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393-C04D-4593-9BD8-B2412CA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96CE-7B98-4C74-A1B4-73819E4D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C868-36EC-4F83-9B16-C2B317AE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1DB8-FD1E-472B-9F5D-9A56CBD5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054-667E-4DF4-BCD3-F9C0BC98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DB4-C199-464F-A2C1-6218745E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707-0022-4D5F-BDDD-C2136C63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9E9-C723-433C-ADC7-29187D24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BD4-F7E2-4B15-ABF6-4FE80DB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06E-B476-4006-8642-29E9B8C0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110-FB7E-4E22-815A-3CDEE717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BB09-D950-4C9D-87DC-528642E20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F058-1B49-4956-9728-A349CA4AB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7 - Printing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78469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tting worksheet contents onto a specific number of pa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come across spreadsheets that have data that fills more than one page, go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caling section,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o but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number of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will scale the text to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48360" y="2708280"/>
            <a:ext cx="3717720" cy="2921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V="1">
            <a:off x="3348000" y="3141720"/>
            <a:ext cx="187164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419640" y="4220640"/>
            <a:ext cx="194436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8469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ding/Unhiding gridlines on printou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91920"/>
            <a:ext cx="38559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automatically prints without grid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int gridlines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id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ck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Print Preview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4071960" cy="3186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2771640" y="3213000"/>
            <a:ext cx="388800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56000" y="4436640"/>
            <a:ext cx="237636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per orientation and siz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from Portrait to Landscape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size of paper, click on the down arrow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per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 and select the siz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287960" cy="3354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2627280" y="2997000"/>
            <a:ext cx="22320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132000" y="3645000"/>
            <a:ext cx="345600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4653000"/>
            <a:ext cx="34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nging the margi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r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which margin sizes you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4241880" cy="33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epar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a number of ways to set up your worksheet before output (e.g. prin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t Preview is a useful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for spelling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your calculations are as you int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flipH="1">
            <a:off x="5580000" y="2565360"/>
            <a:ext cx="303696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nting a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workbook and select the sheet that contains the graph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rds.xls sheet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view the chart, click on it to select it, then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at the top of the preview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print options and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3201840" cy="232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80000" y="4149720"/>
            <a:ext cx="317808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nting an entire workshee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way from the chart to de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your mouse pointer over the page – it changes to a magnifying g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ce to Zoom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e top of the preview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3024"/>
          <a:stretch/>
        </p:blipFill>
        <p:spPr>
          <a:xfrm>
            <a:off x="4572000" y="2852640"/>
            <a:ext cx="4176720" cy="255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3348000" y="4005000"/>
            <a:ext cx="3816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nting a cell rang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598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you want to print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Pri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only the selected cells appear in pre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ed to print the whole sheet again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ear Pri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0"/>
          <a:stretch/>
        </p:blipFill>
        <p:spPr>
          <a:xfrm>
            <a:off x="4572000" y="2276640"/>
            <a:ext cx="4359240" cy="151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42976" r="0" b="30112"/>
          <a:stretch/>
        </p:blipFill>
        <p:spPr>
          <a:xfrm>
            <a:off x="4788000" y="4437000"/>
            <a:ext cx="3600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inting an entire workboo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have no print areas set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ear 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chart isn’t selected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Print dialogue box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ire work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03640" y="2924280"/>
            <a:ext cx="3837240" cy="271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3924360" y="5013360"/>
            <a:ext cx="2087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ting row and column heading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ge Setup dialogue box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heckbo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w and Column Head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th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Print Preview by clicking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2684520" cy="2122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487600" cy="2336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3276720" y="2492280"/>
            <a:ext cx="280800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84720" y="3213000"/>
            <a:ext cx="136692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ting the title row on every pag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eful to have titles repeated on worksheets that span more than on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cell range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Prin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document is 4 pages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at the top of the preview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80000" y="2708280"/>
            <a:ext cx="2365560" cy="3084840"/>
            <a:chOff x="5580000" y="2708280"/>
            <a:chExt cx="2365560" cy="30848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580000" y="2708280"/>
              <a:ext cx="236556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790600" y="5516640"/>
              <a:ext cx="182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Continued on next slide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ting the title row on every pag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3855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(if not already show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row 1, typ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:$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lick on the icon to the right of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firs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icon to select the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746520" cy="159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4292640"/>
            <a:ext cx="4241880" cy="170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067280" y="3213000"/>
            <a:ext cx="3529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869000"/>
            <a:ext cx="3887640" cy="7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ting the title row on every pag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peat a column, do the same in the repeat column box (ie select Column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lose the Print Preview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03640" y="2354400"/>
            <a:ext cx="2733840" cy="21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17:58:27Z</dcterms:created>
  <dc:creator>Karen Blakeley</dc:creator>
  <dc:description/>
  <dc:language>en-US</dc:language>
  <cp:lastModifiedBy>oliver</cp:lastModifiedBy>
  <dcterms:modified xsi:type="dcterms:W3CDTF">2004-06-08T14:01:35Z</dcterms:modified>
  <cp:revision>6</cp:revision>
  <dc:subject/>
  <dc:title>European Computer Driving Licence</dc:title>
</cp:coreProperties>
</file>