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4.wmf" ContentType="image/x-wmf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89BC-933A-4CD2-8B62-9C9307A2E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3428-8243-47A3-852C-76AB08BF0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65EA-D59F-490E-AFD8-E28D04329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512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444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512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444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74A6-D62D-4268-A088-9AB7A9E72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9F6E1-1580-4960-B006-BA91953D6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0823F-434D-4E4D-8CFB-1F81AAF7D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C23CA-9F6F-4ABB-909B-506AB7971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2735D-FFA3-4608-BA85-44555C868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7E9F7-5F0B-47FF-8361-F31859208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10920" y="1118880"/>
            <a:ext cx="7846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7C338-414B-418D-83E0-4FC11EB5E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A2F64-BFA2-4F58-BA02-7867C869B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9859-E3C3-4521-9A45-8FC72D82C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44A0F-9B8B-4333-915C-B06E51BEF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1BC81-CC98-425C-87A2-17A3E2FE5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10478-6D9D-4E3E-81C2-52A2C077F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0BDF9-C6C3-4E45-9BC2-EB4166B93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4512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0444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4512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0444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E6AAA-CEAB-4C29-9E6E-4CF6DC6DB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AB48-6237-4AAE-8470-0E03EFBA0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E354-7434-4406-81A2-21B37A524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A20F-A6CE-4EE8-A643-7EBACA34A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10920" y="1118880"/>
            <a:ext cx="7846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8FA8-4D6B-41A0-A2C7-8711A6F1D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6300-684E-4E5E-8EE7-D956F39AB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716F-AF49-4A63-AFF7-3DEB137AF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296D-AA3C-458A-90F7-EA01A09AD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2F151-FCB7-4A66-A792-F3F4D3244F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11681" r="2025" b="0"/>
          <a:stretch/>
        </p:blipFill>
        <p:spPr>
          <a:xfrm>
            <a:off x="0" y="0"/>
            <a:ext cx="9144000" cy="1320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5320" y="1828800"/>
            <a:ext cx="7909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08E0A-26F3-4376-9E24-935A7033AD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30760" y="22320"/>
            <a:ext cx="5313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0" t="11681" r="2025" b="0"/>
          <a:stretch/>
        </p:blipFill>
        <p:spPr>
          <a:xfrm>
            <a:off x="0" y="0"/>
            <a:ext cx="9144000" cy="13208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5320" y="1828800"/>
            <a:ext cx="7909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European Computer Driving Licence</a:t>
            </a:r>
            <a:endParaRPr b="1" lang="en-US" sz="40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23880" y="4572000"/>
            <a:ext cx="79264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odule 4 – Spreadsheets</a:t>
            </a:r>
            <a:endParaRPr b="0" i="1" lang="en-US" sz="2400" spc="-1" strike="noStrike">
              <a:solidFill>
                <a:srgbClr val="ff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hapter 4.8 – Cell Referencing</a:t>
            </a:r>
            <a:endParaRPr b="0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Formatting to Euro currency 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light the cells to be formatted (in this case cell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1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ght-click and select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ormat Cel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in the symbol box and select the Euro symbol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sure decimal places are set to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489640" y="2241720"/>
            <a:ext cx="2449440" cy="23745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572000" y="5121360"/>
            <a:ext cx="4284720" cy="1338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 flipV="1">
            <a:off x="4160880" y="3123720"/>
            <a:ext cx="3286080" cy="1341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5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Merge and centre cell contents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useful to merge and centre titles to improve the l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he cells to be merged (in this cas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the formatting toolbar, click o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erge and cent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xt will be centred within the selected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932360" y="2516040"/>
            <a:ext cx="3795840" cy="182412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176800" y="4941720"/>
            <a:ext cx="3306960" cy="91296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Inserting a date field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2204640"/>
            <a:ext cx="3855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quickest way to do this is pres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tr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type the date in using slashes or dashes (eg 01/06/04 or 01-06-0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format the date, right-click the cell and select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ormat Cel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rom the shortcut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he format you require then click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widen the column to show the date in f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932360" y="2205000"/>
            <a:ext cx="3932280" cy="377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1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3000"/>
                            </p:stCondLst>
                            <p:childTnLst>
                              <p:par>
                                <p:cTn id="2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1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4000"/>
                            </p:stCondLst>
                            <p:childTnLst>
                              <p:par>
                                <p:cTn id="2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1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0"/>
                            </p:stCondLst>
                            <p:childTnLst>
                              <p:par>
                                <p:cTn id="2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10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Wrapping cell content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2276280"/>
            <a:ext cx="38559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times a row label can be too long – it looks better if it runs onto two lines rather than having a column that is too w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he cell (in this cas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1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ght-click and select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ormat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lign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the Text Control section click the checkbox next to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rap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0" y="2852640"/>
            <a:ext cx="4275000" cy="25322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 flipV="1">
            <a:off x="3325680" y="3282840"/>
            <a:ext cx="3567240" cy="1974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4098960" y="4329000"/>
            <a:ext cx="2347920" cy="1751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3000"/>
                            </p:stCondLst>
                            <p:childTnLst>
                              <p:par>
                                <p:cTn id="2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1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00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1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Wrapping cell content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440" y="2195280"/>
            <a:ext cx="3855960" cy="40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ze colum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o that it is just the right width for Currency exchange ra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will find that not all the text displ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 the row height by clicking and dragging between row header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ap the text in cell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also do this with the column heading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ice in Euro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ice in pou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861080" y="4362480"/>
            <a:ext cx="4022640" cy="1932120"/>
          </a:xfrm>
          <a:prstGeom prst="rect">
            <a:avLst/>
          </a:prstGeom>
          <a:ln w="0">
            <a:noFill/>
          </a:ln>
        </p:spPr>
      </p:pic>
      <p:grpSp>
        <p:nvGrpSpPr>
          <p:cNvPr id="143" name=""/>
          <p:cNvGrpSpPr/>
          <p:nvPr/>
        </p:nvGrpSpPr>
        <p:grpSpPr>
          <a:xfrm>
            <a:off x="4098960" y="2346480"/>
            <a:ext cx="4325760" cy="1920240"/>
            <a:chOff x="4098960" y="2346480"/>
            <a:chExt cx="4325760" cy="1920240"/>
          </a:xfrm>
        </p:grpSpPr>
        <p:pic>
          <p:nvPicPr>
            <p:cNvPr id="144" name="" descr=""/>
            <p:cNvPicPr/>
            <p:nvPr/>
          </p:nvPicPr>
          <p:blipFill>
            <a:blip r:embed="rId2"/>
            <a:stretch/>
          </p:blipFill>
          <p:spPr>
            <a:xfrm>
              <a:off x="5141880" y="2346480"/>
              <a:ext cx="328284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 flipV="1">
              <a:off x="4098960" y="3230280"/>
              <a:ext cx="1036440" cy="1036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000"/>
                            </p:stCondLst>
                            <p:childTnLst>
                              <p:par>
                                <p:cTn id="3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3000"/>
                            </p:stCondLst>
                            <p:childTnLst>
                              <p:par>
                                <p:cTn id="3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4000"/>
                            </p:stCondLst>
                            <p:childTnLst>
                              <p:par>
                                <p:cTn id="3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0"/>
                            </p:stCondLst>
                            <p:childTnLst>
                              <p:par>
                                <p:cTn id="3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dding borders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add different borders to improve the appearance of your workshe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cell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the down arrow on the Border i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utside B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outside border will appear around the selected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rcRect l="71605" t="0" r="0" b="12144"/>
          <a:stretch/>
        </p:blipFill>
        <p:spPr>
          <a:xfrm>
            <a:off x="5319720" y="2111400"/>
            <a:ext cx="2455920" cy="19857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4572000" y="4878360"/>
            <a:ext cx="4221000" cy="4478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 flipV="1">
            <a:off x="4191120" y="2358720"/>
            <a:ext cx="1935000" cy="1832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3886200" y="3200040"/>
            <a:ext cx="263844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2000"/>
                            </p:stCondLst>
                            <p:childTnLst>
                              <p:par>
                                <p:cTn id="3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976640" y="2260440"/>
            <a:ext cx="1916280" cy="22273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Other border options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wanted to delete a border, select the cells, click the down arrow on the Border icon and select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 b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draw a heavy border around a range of cells, select the cells then click on the down-arrow on the Border icon and select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ick Box Bord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rcRect l="0" t="0" r="6877" b="0"/>
          <a:stretch/>
        </p:blipFill>
        <p:spPr>
          <a:xfrm>
            <a:off x="6005520" y="4025880"/>
            <a:ext cx="2844720" cy="22194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1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Find and Replace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find a value, click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d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rom the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the value you want to search for (eg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V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then click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nd 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l makes the cell containing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V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active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nd Nex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find the next cell containing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197320" y="2433600"/>
            <a:ext cx="3651480" cy="1593720"/>
          </a:xfrm>
          <a:prstGeom prst="rect">
            <a:avLst/>
          </a:prstGeom>
          <a:ln w="0">
            <a:noFill/>
          </a:ln>
        </p:spPr>
      </p:pic>
      <p:grpSp>
        <p:nvGrpSpPr>
          <p:cNvPr id="159" name=""/>
          <p:cNvGrpSpPr/>
          <p:nvPr/>
        </p:nvGrpSpPr>
        <p:grpSpPr>
          <a:xfrm>
            <a:off x="4572000" y="4587840"/>
            <a:ext cx="4389480" cy="1596960"/>
            <a:chOff x="4572000" y="4587840"/>
            <a:chExt cx="4389480" cy="1596960"/>
          </a:xfrm>
        </p:grpSpPr>
        <p:pic>
          <p:nvPicPr>
            <p:cNvPr id="160" name="" descr=""/>
            <p:cNvPicPr/>
            <p:nvPr/>
          </p:nvPicPr>
          <p:blipFill>
            <a:blip r:embed="rId2"/>
            <a:stretch/>
          </p:blipFill>
          <p:spPr>
            <a:xfrm>
              <a:off x="5016600" y="4765680"/>
              <a:ext cx="3944880" cy="14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4572000" y="4587840"/>
              <a:ext cx="750960" cy="790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000"/>
                            </p:stCondLst>
                            <p:childTnLst>
                              <p:par>
                                <p:cTn id="3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1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1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3000"/>
                            </p:stCondLst>
                            <p:childTnLst>
                              <p:par>
                                <p:cTn id="4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1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10920" y="1119240"/>
            <a:ext cx="78469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Replacing a word or value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2242800"/>
            <a:ext cx="3855960" cy="40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replac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olkswag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click o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d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pla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rom the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inside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ear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ox and typ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inside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place wi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ox and typ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olkswa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place A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essage appears telling you how many replacements have been made, click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s now becom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olkswag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click o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l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572000" y="2189160"/>
            <a:ext cx="4361040" cy="19620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572000" y="4238640"/>
            <a:ext cx="3619440" cy="1095480"/>
          </a:xfrm>
          <a:prstGeom prst="rect">
            <a:avLst/>
          </a:prstGeom>
          <a:ln w="0">
            <a:noFill/>
          </a:ln>
        </p:spPr>
      </p:pic>
      <p:grpSp>
        <p:nvGrpSpPr>
          <p:cNvPr id="166" name=""/>
          <p:cNvGrpSpPr/>
          <p:nvPr/>
        </p:nvGrpSpPr>
        <p:grpSpPr>
          <a:xfrm>
            <a:off x="4145040" y="4835520"/>
            <a:ext cx="4784760" cy="1650960"/>
            <a:chOff x="4145040" y="4835520"/>
            <a:chExt cx="4784760" cy="1650960"/>
          </a:xfrm>
        </p:grpSpPr>
        <p:pic>
          <p:nvPicPr>
            <p:cNvPr id="167" name="" descr=""/>
            <p:cNvPicPr/>
            <p:nvPr/>
          </p:nvPicPr>
          <p:blipFill>
            <a:blip r:embed="rId3"/>
            <a:srcRect l="0" t="17462" r="0" b="0"/>
            <a:stretch/>
          </p:blipFill>
          <p:spPr>
            <a:xfrm>
              <a:off x="7435800" y="4835520"/>
              <a:ext cx="1494000" cy="16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4145040" y="5851440"/>
              <a:ext cx="33526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4145040" y="5425560"/>
              <a:ext cx="33526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000"/>
                            </p:stCondLst>
                            <p:childTnLst>
                              <p:par>
                                <p:cTn id="4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1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2000"/>
                            </p:stCondLst>
                            <p:childTnLst>
                              <p:par>
                                <p:cTn id="4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1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1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4000"/>
                            </p:stCondLst>
                            <p:childTnLst>
                              <p:par>
                                <p:cTn id="4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1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5000"/>
                            </p:stCondLst>
                            <p:childTnLst>
                              <p:par>
                                <p:cTn id="4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10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dding Headers and Footers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ful for automatically adding current date and page numbers on larger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Vie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eader and Foo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rom the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ustom Head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type text into one of the text boxes or add a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156280" y="2070000"/>
            <a:ext cx="3467160" cy="27162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5126040" y="4932360"/>
            <a:ext cx="3436920" cy="14875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 flipV="1">
            <a:off x="4008600" y="3514680"/>
            <a:ext cx="1645920" cy="951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500"/>
                            </p:stCondLst>
                            <p:childTnLst>
                              <p:par>
                                <p:cTn id="4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500"/>
                            </p:stCondLst>
                            <p:childTnLst>
                              <p:par>
                                <p:cTn id="4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Relative cell referencing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the default setting in Exc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l actually remembers the formula as </a:t>
            </a:r>
            <a:br>
              <a:rPr sz="2000"/>
            </a:b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=the cell 3 above and one to th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you replicate a formula Excel will automatically adjust the form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003640" y="2424240"/>
            <a:ext cx="2760840" cy="10047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156360" y="4149720"/>
            <a:ext cx="2527200" cy="1181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Formatting a custom header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format a header, click inside the text box and click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ormat i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o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ialogue box app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your options (eg size 12, bold) then click o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exit the Custom Header dialogu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5302080" y="4292640"/>
            <a:ext cx="2843280" cy="1919160"/>
          </a:xfrm>
          <a:prstGeom prst="rect">
            <a:avLst/>
          </a:prstGeom>
          <a:ln w="0">
            <a:noFill/>
          </a:ln>
        </p:spPr>
      </p:pic>
      <p:grpSp>
        <p:nvGrpSpPr>
          <p:cNvPr id="178" name=""/>
          <p:cNvGrpSpPr/>
          <p:nvPr/>
        </p:nvGrpSpPr>
        <p:grpSpPr>
          <a:xfrm>
            <a:off x="3139920" y="2230560"/>
            <a:ext cx="5735880" cy="1847880"/>
            <a:chOff x="3139920" y="2230560"/>
            <a:chExt cx="5735880" cy="1847880"/>
          </a:xfrm>
        </p:grpSpPr>
        <p:pic>
          <p:nvPicPr>
            <p:cNvPr id="179" name="" descr=""/>
            <p:cNvPicPr/>
            <p:nvPr/>
          </p:nvPicPr>
          <p:blipFill>
            <a:blip r:embed="rId2"/>
            <a:stretch/>
          </p:blipFill>
          <p:spPr>
            <a:xfrm>
              <a:off x="4572000" y="2230560"/>
              <a:ext cx="4303800" cy="18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3139920" y="3230640"/>
              <a:ext cx="2482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0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000"/>
                            </p:stCondLst>
                            <p:childTnLst>
                              <p:par>
                                <p:cTn id="4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1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2000"/>
                            </p:stCondLst>
                            <p:childTnLst>
                              <p:par>
                                <p:cTn id="4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1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3000"/>
                            </p:stCondLst>
                            <p:childTnLst>
                              <p:par>
                                <p:cTn id="4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1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dding fields to a custom footer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2195280"/>
            <a:ext cx="385596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ustom Foo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inside the left section – click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le 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con, type a comma and space then click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heet 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inside the centre section – click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age N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inside the Right Section – click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utton, type a comma and space then click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i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5165640" y="2502000"/>
            <a:ext cx="3772080" cy="1587600"/>
            <a:chOff x="5165640" y="2502000"/>
            <a:chExt cx="3772080" cy="1587600"/>
          </a:xfrm>
        </p:grpSpPr>
        <p:pic>
          <p:nvPicPr>
            <p:cNvPr id="184" name="" descr=""/>
            <p:cNvPicPr/>
            <p:nvPr/>
          </p:nvPicPr>
          <p:blipFill>
            <a:blip r:embed="rId1"/>
            <a:stretch/>
          </p:blipFill>
          <p:spPr>
            <a:xfrm>
              <a:off x="5230800" y="3057480"/>
              <a:ext cx="3346560" cy="371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5" name=""/>
            <p:cNvGrpSpPr/>
            <p:nvPr/>
          </p:nvGrpSpPr>
          <p:grpSpPr>
            <a:xfrm>
              <a:off x="5165640" y="2502000"/>
              <a:ext cx="3772080" cy="637920"/>
              <a:chOff x="5165640" y="2502000"/>
              <a:chExt cx="3772080" cy="637920"/>
            </a:xfrm>
          </p:grpSpPr>
          <p:sp>
            <p:nvSpPr>
              <p:cNvPr id="186" name=""/>
              <p:cNvSpPr/>
              <p:nvPr/>
            </p:nvSpPr>
            <p:spPr>
              <a:xfrm>
                <a:off x="5165640" y="2502000"/>
                <a:ext cx="3772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Format    No of       Time        File        Inser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               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ages                      Name     Pictu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394240" y="2773440"/>
                <a:ext cx="0" cy="36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829560" y="2773440"/>
                <a:ext cx="0" cy="36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095880" y="2957400"/>
                <a:ext cx="0" cy="18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408800" y="2957400"/>
                <a:ext cx="0" cy="18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097840" y="2957400"/>
                <a:ext cx="0" cy="18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5169600" y="3428640"/>
              <a:ext cx="2928600" cy="660960"/>
              <a:chOff x="5169600" y="3428640"/>
              <a:chExt cx="2928600" cy="660960"/>
            </a:xfrm>
          </p:grpSpPr>
          <p:sp>
            <p:nvSpPr>
              <p:cNvPr id="193" name=""/>
              <p:cNvSpPr/>
              <p:nvPr/>
            </p:nvSpPr>
            <p:spPr>
              <a:xfrm>
                <a:off x="5169600" y="3630600"/>
                <a:ext cx="2928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      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age          Date        File       Shee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      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No                         Location   Nam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V="1">
                <a:off x="5796000" y="3428640"/>
                <a:ext cx="0" cy="18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V="1">
                <a:off x="6529320" y="3428640"/>
                <a:ext cx="0" cy="18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V="1">
                <a:off x="7157880" y="3428640"/>
                <a:ext cx="0" cy="18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V="1">
                <a:off x="7754760" y="3428640"/>
                <a:ext cx="0" cy="18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4915080" y="4417920"/>
            <a:ext cx="3887640" cy="168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0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1000"/>
                            </p:stCondLst>
                            <p:childTnLst>
                              <p:par>
                                <p:cTn id="5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1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2000"/>
                            </p:stCondLst>
                            <p:childTnLst>
                              <p:par>
                                <p:cTn id="5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10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3000"/>
                            </p:stCondLst>
                            <p:childTnLst>
                              <p:par>
                                <p:cTn id="5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10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40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10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10920" y="1301760"/>
            <a:ext cx="784692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reviewing your headers and footer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440" y="2517840"/>
            <a:ext cx="385596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will not be able to see your headers and footers in Normal 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int Previe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see the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print a co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e and save your spreadshe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5716440" y="2370240"/>
            <a:ext cx="2822760" cy="41828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0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1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1000"/>
                            </p:stCondLst>
                            <p:childTnLst>
                              <p:par>
                                <p:cTn id="5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10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2000"/>
                            </p:stCondLst>
                            <p:childTnLst>
                              <p:par>
                                <p:cTn id="5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10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3000"/>
                            </p:stCondLst>
                            <p:childTnLst>
                              <p:par>
                                <p:cTn id="5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10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bsolute cell referencing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solute cell referencing is used when you want to refer to the same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ar Impor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ject will take you through this step by st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056200" y="2585880"/>
            <a:ext cx="3816360" cy="2721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Entering a formula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where you want the result of the calculation to appear (in this case cell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onvert from Euros to Pounds, you need to divide the Euro amount by the exchange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ormula required i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=C7/B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ll hand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replicate the formula and see what happen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11142" t="0" r="7524" b="12426"/>
          <a:stretch/>
        </p:blipFill>
        <p:spPr>
          <a:xfrm>
            <a:off x="4859280" y="2087640"/>
            <a:ext cx="3673440" cy="23493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508720" y="4076640"/>
            <a:ext cx="2896920" cy="21369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10920" y="1197000"/>
            <a:ext cx="78469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aking a relative cell reference absolute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2276640"/>
            <a:ext cx="385596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click on each cell below D7, you will see the formula in the formula 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otice how the second part of the formula points to one cell below the previous one?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rrect this, click on cell D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stop the second cell reference changing, type 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$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ign before the column letter and row number (your formula should now read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=C7/$B$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and press 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icate this formula and you should now get the correct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292720" y="2637000"/>
            <a:ext cx="1863720" cy="20779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732720" y="4437000"/>
            <a:ext cx="1649160" cy="19018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50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450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Entering the other formulae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alculate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£sav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lick in cell E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 formula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=UK Price in pounds – Imported Price in Pou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 the formula down using the Fill Hand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ll has gone well, your formula should look like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572000" y="3068640"/>
            <a:ext cx="4095720" cy="131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alculating a percentage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alculate the % Saving, click in cell F7 and enter the calculation required:</a:t>
            </a:r>
            <a:br>
              <a:rPr sz="20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=£Saving / UK Price in Pou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crease Decim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/o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ecrease Decim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con to display the cell to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cimal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 the formula down for all the c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788000" y="4941720"/>
            <a:ext cx="4149720" cy="135108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4859280" y="2133720"/>
            <a:ext cx="4027680" cy="2579400"/>
            <a:chOff x="4859280" y="2133720"/>
            <a:chExt cx="4027680" cy="2579400"/>
          </a:xfrm>
        </p:grpSpPr>
        <p:pic>
          <p:nvPicPr>
            <p:cNvPr id="109" name="" descr=""/>
            <p:cNvPicPr/>
            <p:nvPr/>
          </p:nvPicPr>
          <p:blipFill>
            <a:blip r:embed="rId2"/>
            <a:stretch/>
          </p:blipFill>
          <p:spPr>
            <a:xfrm>
              <a:off x="5364000" y="2781360"/>
              <a:ext cx="3522960" cy="193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4859280" y="2133720"/>
              <a:ext cx="884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crease decim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867280" y="2133720"/>
              <a:ext cx="884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ecrease decim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148360" y="2565360"/>
              <a:ext cx="360360" cy="208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5795640" y="2565360"/>
              <a:ext cx="360360" cy="208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Formatting percentages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he cells to be formatted (ie cell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1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the Formatting toolbar, click o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435640" y="2411280"/>
            <a:ext cx="3209760" cy="20354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546200" y="4653000"/>
            <a:ext cx="6051600" cy="19098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 flipV="1">
            <a:off x="4237200" y="2637000"/>
            <a:ext cx="1593720" cy="79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he currency format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40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he cells you want to format (in this cas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7 to B1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hold down the control key and select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7 to E1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ght-click anywhere within the selected cells and select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ormat Cel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rom the shortcut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ab, select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urrenc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set the decimal places to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076720" y="2133720"/>
            <a:ext cx="3024360" cy="21398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576760" y="4581360"/>
            <a:ext cx="2022480" cy="195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00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31T23:35:18Z</dcterms:created>
  <dc:creator>Karen Blakeley</dc:creator>
  <dc:description/>
  <dc:language>en-US</dc:language>
  <cp:lastModifiedBy>oliver</cp:lastModifiedBy>
  <dcterms:modified xsi:type="dcterms:W3CDTF">2004-06-08T14:15:29Z</dcterms:modified>
  <cp:revision>8</cp:revision>
  <dc:subject/>
  <dc:title>European Computer Driving Licence</dc:title>
</cp:coreProperties>
</file>