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BF4-192A-47B6-BFCD-883F9D3B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421-3C13-4521-9A26-2F5B275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A72-FCE1-4F21-AF60-2DBBF5DC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EC3-B5BC-4399-8FC1-A7332247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5CC4-2D71-4576-917E-1F646982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48E-D3A5-46F6-A7F1-98632A6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EE50-48D5-4522-85DB-30F7981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0C0-5C16-4ED7-9514-613731D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2E3D-215A-4F5F-9926-0B02423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4CD6-4DA7-4606-B212-A187EEF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522E-C002-4EDB-A58E-618CB9B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156-1955-4D6A-A0EE-B571153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7C15-F042-4B34-BB87-6394FC2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F457-53BD-4797-9829-E5EB2A9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DD87-593B-499F-86FC-B8FC55B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D9C1-D106-4138-A396-A14BE66D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E9D-C2F8-4786-AD06-C607273C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ADC-A5EA-4253-897F-DD5E1055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0BE-89B0-4516-915F-037FA38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7B6-461A-4DB9-86CC-025C45C1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5CE-B867-4595-A0A9-BE149F36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F7F-4EF7-45FB-944C-C4EE53C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5A8-DC72-4FE4-969F-C96AC17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2C4-7387-409E-AC03-44E18A95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4312-C941-4D40-BF13-706AF6296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DE6-6086-4EBC-B0A3-579182B97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8 – Cell Referencing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to Euro currency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cells to be formatted (in this case cell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symbol box and select the Euro symbo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ecimal places are set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89640" y="2241720"/>
            <a:ext cx="2449440" cy="237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5121360"/>
            <a:ext cx="4284720" cy="13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160880" y="3123720"/>
            <a:ext cx="3286080" cy="1341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rge and centre cell cont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merge and centre titles to improve the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merged (in this ca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formatting toolbar,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rge and cen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will be centred within the selec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32360" y="2516040"/>
            <a:ext cx="3795840" cy="18241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76800" y="4941720"/>
            <a:ext cx="3306960" cy="91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serting a date fiel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3855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ickest way to do this is pre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ype the date in using slashes or dashes (eg 01/06/04 or 01-06-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the date, right-click the cell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rmat you require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widen the column to show the date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32280" cy="37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apping cell conten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38559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a row label can be too long – it looks better if it runs onto two lines rather than having a column that is too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 (in this ca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Text Control section click the checkbox next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rap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4275000" cy="2532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3325680" y="3282840"/>
            <a:ext cx="3567240" cy="1974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98960" y="4329000"/>
            <a:ext cx="2347920" cy="1751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apping cell conten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195280"/>
            <a:ext cx="385596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colum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it is just the right width for Currency exchange r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find that not all the text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row height by clicking and dragging between row header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 the text 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do this with the column heading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ce in Eu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ce in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61080" y="4362480"/>
            <a:ext cx="40226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098960" y="2346480"/>
            <a:ext cx="4325760" cy="1920240"/>
            <a:chOff x="4098960" y="2346480"/>
            <a:chExt cx="4325760" cy="192024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41880" y="2346480"/>
              <a:ext cx="3282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flipV="1">
              <a:off x="4098960" y="3230280"/>
              <a:ext cx="1036440" cy="1036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bord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dd different borders to improve the appearance of your work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ell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down arrow on the Border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tside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utside border will appear around the selec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71605" t="0" r="0" b="12144"/>
          <a:stretch/>
        </p:blipFill>
        <p:spPr>
          <a:xfrm>
            <a:off x="5319720" y="2111400"/>
            <a:ext cx="2455920" cy="1985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4878360"/>
            <a:ext cx="4221000" cy="447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4191120" y="2358720"/>
            <a:ext cx="1935000" cy="183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86200" y="3200040"/>
            <a:ext cx="2638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76640" y="2260440"/>
            <a:ext cx="1916280" cy="2227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ther border option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ed to delete a border, select the cells, click the down arrow on the Border icon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raw a heavy border around a range of cells, select the cells then click on the down-arrow on the Border icon and selec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ck Box B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0" t="0" r="6877" b="0"/>
          <a:stretch/>
        </p:blipFill>
        <p:spPr>
          <a:xfrm>
            <a:off x="6005520" y="4025880"/>
            <a:ext cx="2844720" cy="2219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nd and Replac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a value,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value you want to search for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makes the cell contain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ctiv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 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nd the next cell contain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97320" y="2433600"/>
            <a:ext cx="36514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4572000" y="4587840"/>
            <a:ext cx="4389480" cy="1596960"/>
            <a:chOff x="4572000" y="4587840"/>
            <a:chExt cx="4389480" cy="15969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016600" y="4765680"/>
              <a:ext cx="39448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0" y="4587840"/>
              <a:ext cx="750960" cy="79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lacing a word or valu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242800"/>
            <a:ext cx="385596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pla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ksw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lick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d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si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 and typ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insi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lace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x and typ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ksw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lace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appears telling you how many replacements have been made, clic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now beco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kswa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ick 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2189160"/>
            <a:ext cx="4361040" cy="1962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0" y="4238640"/>
            <a:ext cx="36194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145040" y="4835520"/>
            <a:ext cx="4784760" cy="1650960"/>
            <a:chOff x="4145040" y="4835520"/>
            <a:chExt cx="4784760" cy="165096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rcRect l="0" t="17462" r="0" b="0"/>
            <a:stretch/>
          </p:blipFill>
          <p:spPr>
            <a:xfrm>
              <a:off x="7435800" y="4835520"/>
              <a:ext cx="149400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45040" y="5851440"/>
              <a:ext cx="3352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45040" y="5425560"/>
              <a:ext cx="33526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Headers and Foote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automatically adding current date and page numbers on larger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der and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stom Hea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ype text into one of the text boxes or add a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56280" y="2070000"/>
            <a:ext cx="3467160" cy="2716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26040" y="4932360"/>
            <a:ext cx="3436920" cy="148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4008600" y="3514680"/>
            <a:ext cx="1645920" cy="95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lative cell referenc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default setting i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actually remembers the formula as </a:t>
            </a:r>
            <a:br>
              <a:rPr sz="20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the cell 3 above and one to th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replicate a formula Excel will automatically adjust th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03640" y="2424240"/>
            <a:ext cx="2760840" cy="1004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252720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a custom heade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at a header, click inside the text box and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your options (eg size 12, bold) then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it the Custom Header dialogu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02080" y="4292640"/>
            <a:ext cx="2843280" cy="19191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139920" y="2230560"/>
            <a:ext cx="5735880" cy="1847880"/>
            <a:chOff x="3139920" y="2230560"/>
            <a:chExt cx="5735880" cy="184788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4572000" y="2230560"/>
              <a:ext cx="43038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139920" y="3230640"/>
              <a:ext cx="248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ding fields to a custom footer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95280"/>
            <a:ext cx="3855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stom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left section –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, type a comma and space then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eet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centre section –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Right Section –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, type a comma and space then 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165640" y="2502000"/>
            <a:ext cx="3772080" cy="1587600"/>
            <a:chOff x="5165640" y="2502000"/>
            <a:chExt cx="3772080" cy="15876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5230800" y="3057480"/>
              <a:ext cx="3346560" cy="3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5165640" y="2502000"/>
              <a:ext cx="3772080" cy="637920"/>
              <a:chOff x="5165640" y="2502000"/>
              <a:chExt cx="3772080" cy="6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5165640" y="2502000"/>
                <a:ext cx="3772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mat    No of       Time        File        Inse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ages                      Name     Pictu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4240" y="2773440"/>
                <a:ext cx="0" cy="3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29560" y="2773440"/>
                <a:ext cx="0" cy="3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95880" y="29574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08800" y="29574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97840" y="29574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69600" y="3428640"/>
              <a:ext cx="2928600" cy="660960"/>
              <a:chOff x="5169600" y="3428640"/>
              <a:chExt cx="2928600" cy="660960"/>
            </a:xfrm>
          </p:grpSpPr>
          <p:sp>
            <p:nvSpPr>
              <p:cNvPr id="193" name=""/>
              <p:cNvSpPr/>
              <p:nvPr/>
            </p:nvSpPr>
            <p:spPr>
              <a:xfrm>
                <a:off x="5169600" y="3630600"/>
                <a:ext cx="2928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age          Date        File       She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                         Location   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79600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52932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15788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754760" y="342864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15080" y="4417920"/>
            <a:ext cx="3887640" cy="16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1301760"/>
            <a:ext cx="784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viewing your headers and footer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2517840"/>
            <a:ext cx="38559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t be able to see your headers and footers in Norma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 Pre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int a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nd save your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16440" y="2370240"/>
            <a:ext cx="2822760" cy="4182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bsolute cell referencing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cell referencing is used when you want to refer to the sam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 Im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 will take you through this step by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56200" y="2585880"/>
            <a:ext cx="3816360" cy="27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a formul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re you want the result of the calculation to appear (in this case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ert from Euros to Pounds, you need to divide the Euro amount by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required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C7/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 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plicate the formula and see what happe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142" t="0" r="7524" b="12426"/>
          <a:stretch/>
        </p:blipFill>
        <p:spPr>
          <a:xfrm>
            <a:off x="4859280" y="2087640"/>
            <a:ext cx="3673440" cy="2349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896920" cy="2136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6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king a relative cell reference absolut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38559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click on each cell below D7, you will see the formula in the formula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ice how the second part of the formula points to one cell below the previous one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rrect this, click on cell 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op the second cell reference changing, type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 before the column letter and row number (your formula should now rea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C7/$B$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press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e this formula and you should now get the correc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1863720" cy="2077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732720" y="4437000"/>
            <a:ext cx="1649160" cy="1901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ing the other 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£s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in cell E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rmul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UK Price in pounds – Imported Price in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formula down using the Fill 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has gone well, your formula should look lik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3068640"/>
            <a:ext cx="409572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alculating a percentag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% Saving, click in cell F7 and enter the calculation required:</a:t>
            </a:r>
            <a:br>
              <a:rPr sz="20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£Saving / UK Price in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Dec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crease Dec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to display the cell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mal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formula down for all the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8000" y="4941720"/>
            <a:ext cx="4149720" cy="13510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859280" y="2133720"/>
            <a:ext cx="4027680" cy="2579400"/>
            <a:chOff x="4859280" y="2133720"/>
            <a:chExt cx="4027680" cy="25794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364000" y="2781360"/>
              <a:ext cx="352296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859280" y="2133720"/>
              <a:ext cx="88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rease deci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2133720"/>
              <a:ext cx="88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rease deci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48360" y="2565360"/>
              <a:ext cx="3603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795640" y="2565360"/>
              <a:ext cx="360360" cy="20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rmatting percentag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formatted (ie cell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Formatting toolbar, click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35640" y="2411280"/>
            <a:ext cx="3209760" cy="203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46200" y="4653000"/>
            <a:ext cx="6051600" cy="1909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237200" y="2637000"/>
            <a:ext cx="159372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urrency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you want to format (in this ca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7 to B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old down the control key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7 to E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ywhere within the selected cells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,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rr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the decimal place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024360" cy="2139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76760" y="4581360"/>
            <a:ext cx="202248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23:35:18Z</dcterms:created>
  <dc:creator>Karen Blakeley</dc:creator>
  <dc:description/>
  <dc:language>en-US</dc:language>
  <cp:lastModifiedBy>oliver</cp:lastModifiedBy>
  <dcterms:modified xsi:type="dcterms:W3CDTF">2004-06-08T14:15:29Z</dcterms:modified>
  <cp:revision>8</cp:revision>
  <dc:subject/>
  <dc:title>European Computer Driving Licence</dc:title>
</cp:coreProperties>
</file>