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6D74-35C7-4EB3-9D2A-0B3240A5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118E-7FA5-4735-BB5B-2E225C8A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CDE-2E7A-4E07-87DE-2DF88DFB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7000-B39D-485A-82A1-6A1AAF4B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3938-5871-45E5-BBC8-82C12014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9CF1-437C-4184-9548-69E82951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A112-07D7-4687-9D42-01C89C8A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14CC-3238-408B-BC4B-93C18574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E6FF-7D0D-4A99-A7A7-4F05FB63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0F70-5AD5-4800-B565-77A1CD2E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72F7-98AC-434C-88E9-5676464D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D2D-9386-438F-8F36-A9BF0CB3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3743-C198-4A3E-B052-6DAF35C4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98C9-569A-43CA-AF1D-01075C81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CB7B-90C2-4D07-8119-39672F23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62F9-8B61-4939-B62B-82A156C0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AA9A-7279-4E0F-9D2F-8C7F1C10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9E7-9547-4AF3-B88E-99B5B35B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BB4-CDF0-46AF-A530-BDC69423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13C1-420B-455D-A65E-60EB0080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AFD-DECF-499B-AEDC-04664F06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99A-B672-4CAB-80FB-0A1D772B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5DC-9884-4F95-845E-4116C4ED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B4E-2989-4614-B584-61DA60FD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6155-409B-4466-80D6-D4C6876B8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BF37-4FCC-4332-A7C5-5A1324B1B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odule 4 - Spreadsheets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hapter 4.9 – If . . . Then . . . Else</a:t>
            </a:r>
            <a:endParaRPr b="0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6760" y="1301760"/>
            <a:ext cx="7831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ligning cell content and text orienta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lig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ent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Vertical Alignment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change 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rien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ext from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drag the red dot so that text is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slight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g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46680" y="2384280"/>
            <a:ext cx="2441520" cy="23544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3214800" y="3230640"/>
            <a:ext cx="1677960" cy="19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292800" y="4095720"/>
            <a:ext cx="2409840" cy="23479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4267080" y="4587840"/>
            <a:ext cx="3946680" cy="244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d the finished result?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47680" y="2414520"/>
            <a:ext cx="684864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duce instant quote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create a spreadsheet  to produce instant quot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irror Sh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ject will take you through step by step on how to give an instant quote depending on the size and finish of a 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also learn how to format a spreadsheet to make it look very attr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391440" y="2155680"/>
            <a:ext cx="2511360" cy="1395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0" y="3794040"/>
            <a:ext cx="2495520" cy="24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dding the formula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e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nter the formul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B9*B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alculate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tal surfac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e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nter the formul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2*(B9+B1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alcul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meter leng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Ensure you include the bracke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formula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for surface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ce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This sh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B12*D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813200" y="3246480"/>
            <a:ext cx="4035600" cy="1923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057560" y="2800440"/>
            <a:ext cx="2262240" cy="1747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4880" y="4343400"/>
            <a:ext cx="2014560" cy="314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400640" y="4552920"/>
            <a:ext cx="3147840" cy="890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dding IF statemen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188800"/>
            <a:ext cx="38559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lculation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for ed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depend on whether the edges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sh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shed and bevell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You will need to include a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ment so that it can calculate the cost for either o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c format for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ment is to specify a condition, then to perform one calculation if it is true, and another if it is fal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94040" y="2177640"/>
            <a:ext cx="385596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dges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sh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st for edges = perimeter length x price for polished edges, or </a:t>
            </a:r>
            <a:br>
              <a:rPr sz="1800"/>
            </a:b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f cell D9 = P THEN D13 = B13*D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dges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shed and bevell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st for edges = perimeter length x price for bevelled edges, or </a:t>
            </a:r>
            <a:br>
              <a:rPr sz="1800"/>
            </a:b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f cell D9 = PB THEN D13 = B13*D6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Paste Function button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ell D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ste 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 to the left of the Formula 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drop-down arrow next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 a categ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g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f this is not already disp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 a 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st then click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46640" y="3084480"/>
            <a:ext cx="3384720" cy="288288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4106880" y="2414520"/>
            <a:ext cx="4565520" cy="574920"/>
            <a:chOff x="4106880" y="2414520"/>
            <a:chExt cx="4565520" cy="57492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5319720" y="2414520"/>
              <a:ext cx="335268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flipV="1">
              <a:off x="4106880" y="2511360"/>
              <a:ext cx="2919240" cy="47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 flipV="1">
            <a:off x="4138560" y="3933720"/>
            <a:ext cx="3479760" cy="246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67080" y="4559400"/>
            <a:ext cx="1060560" cy="652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nter the function arguments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formul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9=“P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gical_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lue_if_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x, enter the formul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13*D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erimeter length x price for polished edg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lue_if_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x, enter the formul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13*D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erimeter length x price for polished &amp; bevelled edg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86200" y="2649600"/>
            <a:ext cx="4097520" cy="2550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427640" y="2598840"/>
            <a:ext cx="1373040" cy="496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122720" y="3512880"/>
            <a:ext cx="1233360" cy="428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049640" y="3703320"/>
            <a:ext cx="1704960" cy="795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d finally . . .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, you could just have entered the formul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=if(D9=“P”,B13*D5,B13*D6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cell D13, but it is far simpler to use 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aste 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 in cell D16, enter the formul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=sum(D12:D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 the currency cells to show pound signs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imal pla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63960" y="3083040"/>
            <a:ext cx="4011840" cy="19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dding some colour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font colour, select the cell(s), click the down arrow on 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nt Colo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and select a 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ange the background fill, select the cell(s), click the down arrow on 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ackground f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 and select a 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962520" y="2146320"/>
            <a:ext cx="2833560" cy="2146320"/>
            <a:chOff x="3962520" y="2146320"/>
            <a:chExt cx="2833560" cy="21463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4830840" y="2146320"/>
              <a:ext cx="196524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flipV="1">
              <a:off x="3962520" y="2391840"/>
              <a:ext cx="1189080" cy="792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368520" y="4152960"/>
            <a:ext cx="5483520" cy="2116080"/>
            <a:chOff x="3368520" y="4152960"/>
            <a:chExt cx="5483520" cy="21160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6894360" y="4152960"/>
              <a:ext cx="195768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 flipV="1">
              <a:off x="3368520" y="4387320"/>
              <a:ext cx="3930840" cy="443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igning cell conten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set where text appears in a cell by clicking on 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ent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ght alig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cons on the Formatting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increase the height of a row and change 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er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and drag to increase the row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ck on a selected cell and select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mat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shortcu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084560" y="4403880"/>
            <a:ext cx="930240" cy="350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03640" y="3122640"/>
            <a:ext cx="3935520" cy="178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0T21:47:18Z</dcterms:created>
  <dc:creator>Karen Blakeley</dc:creator>
  <dc:description/>
  <dc:language>en-US</dc:language>
  <cp:lastModifiedBy>oliver</cp:lastModifiedBy>
  <dcterms:modified xsi:type="dcterms:W3CDTF">2004-06-08T14:22:16Z</dcterms:modified>
  <cp:revision>10</cp:revision>
  <dc:subject/>
  <dc:title>European Computer Driving Licence</dc:title>
</cp:coreProperties>
</file>