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5E4-9882-4665-91AA-54213733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948-FDC3-4929-AB28-E04A544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998-6EC8-4369-AAB0-69181B0C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F5F-C33F-4C96-8E54-A0A701AE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8BA1-0330-4D78-8992-0C67DF66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AA7A-3E5E-41DC-862A-834F19F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3976-C16D-482A-B982-49E215A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7B9-082C-4CCF-B3AF-2F8A9F1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D80-B9A5-4EC5-AA69-D95228B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E668-6A15-492F-8FA8-D8A82C7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7AB6-1CE2-40E6-A132-516FF49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F00-084B-4EF7-8D17-C1C59E37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9872-58D9-4C6D-B7EC-BD0E9D9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D1E7-2EAF-4387-907A-C43D43C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E9DB-2E6E-4F8F-8E7A-DE92E8B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B7E-57BE-4066-ABF6-364D7A65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EDD2-C72A-4EAB-87A2-EBBEB4C1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F3D-04A6-4B3D-8BFF-06A1F1D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355-2843-4D6B-A109-70F8ABD9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C1-3472-4070-9144-F36CAD2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34F-4298-442F-BE6D-F2139BB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D7D-41AE-4502-8340-8D660B0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EA9-4905-49CE-8E4D-8E35D35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8AF-8A95-4A4C-B2DE-9C5B403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7CAE-9CEA-4014-9E16-B2D68072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253-617A-4904-AE37-A7BFCFE4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ule 4 -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pter 4.9 – If . . . Then . . . Else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6760" y="1301760"/>
            <a:ext cx="7831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igning cell content and text orienta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Vertical Alignmen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hang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ri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ext from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red dot so that text i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ligh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g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6680" y="2384280"/>
            <a:ext cx="2441520" cy="2354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214800" y="3230640"/>
            <a:ext cx="1677960" cy="19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2800" y="4095720"/>
            <a:ext cx="2409840" cy="2347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267080" y="4587840"/>
            <a:ext cx="3946680" cy="24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the finished result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7680" y="2414520"/>
            <a:ext cx="684864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e instant quot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spreadsheet  to produce instant quo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rror 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 will take you through step by step on how to give an instant quote depending on the size and finish of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also learn how to format a spreadsheet to make it look very att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91440" y="2155680"/>
            <a:ext cx="2511360" cy="1395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3794040"/>
            <a:ext cx="24955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the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B9*B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tal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2*(B9+B1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alcul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meter 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Ensure you include the bracke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ormul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for surface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is sh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B12*D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13200" y="3246480"/>
            <a:ext cx="4035600" cy="1923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057560" y="2800440"/>
            <a:ext cx="2262240" cy="174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4880" y="4343400"/>
            <a:ext cx="2014560" cy="314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00640" y="4552920"/>
            <a:ext cx="3147840" cy="890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IF state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188800"/>
            <a:ext cx="38559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culation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for ed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pend on whether the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 and bevell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You will need to include a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so that it can calculate the cost for either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at for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to specify a condition, then to perform one calculation if it is true, and another if it is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4040" y="2177640"/>
            <a:ext cx="38559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t for edges = perimeter length x price for polished edges, or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cell D9 = P THEN D13 = B13*D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 and bevell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t for edges = perimeter length x price for bevelled edges, or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cell D9 = PB THEN D13 = B13*D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Paste Function butt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ell D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te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the left of the Formula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rop-down arrow nex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a 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g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is is not already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46640" y="3084480"/>
            <a:ext cx="3384720" cy="28828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106880" y="2414520"/>
            <a:ext cx="4565520" cy="574920"/>
            <a:chOff x="4106880" y="2414520"/>
            <a:chExt cx="4565520" cy="5749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19720" y="2414520"/>
              <a:ext cx="33526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flipV="1">
              <a:off x="4106880" y="2511360"/>
              <a:ext cx="2919240" cy="47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4138560" y="3933720"/>
            <a:ext cx="3479760" cy="246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7080" y="4559400"/>
            <a:ext cx="1060560" cy="652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 the function argu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9=“P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gical_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ue_if_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*D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rimeter length x price for polished ed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ue_if_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*D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imeter length x price for polished &amp; bevelled ed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6200" y="2649600"/>
            <a:ext cx="4097520" cy="255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27640" y="2598840"/>
            <a:ext cx="1373040" cy="496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22720" y="3512880"/>
            <a:ext cx="1233360" cy="42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049640" y="3703320"/>
            <a:ext cx="1704960" cy="795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finally . . 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you could just have entered the formu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if(D9=“P”,B13*D5,B13*D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ell D13, but it is far simpler to us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aste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in cell D16, enter the formu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sum(D12:D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he currency cells to show pound signs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mal pl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63960" y="3083040"/>
            <a:ext cx="401184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some colou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font colour, select the cell(s), click the down arrow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nt Col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and select a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background fill, select the cell(s), click the down arrow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ckground f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and select a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962520" y="2146320"/>
            <a:ext cx="2833560" cy="2146320"/>
            <a:chOff x="3962520" y="2146320"/>
            <a:chExt cx="2833560" cy="2146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830840" y="2146320"/>
              <a:ext cx="19652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flipV="1">
              <a:off x="3962520" y="2391840"/>
              <a:ext cx="1189080" cy="792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68520" y="4152960"/>
            <a:ext cx="5483520" cy="2116080"/>
            <a:chOff x="3368520" y="4152960"/>
            <a:chExt cx="5483520" cy="2116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894360" y="4152960"/>
              <a:ext cx="195768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flipV="1">
              <a:off x="3368520" y="4387320"/>
              <a:ext cx="3930840" cy="44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gn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t where text appears in a cell by clicking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ght al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s on the Formatt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increase the height of a row and chang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r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increase the row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 selected cell and selec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084560" y="4403880"/>
            <a:ext cx="930240" cy="350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3122640"/>
            <a:ext cx="39355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21:47:18Z</dcterms:created>
  <dc:creator>Karen Blakeley</dc:creator>
  <dc:description/>
  <dc:language>en-US</dc:language>
  <cp:lastModifiedBy>oliver</cp:lastModifiedBy>
  <dcterms:modified xsi:type="dcterms:W3CDTF">2004-06-08T14:22:16Z</dcterms:modified>
  <cp:revision>10</cp:revision>
  <dc:subject/>
  <dc:title>European Computer Driving Licence</dc:title>
</cp:coreProperties>
</file>