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2A8-7C0A-4C71-86F0-BDE585A8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CC7-3618-4868-83FD-3424EBD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01A-2BC0-47CF-BD71-28388AF7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C55-5097-4160-B672-9D210A69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A9B-7E64-453C-93C0-04541AC0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1D8-3259-4CA8-A54F-57F44F2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D884-AA39-478A-BBDC-8990702E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1208-BFF7-4681-A856-E96032C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B78-B48F-4DC7-ADF8-6374950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F2D5-5F74-432A-A98A-021C6AC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13A7-12EE-4ED6-87BC-60E6274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2AF-4035-46FC-A0A4-7E91AE4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59F-79B4-42D6-B04C-DBD911F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F30C-AB4D-4814-B0B3-5607DC2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052E-60E6-42C7-9975-57B6362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117-7204-4597-A70D-3DE4DE73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03D8-50E0-42E1-A7E1-AB4B877C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09E-45CE-451A-BE38-A0A2F56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741-EAB3-4C06-B629-DA6CEAE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78D-AE39-4092-86A4-D86F0721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AFC-D93B-4BCB-999A-EF47321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F10-698C-4ABC-88E4-5A41923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5B4-3024-41FC-A4DE-62C60CD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29D-2954-4377-8F36-6F5EACC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1BD-41E3-44F6-A28F-7374806E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EDD9-C59E-4A35-8F30-4715A729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1 – The 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Help Func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n’t sure of how to do something i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owerPo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arch the Help files for instructions on how to perform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Hel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Microsoft Office PowerPoint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n the information you need to look up into the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earc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2060640"/>
            <a:ext cx="446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8800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1800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Help Func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3600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ne of the search results from the next pop-u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4360" y="2349360"/>
            <a:ext cx="4773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appears giving information on th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re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close the Help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la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close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178272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537080" cy="189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5300640"/>
            <a:ext cx="334800" cy="32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84720" y="5950080"/>
            <a:ext cx="1486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text to the title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2952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i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lick to add ti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ceholder and type in the title for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ub-ti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ceholder and type in a sub-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Formatting and moving the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lick the text boxes and drag to move them around the screen. You can also format the text in each text box just like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contains the tools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text, click the text box border. The border will change from a diagonal striped box to a fuzzy one. Now you can forma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format the text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3716280"/>
            <a:ext cx="4372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Editing tex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, add or delete text by click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x. The border changes to diagonal str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the text, and use the formatting toolbar if necessary to mak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429000"/>
            <a:ext cx="6451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ligning text in a placehold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ign text to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text box and right-click anywhere on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Format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7640" y="2349360"/>
            <a:ext cx="4270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own-arrow of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ext Anchor 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27280" cy="158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206800"/>
            <a:ext cx="2952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Resizing and moving text boxes and placeholder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4111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size a 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over the left-hand handle. The mouse pointer will change to a double-headed ar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handle to the left to make the text box wider. Drag to the right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2491920"/>
            <a:ext cx="40384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ove a 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onto the border of the text bo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 handle. The mouse pointer will change to a black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the required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3441600" cy="944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0890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34936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ternate between various views of the presentation by clicking on the icons at the left-hand side of the bottom of the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presentation view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1134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the most useful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view the structure of the presentation down the left of the screen, the current slide you are working on and the Notes page for the current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3645000"/>
            <a:ext cx="5124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The Outline pan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line pane has two different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iew shows a picture of all the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view just lists the text on each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tabs at the top of the Outline pane to switch between th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58197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What is Microsoft PowerPoint?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aba4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PowerPoint is the leading graphics present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5aba4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it to create, design and organise presentations quickly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18716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lide Sort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view helps you to organise your slides in later stages.   Here is a preview of what it looks like when you have more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2563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lide Show view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Show view is the view you use when you are actually giving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res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Using the Zoom tool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the Zoom tool to make a slide appear larger or smaller on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black down-arrow to the right of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and click the siz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lick on existing size entry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to select it, type in the new size and press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9737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Undo, Redo and Repeat command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will undo your last action. Each subsequent click will undo further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undo something you didn’t mean to, click the 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Red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want to repeat an action, eg. adding a bullet point or inserting a slide. Select </a:t>
            </a:r>
            <a:r>
              <a:rPr b="0" lang="en-GB" sz="22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200" spc="-1" strike="noStrike">
                <a:solidFill>
                  <a:srgbClr val="12928c"/>
                </a:solidFill>
                <a:latin typeface="Arial"/>
              </a:rPr>
              <a:t>Repea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432000" cy="34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12000" y="5589720"/>
            <a:ext cx="20034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aving the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arrow next to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 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x to navigate to the location for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cessary, create a new folder by clicking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Create New F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in a name for the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a filename for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Point will automatically save the file as a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resentation (*pp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03640" y="3860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1523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losing the file and applic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ose the presentation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PowerPoint by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346320" cy="358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1682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Planning a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ortant to plan presentations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target audience and plan your slides to sui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begin with a title screen to introduc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bullet points to 4 or 5 p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each point short and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s, graphics and sound can be added but be careful not to overload the senses all at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Getting started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oa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 Power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ll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uble-click the PowerPoint icon on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1847880" cy="228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01080" y="3213000"/>
            <a:ext cx="473040" cy="48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ask</a:t>
            </a: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 pan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right of the screen is the Task pane. If you can’t see this p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c8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enus will be available in the Task p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stage of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ew the different menus click the down-arrow 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right of the Task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5300640"/>
            <a:ext cx="3168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tarting a blank presentation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Task pane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reate a new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Blank pres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New Presentation p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pane will display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tions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e of the options  to change the layout of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has automatically selected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5626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Toolba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learn about individual toolbars and buttons as you build a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other Microsoft applications such a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toolbars will only be available when performing particula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Hiding and displaying toolba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82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ing and displaying toolbars is done in the same way as in Microsof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ide or display a toolbar 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mark against a toolbar means it is already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1722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difying basic op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33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you can change the user name listed under the fi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920" y="2133720"/>
            <a:ext cx="4681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change some bas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ustomis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3514680"/>
            <a:ext cx="37432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oliver</cp:lastModifiedBy>
  <dcterms:modified xsi:type="dcterms:W3CDTF">2004-05-26T19:29:39Z</dcterms:modified>
  <cp:revision>20</cp:revision>
  <dc:subject/>
  <dc:title>European Computer Driving Licence</dc:title>
</cp:coreProperties>
</file>