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006-07FB-40DD-8CCF-0DD61508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306-395F-4BBF-820C-D7259E5F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137-777F-4027-8789-BEA2FE46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3A1-1578-4333-9D8B-07B30AF1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7AC7-6644-4D7D-BA9C-0CD537D2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C4EA-2A2F-4295-A0B0-00FF1F73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E856-235F-404F-998A-8E848ECF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E296-9428-4F56-ADC8-28747300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9F67-522D-4984-AB74-8ECFFC8A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A840-9303-4E71-AB53-CE050AC9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D6FC-3A20-4412-A750-11BD404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E72-D5B2-4D1E-81E7-F2018CFF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04F-7913-43D7-A0D8-6F8435B6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311B-644C-476A-8FA0-02841EE4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DCB0-4013-4810-906F-B8DC263A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4E98-6ADC-4D94-88AD-3C88DA19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CAFA-89AC-40FB-88D7-EFD8D553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1C5-7DC4-41E7-A27C-9D546D76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124-E194-438C-8714-2C06214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BC0-6A93-4192-AB95-A0B1AF6A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4AD-AAFD-49D2-A9D0-3C112FC7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7C1-0A55-43A5-9991-B02C6E12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203-28D2-4FE0-8E8F-331C7838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A32-494B-448A-9688-D78D482D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5EF4-E1C2-4662-94A9-35DA04E70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4677-66F5-4A2A-AD2A-D96C4136F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1 – The 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Using the Help Function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n’t sure of how to do something i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owerPoi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arch the Help files for instructions on how to perform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Hel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Microsoft Office PowerPoint Hel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in the information you need to look up into the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St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2928c"/>
                </a:solidFill>
                <a:latin typeface="Arial"/>
              </a:rPr>
              <a:t>Search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2060640"/>
            <a:ext cx="446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88000" y="6237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68360" y="4365720"/>
            <a:ext cx="1800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Using the Help Function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3600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ne of the search results from the next pop-up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24360" y="2349360"/>
            <a:ext cx="4773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appears giving information on th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re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close the Help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bla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close the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178272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537080" cy="189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2000" y="5300640"/>
            <a:ext cx="334800" cy="32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084720" y="5950080"/>
            <a:ext cx="1486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text to the title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2952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i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Click to add ti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aceholder and type in the title for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sub-tit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aceholder and type in a sub-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Formatting and moving the text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lick the text boxes and drag to move them around the screen. You can also format the text in each text box just like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icrosof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rma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 contains the tools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text, click the text box border. The border will change from a diagonal striped box to a fuzzy one. Now you can format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format the text 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a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3716280"/>
            <a:ext cx="4372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Editing tex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, add or delete text by click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ox. The border changes to diagonal str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the text, and use the formatting toolbar if necessary to mak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429000"/>
            <a:ext cx="64515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ligning text in a placeholder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lign text to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bot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text box and right-click anywhere on the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Format 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7640" y="2349360"/>
            <a:ext cx="42703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down-arrow of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ext Anchor 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x and 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t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1727280" cy="158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2206800"/>
            <a:ext cx="29527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Resizing and moving text boxes and placeholder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4111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size a text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cursor over the left-hand handle. The mouse pointer will change to a double-headed ar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he handle to the left to make the text box wider. Drag to the right to make it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480" y="2491920"/>
            <a:ext cx="40384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ove a text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cursor onto the border of the text bo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 handle. The mouse pointer will change to a black c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 the required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3441600" cy="944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208908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234936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ternate between various views of the presentation by clicking on the icons at the left-hand side of the bottom of the scr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presentation view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79640" y="3789360"/>
            <a:ext cx="51134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the most useful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view the structure of the presentation down the left of the screen, the current slide you are working on and the Notes page for the current 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3645000"/>
            <a:ext cx="5124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The Outline pan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line pane has two different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view shows a picture of all the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view just lists the text on each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tabs at the top of the Outline pane to switch between th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4724280"/>
            <a:ext cx="58197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What is Microsoft PowerPoint?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aba4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PowerPoint is the leading graphics presentatio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5aba4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it to create, design and organise presentations quickly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19640" y="4149720"/>
            <a:ext cx="18716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Slide Sorter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view helps you to organise your slides in later stages.   Here is a preview of what it looks like when you have more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2563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Slide Show view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Show view is the view you use when you are actually giving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pressing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at an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1944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Using the Zoom tool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ormal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the Zoom tool to make a slide appear larger or smaller on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black down-arrow to the right of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Z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 and click the size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lick on existing size entry i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Z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 to select it, type in the new size and press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97376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Undo, Redo and Repeat command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will undo your last action. Each subsequent click will undo further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you undo something you didn’t mean to, click the </a:t>
            </a: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Red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you want to repeat an action, eg. adding a bullet point or inserting a slide. Select </a:t>
            </a:r>
            <a:r>
              <a:rPr b="0" lang="en-GB" sz="22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200" spc="-1" strike="noStrike">
                <a:solidFill>
                  <a:srgbClr val="12928c"/>
                </a:solidFill>
                <a:latin typeface="Arial"/>
              </a:rPr>
              <a:t>Repea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432000" cy="34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12000" y="5589720"/>
            <a:ext cx="200340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Saving the presentation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arrow next to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Save 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x to navigate to the location for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ecessary, create a new folder by clicking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Create New Fol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in a name for the f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a filename for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Sa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Point will automatically save the file as a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resentation (*pp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il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03640" y="3860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15236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losing the file and application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lose the presentation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PowerPoint by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l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346320" cy="358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21682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Planning a presentation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important to plan presentations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target audience and plan your slides to sui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begin with a title screen to introduce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bullet points to 4 or 5 pe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each point short and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s, graphics and sound can be added but be careful not to overload the senses all at o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Getting started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oad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crosoft</a:t>
            </a:r>
            <a:r>
              <a:rPr b="1" lang="en-US" sz="2400" spc="-1" strike="noStrike">
                <a:solidFill>
                  <a:srgbClr val="12928c"/>
                </a:solidFill>
                <a:latin typeface="Arial"/>
              </a:rPr>
              <a:t> PowerPo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ll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uble-click the PowerPoint icon on th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40360" y="2924280"/>
            <a:ext cx="1847880" cy="228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101080" y="3213000"/>
            <a:ext cx="473040" cy="48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ask</a:t>
            </a: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 pan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right of the screen is the Task pane. If you can’t see this p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c8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menus will be available in the Task p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stage of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iew the different menus click the down-arrow a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right of the Task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59280" y="5300640"/>
            <a:ext cx="3168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tarting a blank presentation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Task pane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reate a new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Blank pres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New Presentation p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 pane will display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tions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lac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e of the options  to change the layout of a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has automatically selected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tle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4221000"/>
            <a:ext cx="45626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Toolba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learn about individual toolbars and buttons as you build a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 other Microsoft applications such a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me toolbars will only be available when performing particular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Hiding and displaying toolba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4824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ing and displaying toolbars is done in the same way as in Microsof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ide or display a toolbar click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Tool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mark against a toolbar means it is already dis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40360" y="2276640"/>
            <a:ext cx="1722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Modifying basic option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33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and you can change the user name listed under the fil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0920" y="2133720"/>
            <a:ext cx="4681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change some bas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ustomis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3514680"/>
            <a:ext cx="374328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4:35:47Z</dcterms:created>
  <dc:creator>Miriam Lloyd</dc:creator>
  <dc:description/>
  <dc:language>en-US</dc:language>
  <cp:lastModifiedBy>oliver</cp:lastModifiedBy>
  <dcterms:modified xsi:type="dcterms:W3CDTF">2004-05-26T19:29:39Z</dcterms:modified>
  <cp:revision>20</cp:revision>
  <dc:subject/>
  <dc:title>European Computer Driving Licence</dc:title>
</cp:coreProperties>
</file>