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198-6F3A-4479-897E-8E4F2099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026-71DF-4C6A-89FD-C523F9AD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AE7-8430-4D6B-A6FA-7CB05B4A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DBD-6DC6-4726-8F5D-F74CE759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2967-5490-427F-A617-FB9CC41A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4BB7-A1E6-4FE9-BA85-41E0FABD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D456-8D68-4035-BD8F-AB3CA823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38F8-1ECD-4051-9A02-AD081016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2C66-99AC-4D50-B8F7-616E2AB2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C64A-8888-4B26-BA32-409EABE8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83E4-F714-4C3C-8E3B-102884E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7EE-489A-4F95-AA27-4D585FB8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3B1F-21F4-42B0-8FCD-B32C2318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C6FD-0E72-4FE1-ACBC-CB36CA4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F415-B4C2-420B-A5A5-0CE7C8F4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C2BB-C74F-4B6A-9012-028E1D0A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0FB0-9D6B-40CB-8C41-8E7D7145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7A8-F2EB-4587-8723-09096BB9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9EC-676D-4AB2-9CF1-279C448A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E8A-E7ED-4038-A21D-083D0802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B43-5FB3-4329-B4FC-6CAE5952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3FC-B14B-4B4E-A443-E5AA7969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445-6EA2-46F8-8FBB-EEF8A7D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65C-48D9-4583-9D8F-37D042CB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B6CE-3DC2-4DD2-B48B-FC57F9BE4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C58B-BC48-4FFC-8006-F4BC5689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2 – Editing a S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ustomising bullet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change the style and colour of bullets to increas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of subse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light the text of the bullet point(s) to b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Form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Bullets and Numb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a bullet style and change the colour if necessary.  Click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3573360"/>
            <a:ext cx="2592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Moving text lines around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4248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hange the order of bu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text 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of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the left of the text line to be moved.  The mouse pointer will change to a four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00360" y="2204640"/>
            <a:ext cx="419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the mouse button down. A black line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up or down until the black line is in the new position and release the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4508640"/>
            <a:ext cx="1989000" cy="1935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11280" y="3213000"/>
            <a:ext cx="1152720" cy="219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92720" y="4149720"/>
            <a:ext cx="2571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ecking the presentation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the presentation 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first sl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rough the slide show by clicking on the screen or pressing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pac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Back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 to move back to the previous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 to exit the Slide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48360" y="2349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195640" y="2637000"/>
            <a:ext cx="4392360" cy="33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Opening an existing presentation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4608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click the filename of the presentation you want to open if it appears in the Task p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e to the folder where the presentation is sav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filename to select it and 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are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clicking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at the bottom left of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67640" y="3357720"/>
            <a:ext cx="209520" cy="23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2766960" cy="39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27640" y="6093000"/>
            <a:ext cx="306360" cy="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tarting a new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ew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will guess that you want a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tle and 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ou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change it, select the required slide from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text, formatting it a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863640" cy="298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4176720" cy="3138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95640" y="2421000"/>
            <a:ext cx="46083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Changing text size and line spacing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hange the </a:t>
            </a:r>
            <a:r>
              <a:rPr b="1" lang="en-US" sz="2000" spc="-1" strike="noStrike">
                <a:solidFill>
                  <a:srgbClr val="12928c"/>
                </a:solidFill>
                <a:latin typeface="Arial"/>
              </a:rPr>
              <a:t>text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and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Increase Font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make the larger        or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ecrease Font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make it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hange the </a:t>
            </a:r>
            <a:r>
              <a:rPr b="1" lang="en-US" sz="2000" spc="-1" strike="noStrike">
                <a:solidFill>
                  <a:srgbClr val="12928c"/>
                </a:solidFill>
                <a:latin typeface="Arial"/>
              </a:rPr>
              <a:t>line-spa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and use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Increase Paragraph Spa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spread the text out        or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ecrease Paragraph Spa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move it closer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71640" y="3284640"/>
            <a:ext cx="287640" cy="23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60360" cy="26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5013360"/>
            <a:ext cx="287280" cy="27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908000" y="5877000"/>
            <a:ext cx="289080" cy="27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500720" y="2781360"/>
            <a:ext cx="4224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ecking spelling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p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        or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p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will try to correct all words underlined in red.  These may be words it thinks spelt incorrectly, or repeated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correct spelling 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ugg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 and 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ype in the correct word and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hang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pell-check picks up a repeated word, 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let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ord is correct (e.g. a name) 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gn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432000" cy="335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338436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156360" y="3068640"/>
            <a:ext cx="792000" cy="19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08720" y="5373720"/>
            <a:ext cx="863640" cy="2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more slid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2349000"/>
            <a:ext cx="5111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ng a slide using the </a:t>
            </a:r>
            <a:r>
              <a:rPr b="1" lang="en-US" sz="2400" spc="-1" strike="noStrike">
                <a:solidFill>
                  <a:srgbClr val="12928c"/>
                </a:solidFill>
                <a:latin typeface="Arial"/>
              </a:rPr>
              <a:t>Out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Out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, make sure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b is selected and click a sl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ew Sl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slide will appear below the selected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xample on the right, the first slide wa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11640" y="4365720"/>
            <a:ext cx="649440" cy="239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84720" y="2492280"/>
            <a:ext cx="1876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titl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568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dd titles using the </a:t>
            </a:r>
            <a:r>
              <a:rPr b="1" lang="en-US" sz="2100" spc="-1" strike="noStrike">
                <a:solidFill>
                  <a:srgbClr val="12928c"/>
                </a:solidFill>
                <a:latin typeface="Arial"/>
              </a:rPr>
              <a:t>Outlin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Outl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ne, click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ab and then click the new slide so that it appears in the main wind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 the text either on the slide, or if you just start typing while the new slide icon is selected you can type it straight into the </a:t>
            </a: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Outl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ing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key after entering a title automatically inserts another new sli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 unwanted slide by clicking it in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ne and press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343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anging the order of slid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35272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slide to be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down the left mouse button. A grey vertical line will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slide until the grey line is in the required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the mouse button and the slide will be ‘dropped’ into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ample on the right show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lide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moved immediately after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311040" cy="26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5076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Promote and Demote text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Increase Indent (demote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       or </a:t>
            </a: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Decrease Indent (promote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        to move bulleted text a little to the right or to the lef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Demo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makes the text smaller and moves it a little to the r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2928c"/>
                </a:solidFill>
                <a:latin typeface="Arial"/>
              </a:rPr>
              <a:t>Promo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makes the text larger and moves it a little to the lef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3640" y="321300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43280" y="2637000"/>
            <a:ext cx="360360" cy="344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979640" y="501336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643280" y="2708280"/>
            <a:ext cx="38880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4:35:47Z</dcterms:created>
  <dc:creator>Miriam Lloyd</dc:creator>
  <dc:description/>
  <dc:language>en-US</dc:language>
  <cp:lastModifiedBy>oliver</cp:lastModifiedBy>
  <dcterms:modified xsi:type="dcterms:W3CDTF">2004-05-26T19:33:44Z</dcterms:modified>
  <cp:revision>21</cp:revision>
  <dc:subject/>
  <dc:title>European Computer Driving Licence</dc:title>
</cp:coreProperties>
</file>