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C1A-07FE-48B1-B93B-A4474690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A0E-454E-49A1-96A0-C8CF4CB8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0EA-FAFE-4B67-AAB1-6C401928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AEB-C74B-4852-AB88-6ECB76D2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63B5-B3F2-4A6F-BE5E-AF256EC8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5D1A-1041-4C59-BE72-025672FC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F534-1E2E-46E3-97F5-4D7DF1FC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F088-AFAD-4FB0-ADA2-E580B047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7508-FAA3-418D-8636-80A6E2F2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73E8-E423-4E1D-A708-1CCABF52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FD70-874F-4EB9-BD9C-832DDE01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81F3-FE2D-42A7-9ED0-4D5917AF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835C-2BFB-4788-8281-9CC50E13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CC2C-E182-45D0-94CB-2CF72E4A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CA63-5864-4A07-B74C-084478A2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00F4-9F2E-4063-A095-DAF3AC98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BAF6-800E-42BF-8273-A53C400A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C4B0-EBB1-4526-9057-1D28EB85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5BF-8518-4784-B43E-DB5385E2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D007-DF33-4C0D-94D0-861F0B87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8B5-A834-44EA-A7BB-0983D18F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2903-31CF-4846-9CA1-179BBEEC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004-1B42-4C4D-BE84-A75E2845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438-C537-4A54-AAB7-E856BCAA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928c"/>
              </a:buClr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2C61-8BEF-47B7-9DF9-58D1A1387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DEFC-B4D4-4CE5-9EFD-B3D9987D9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aba4"/>
                </a:solidFill>
                <a:latin typeface="Arial"/>
              </a:rPr>
              <a:t>European Computer Driving Licenc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 6 – 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6.3 – Applying Des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hanging the layout of a slid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hange the layout of a slide, even with text already e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ig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sentation example, go to slide 4 by clicking on it i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Out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Lay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view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Lay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select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itle and Ch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yout from th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t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uble click to add ch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appear in the middle of the bottom placeh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132000" y="4005360"/>
            <a:ext cx="237672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Layouts that include Clip Ar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slide is to contain a picture as well as text you must select an appropriate slide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slide, or select an existing one t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Lay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Other Layou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lect the layou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Title, Text and Clip 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03280" y="5157720"/>
            <a:ext cx="1276560" cy="1085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88000" y="2492280"/>
            <a:ext cx="3821040" cy="2863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132000" y="544500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125"/>
              </a:spcBef>
              <a:buClr>
                <a:srgbClr val="0099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sert an image from another file, you don’t have to change the layout. Simply select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i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rom 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Locate the image file and click In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Creating an organisation chart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374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slide in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Norma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the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Slide Lay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Title and Diagram or Organization Ch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in a title and then double-click on the organization are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4360" y="2060280"/>
            <a:ext cx="44132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Organization Ch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click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into each box and type in the organisati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504720" cy="384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2232000" cy="1676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297080" cy="1546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508720" y="4005360"/>
            <a:ext cx="23763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Inserting managers and </a:t>
            </a:r>
            <a:br>
              <a:rPr sz="4000"/>
            </a:b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co-worker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4038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option to insert a manager but all managers, except the CEO, will be either co-workers, subordinates or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dd a </a:t>
            </a:r>
            <a:r>
              <a:rPr b="1" lang="en-US" sz="2000" spc="-1" strike="noStrike">
                <a:solidFill>
                  <a:srgbClr val="12928c"/>
                </a:solidFill>
                <a:latin typeface="Arial"/>
              </a:rPr>
              <a:t>co-wor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box that is to have a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o-wor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Organisation Ch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bar will app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9480" y="2491920"/>
            <a:ext cx="40384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down-arrow of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Insert Sha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Co-wor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 box will appear to the right of the selected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the co-worker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5877000"/>
            <a:ext cx="3476520" cy="438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012000" y="2852640"/>
            <a:ext cx="1019160" cy="257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651640" y="4797360"/>
            <a:ext cx="22320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Inserting a Subordinat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dd a </a:t>
            </a:r>
            <a:r>
              <a:rPr b="1" lang="en-US" sz="2400" spc="-1" strike="noStrike">
                <a:solidFill>
                  <a:srgbClr val="12928c"/>
                </a:solidFill>
                <a:latin typeface="Arial"/>
              </a:rPr>
              <a:t>Subord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box that is to have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ubordin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ubordin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 Organization Chart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in the new person’s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6720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Deleting managers, co-workers and subordinate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 a box by clicking it and pressing the Delet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elete a box that has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ubordin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ubordin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automatically be promo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27280" y="3357720"/>
            <a:ext cx="3254400" cy="1374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916360" y="5229360"/>
            <a:ext cx="280512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Designing the Master slid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3095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Master Sl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ts like a templat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ictates the format of every other slide in your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formatting applied to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Master Sl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apply to every slide in the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Master Sli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selecting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Ma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635280" y="2205000"/>
            <a:ext cx="51120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Design Template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35272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Desig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on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rma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Desig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ne appears down the right hand side of the screen. There are options for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esign Templ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olo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che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imation Sche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5640" y="2276640"/>
            <a:ext cx="47023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Design Templates and click a design template from th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the effect i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lide Sor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ie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35280" y="3068640"/>
            <a:ext cx="707760" cy="268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95640" y="3429000"/>
            <a:ext cx="474840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569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Changing the slide background colour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465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change the background colour of slides with or without a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Design Templ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p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sure the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Slide Desig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ane is visible and be in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Normal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Task pa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click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Color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 at the color scheme you like and click the down-arrow that appears at the right of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9480" y="198864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Apply to Selected Sli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pply the colour to just the selected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Apply to All sli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pply to all slides in the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want just a plain coloured background without the pattern, you would have to change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esign Templ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 plain on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oosing the colour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356000" y="32846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908000" y="4076640"/>
            <a:ext cx="1224000" cy="157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76360" y="5373720"/>
            <a:ext cx="1655640" cy="1166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012000" y="5877000"/>
            <a:ext cx="115236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Adding page number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2276280"/>
            <a:ext cx="4537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numbers can be added to one slide, some slides or all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hoose to have them only on the Notes pages, not on the actual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numbers can be added i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rmal 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in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lide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View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Header and Foo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to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pply to All to put page numbers on all of the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3889440" cy="3154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92360" y="5445000"/>
            <a:ext cx="847800" cy="209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987640" y="5013360"/>
            <a:ext cx="51444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Adding text to the header and footer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2349360"/>
            <a:ext cx="44654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can be added to the Header and Footer just the same way as i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hoose whether the footer text appears on just the selected slide, or on all slides in the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Header and Foo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Foo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App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just the selected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Apply to 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very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9132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Adding a date to slide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Header and Foo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ndow to add a date to selected or all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into the checkbox of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into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Update automatic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you want the date to update each time the presentation i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Apply to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all these changes by clicking 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lide Sh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48000" y="3933720"/>
            <a:ext cx="1944720" cy="1609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604360" y="6021360"/>
            <a:ext cx="230040" cy="2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2928c"/>
                </a:solidFill>
                <a:latin typeface="Arial"/>
              </a:rPr>
              <a:t>Repositioning the footer, date and page numbers</a:t>
            </a:r>
            <a:endParaRPr b="1" lang="en-US" sz="3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sitioning a footer, date or page number is done in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Ma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selecting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Ma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sign Template automatically creates two Slide Masters, one for the Title slide and one for all of the other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4724280"/>
            <a:ext cx="26481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More than one master slide?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select the master slide in the Outline pane that represents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n-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948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holders for a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Date 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Footer 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Number 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t the bottom of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 placeholder and use the black handles to re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to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rmal 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selecting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r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42920" y="3500280"/>
            <a:ext cx="2376720" cy="1641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4437000"/>
            <a:ext cx="41436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14:35:47Z</dcterms:created>
  <dc:creator>Miriam Lloyd</dc:creator>
  <dc:description/>
  <dc:language>en-US</dc:language>
  <cp:lastModifiedBy>Miriam Lloyd</cp:lastModifiedBy>
  <dcterms:modified xsi:type="dcterms:W3CDTF">2004-05-15T12:42:59Z</dcterms:modified>
  <cp:revision>25</cp:revision>
  <dc:subject/>
  <dc:title>European Computer Driving Licence</dc:title>
</cp:coreProperties>
</file>