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D4F-E6D7-4D8B-8BAB-75C84B99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399-E261-40E5-A738-004DA17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6F5-D374-4470-9625-A90EAD7F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575-3743-4D69-BD21-B9440C7B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3B98-DF82-45A6-BD15-E7CC5D1C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F70E-BAB0-4446-A40D-C4B986ED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C71-F7DB-4AF4-8A63-8A29A4AC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622F-CB79-4DD6-9A79-D5B764B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91AC-AE53-405C-B4F9-86FF20FF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5D8-2FC1-446C-93BE-69A32E3C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B64-EFA3-4DC3-A05E-8BB3A41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DCA-9CB1-4333-A66C-13A56BD2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5EEE-228E-4A21-A79A-1949E66A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1A2C-7CC5-4BF5-9F31-C606DDF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4814-43C6-4BB6-965D-E4BC62E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558B-182E-460E-8C95-7CD44028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FCF-D547-4313-B478-D5BE70E5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CCF-810E-4AC4-9D34-72C5CD34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2ED-5709-45DA-8185-9D228500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B84-5C3F-464F-A545-3D8E757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11F-8F96-4EBA-9321-B68A7B81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37F-BBD8-4F37-8C11-045E210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F37-2823-41B5-A8D9-6941A22A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F7B-E962-469C-A9AC-3EB9A689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F715-E996-48BB-9B9B-F58D56942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B72-C607-4274-8404-FED76C81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3 – Applying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anging the layout of a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the layout of a slide, even with text already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entation example, go to slide 4 by clicking on it 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selec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itle and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out from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uble click to add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 in the middle of the bottom 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2376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Layouts that include Clip 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lide is to contain a picture as well as text you must select an appropriate slide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lide, or select an existing one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ther Layo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layou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itle, Text and Clip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1276560" cy="1085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21040" cy="2863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32000" y="5445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125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sert an image from another file, you don’t have to change the layout. Simply 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om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Locate the image file and click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reating an organisation char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374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slide in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Slide Lay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itle and Diagram or Organization Ch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in a title and then double-click on the organization are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4360" y="2060280"/>
            <a:ext cx="4413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rganization Ch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to each box and type in the organis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504720" cy="384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232000" cy="1676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297080" cy="154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376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Inserting managers and </a:t>
            </a:r>
            <a:br>
              <a:rPr sz="4000"/>
            </a:b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o-worke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option to insert a manager but all managers, except the CEO, will be either co-workers, subordinates 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d a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co-wor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box that is to have 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-wor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rganisation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 will app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9480" y="2491920"/>
            <a:ext cx="40384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-arrow of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Insert Sh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-wor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 box will appear to the right of the selected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co-worke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5877000"/>
            <a:ext cx="347652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101916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651640" y="4797360"/>
            <a:ext cx="22320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Inserting a Subordinat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dd a </a:t>
            </a:r>
            <a:r>
              <a:rPr b="1" lang="en-US" sz="2400" spc="-1" strike="noStrike">
                <a:solidFill>
                  <a:srgbClr val="12928c"/>
                </a:solidFill>
                <a:latin typeface="Arial"/>
              </a:rPr>
              <a:t>Subord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box that is to have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Organization Chart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the new person’s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672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Deleting managers, co-workers and subordinat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a box by clicking it and pressing the Delet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elete a box that has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bord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utomatically be promo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254400" cy="1374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16360" y="5229360"/>
            <a:ext cx="280512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Designing the Master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3095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s like a templ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ictates the format of every other slide in you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formatting applied to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ly to every slide in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 Sl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electing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M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5280" y="2205000"/>
            <a:ext cx="5112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Design Templat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5272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ma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 appears down the right hand side of the screen. There are options for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ign Temp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l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imation 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5640" y="2276640"/>
            <a:ext cx="4702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Design Templates and click a design template from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effect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Sor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707760" cy="268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7484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hanging the slide background colour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465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hange the background colour of slides with or without a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Design Templ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he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lide Desig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ne is visible and be i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Task pa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ol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at the color scheme you like and click the down-arrow that appears at the right of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480" y="1988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 to Selected Sl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ly the colour to just the selec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 to All sl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ly to all slides in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just a plain coloured background without the pattern, you would have to change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ign Tem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lain on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osing the colour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1224000" cy="15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76360" y="5373720"/>
            <a:ext cx="1655640" cy="11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12000" y="5877000"/>
            <a:ext cx="11523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page numbe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4537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numbers can be added to one slide, some slides or all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to have them only on the Notes pages, not on the actual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numbers can be added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View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Header and 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to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pply to All to put page numbers on all of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889440" cy="315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360" y="5445000"/>
            <a:ext cx="847800" cy="209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87640" y="5013360"/>
            <a:ext cx="51444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Adding text to the header and footer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4465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can be added to the Header and Footer just the same way as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whether the footer text appears on just the selected slide, or on all slides in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eader and 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just the selec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pply to 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very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913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 date to slid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eader and Foo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ndow to add a date to selected or all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to the checkbox of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to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Update automa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want the date to update each time the presentation i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pply to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all these changes by clicking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1944720" cy="1609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04360" y="6021360"/>
            <a:ext cx="23004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2928c"/>
                </a:solidFill>
                <a:latin typeface="Arial"/>
              </a:rPr>
              <a:t>Repositioning the footer, date and page numbers</a:t>
            </a:r>
            <a:endParaRPr b="1" lang="en-US" sz="3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ioning a footer, date or page number is done 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M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electing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M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Template automatically creates two Slide Masters, one for the Title slide and one for all of the oth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4724280"/>
            <a:ext cx="26481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More than one master slide?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select the master slide in the Outline pane that represents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n-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holders for a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ate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oter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umber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t the bottom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 placeholder and use the black handles to r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selecting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2376720" cy="164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41436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Miriam Lloyd</cp:lastModifiedBy>
  <dcterms:modified xsi:type="dcterms:W3CDTF">2004-05-15T12:42:59Z</dcterms:modified>
  <cp:revision>25</cp:revision>
  <dc:subject/>
  <dc:title>European Computer Driving Licence</dc:title>
</cp:coreProperties>
</file>