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EBE-3348-4ED2-B146-11264745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A05-D535-40AF-A584-52B2C95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9FD-F2DC-49E5-999A-353B2056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734-D814-49CB-AF07-56929338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515D-C2CF-4FD2-BB78-61DD7721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88C1-D072-4B22-9F2B-003279EE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3AEA-A8F1-482F-8B94-7C2E59F8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E5DA-806C-495E-A9BB-BD08494A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6DFF-8207-40E6-9817-714D683D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3FE4-AF8F-4628-9CF9-47A4E842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BB1F-EC7C-4F41-9228-392D2801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E70-030C-452A-8F6E-7E6AAB01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5BC1-6ADA-4002-8532-6713EF50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80FC-2E96-444A-9E26-6EFDF190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0CFE-E820-4D80-96F5-2DD0F6E2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9ECE-D87D-4BD7-A104-DB8D961B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79FA-F05B-4826-A7F2-FBDBA9DE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6B2-99BD-4786-802F-11A39EC5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BD6-BABE-4F05-8E77-46FFA71A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50D-D235-47F2-94DF-1CED0758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62D-5A93-47E2-94AD-C7D1F0A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371-3BB0-4930-BEB5-530FA31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5BA-0F33-41B4-A4DB-676803D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5BF-9D0B-4590-9029-0341B3D9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0B66-08C4-46AB-AD22-D24D2E290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C033-2EF4-45E3-8F13-D0AAADD86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4 – Adding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izing a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just the chart size, click it and drag a corner handle inwards to make it smaller and outwards to make it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57070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Editing a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edit details if you make a mistake in one of the figures or headings in th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the chart and the datasheet will appea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atasheet does not appear, right-click on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har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elect Datasheet from the menu that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har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ark blue area around the chart. If you are unsure of being in the right place, hover the mouse pointer over the area and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ool T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tell you where you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background colour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73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chart so that the datasheet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in the middle of the chart.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ool T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say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a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rmat 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e of the colours, or check the None box to leave the background transparent.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1209600" cy="24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520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column colou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0728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t in edit mode (with the datasheet showing), right click on one of the column bars.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ormat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elect a new colour for the selected data series.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is process for other column data series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32720" y="2781360"/>
            <a:ext cx="1296720" cy="18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21589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pie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367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opy a chart slide, paste it into a new position in the presentation, and then change the chart to a pie chart and edit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the existing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Title and Ch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and 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s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 copy of the slide will appear just after the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the placeholder, edit the existing data in the datasheet. Remove any unwanted rows and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50403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pie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ange the chart type, right click on the Chart Area (outside of the actual chart, but still within the bound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har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ie.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dd data labels, right click under the legend. Select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Chart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ata Lab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b and make the required se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6360" y="3068640"/>
            <a:ext cx="2232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pie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pie chart slide will look something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137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rt type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other chart type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the chart and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hart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chart type and 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ess and Hold to view S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what it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39340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hanging chart colour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ange the background of any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user the datasheet is in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close to the chart within the background area (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lo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Format Plo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new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chart colours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hange the colour of all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rs in a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hart. Click a bar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it and selec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rmat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new colour from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atter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hange the colour of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vidual b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any bar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click the specific bar to selec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ght click it and 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Format Dat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a new colour from the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Patter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1371600" cy="2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16720" y="4437000"/>
            <a:ext cx="15048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Object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4608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s, scanned photographs or cartoons can be added to your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put in graphs and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ha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layou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ed to help you add graphic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igers presentation is an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the slide on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rmal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ype in your tex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781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Inserting a Clip Art imag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5040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click on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Clip 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picture (graphic) by typing a search word into the search box. 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640" y="2204640"/>
            <a:ext cx="34783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picture by clicking it. Click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picture will appear on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lete a picture, click it and press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5272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35640" y="3141720"/>
            <a:ext cx="2975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Changing the size of a graphic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3456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graphic.  Black handles will surroun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the mouse over a corner handle. The pointer will change to a two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4000" y="2349360"/>
            <a:ext cx="4895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hold down the mouse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w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nlarge the graphic, or dra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w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ake it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the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1733400" cy="1400400"/>
          </a:xfrm>
          <a:prstGeom prst="rect">
            <a:avLst/>
          </a:prstGeom>
          <a:ln w="12600">
            <a:solidFill>
              <a:srgbClr val="009999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3167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928c"/>
                </a:solidFill>
                <a:latin typeface="Arial"/>
              </a:rPr>
              <a:t>Copying or moving an image within a presentations</a:t>
            </a:r>
            <a:endParaRPr b="1" lang="en-US" sz="32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374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want the same image on another slide, eg. the Titl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opy or move the image without having to insert another Clip Art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o select the image. 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Cop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to copy the image), or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C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f you want to mov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 to the slide to receive the image. 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95640" y="2349360"/>
            <a:ext cx="47023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image and drag it into position on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ze it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470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928c"/>
                </a:solidFill>
                <a:latin typeface="Arial"/>
              </a:rPr>
              <a:t>Copying or moving an image between presentations</a:t>
            </a:r>
            <a:endParaRPr b="1" lang="en-US" sz="32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opy or move an image between open pres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presentation, or open an exist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back to the first presentation by clicking its filename o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image.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the other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the slide to receive the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Move and resize appropria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509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Inserting an image to the Master slide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345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ou can insert an image into the Master slide for non-title slides by opening the file containing the graphic then copying and pasting it into the slid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99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ou can also import it directly by finding a picture you like from the Internet, or download some from the Payne-Gallway web site </a:t>
            </a:r>
            <a:r>
              <a:rPr b="0" lang="en-GB" sz="1400" spc="-1" strike="noStrike">
                <a:solidFill>
                  <a:srgbClr val="009999"/>
                </a:solidFill>
                <a:latin typeface="Arial"/>
              </a:rPr>
              <a:t>www.payne-gallway.co.uk/ec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ew the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Master slid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ect the non-title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Master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Inse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Pict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From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34920" y="2133360"/>
            <a:ext cx="5062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te the pictures you’ve downloaded and click to select one, then click the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Inse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ve and resize if necessary and add a border by clicking the </a:t>
            </a:r>
            <a:r>
              <a:rPr b="0" lang="en-GB" sz="1600" spc="-1" strike="noStrike">
                <a:solidFill>
                  <a:srgbClr val="009999"/>
                </a:solidFill>
                <a:latin typeface="Arial"/>
              </a:rPr>
              <a:t>Line Col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itch to </a:t>
            </a:r>
            <a:r>
              <a:rPr b="0" lang="en-GB" sz="1600" spc="-1" strike="noStrike">
                <a:solidFill>
                  <a:srgbClr val="12928c"/>
                </a:solidFill>
                <a:latin typeface="Arial"/>
              </a:rPr>
              <a:t>Normal Vie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o exit the slide 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3745080" cy="2440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5589720"/>
            <a:ext cx="31428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column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255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Title and 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lide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lide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already been created in the Tigers pres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hart slide and double-click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ce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ll spreadsheet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type the existing data with the 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0360" y="2060640"/>
            <a:ext cx="4197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unwanted columns and rows in turn by clicking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aders            and pressing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spreadsheet data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rner handles to resize the chart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3384720" cy="106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56360" y="5157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10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Adding a char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t slide will look something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4:35:47Z</dcterms:created>
  <dc:creator>Miriam Lloyd</dc:creator>
  <dc:description/>
  <dc:language>en-US</dc:language>
  <cp:lastModifiedBy>Miriam Lloyd</cp:lastModifiedBy>
  <dcterms:modified xsi:type="dcterms:W3CDTF">2004-05-15T17:27:04Z</dcterms:modified>
  <cp:revision>23</cp:revision>
  <dc:subject/>
  <dc:title>European Computer Driving Licence</dc:title>
</cp:coreProperties>
</file>