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AFF-8231-40EC-A083-1CE8FFFE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06F-9C8C-4B76-89BA-BCBD935A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2E7C-29D1-410E-A39E-60B0B4EE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926B-8678-4E00-936C-A1C97FF8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87E0-26E2-4BB0-928B-9E4F45CE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10B6-919D-46DD-B3E0-9D729AC6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D18A-A9A3-46BE-BC63-2D6E9494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3411-51CC-4BFC-8756-6F4328E9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6EA3-C764-47DD-B173-54FC2779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F933-4074-41E4-AB42-402018D6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B5EF-1072-4E8E-B5BA-AF42D3EA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AE80-279E-4F14-8924-A9A3D6BE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CEA9-977B-489F-B4BD-6150ADAD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EABC-60AE-4B89-8DBF-D751E889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C556-10F0-466A-9366-1F518243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7149-719F-478F-9F49-B23D2394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EAA4-FAF5-42B8-A4D2-79F04A89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88F3-E5CC-4996-A9C2-3D21749C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28A7-838D-4B4A-A69C-D893338E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2FD-92B1-47F1-A0ED-6EC44B96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731-A767-49B6-ADD7-EDDF2639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884-8054-4DAD-B51B-6A3AC5A7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2DD-A308-4364-912E-C6EF903B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8F1C-3C00-4694-B7ED-6C4A2A18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928c"/>
              </a:buClr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9651-87D5-4B95-8C8D-3C6E4087B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030A-5816-47C9-BCC0-8196A641E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aba4"/>
                </a:solidFill>
                <a:latin typeface="Arial"/>
              </a:rPr>
              <a:t>European Computer Driving Licenc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 6 – 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6.4 – Adding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Sizing a char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djust the chart size, click it and drag a corner handle inwards to make it smaller and outwards to make it la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92360" y="3716280"/>
            <a:ext cx="570708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Editing a char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edit details if you make a mistake in one of the figures or headings in the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click the chart and the datasheet will appea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datasheet does not appear, right-click on 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hart A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elect Datasheet from the menu that app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hart A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dark blue area around the chart. If you are unsure of being in the right place, hover the mouse pointer over the area and 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ool T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tell you where you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Changing the background colour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3739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the chart so that the datasheet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in the middle of the chart.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ool T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say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Wa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Format W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e of the colours, or check the None box to leave the background transparent. 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1209600" cy="24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76720" y="3284640"/>
            <a:ext cx="25207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Changing the column colour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0728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t in edit mode (with the datasheet showing), right click on one of the column bars. 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Format Data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ion, select a new colour for the selected data series. 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his process for other column data series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732720" y="2781360"/>
            <a:ext cx="1296720" cy="183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21589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a pie char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367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opy a chart slide, paste it into a new position in the presentation, and then change the chart to a pie chart and edit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the existing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Title and Ch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de and select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d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d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as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A copy of the slide will appear just after the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-click the placeholder, edit the existing data in the datasheet. Remove any unwanted rows and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504036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a pie char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hange the chart type, right click on the Chart Area (outside of the actual chart, but still within the bound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har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Pie. Click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dd data labels, right click under the legend. Select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Chart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ata Lab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b and make the required se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16360" y="3068640"/>
            <a:ext cx="22320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a pie char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 pie chart slide will look something lik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84360" y="2924280"/>
            <a:ext cx="4137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Chart type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any other chart type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the chart and 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Chart 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chart type and 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ress and Hold to view S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ee what it looks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716360" y="2492280"/>
            <a:ext cx="39340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hanging chart colour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hange the background of any c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user the datasheet is in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close to the chart within the background area (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lot A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Format Plo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new col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Changing chart colour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hange the colour of all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rs in a data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hart. Click a bar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it and select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rmat Data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new colour from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atter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948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change the colour of 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ividual b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any bar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click the specific bar to selec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ght click it and select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Format Data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a new colour from the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Patter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11280" y="4076640"/>
            <a:ext cx="1371600" cy="228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516720" y="4437000"/>
            <a:ext cx="15048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Object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4608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s, scanned photographs or cartoons can be added to your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put in graphs and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Point has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lide layou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igned to help you add graphics eas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lide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Tigers presentation is an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the slide on i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rmal 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ype in your text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03640" y="2492280"/>
            <a:ext cx="37814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Inserting a Clip Art imag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5040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-click on the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Clip 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for a picture (graphic) by typing a search word into the search box.  Click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19640" y="2204640"/>
            <a:ext cx="34783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picture by clicking it. Click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picture will appear on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lete a picture, click it and press the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252720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435640" y="3141720"/>
            <a:ext cx="2975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Changing the size of a graphic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34560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graphic.  Black handles will surroun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the mouse over a corner handle. The pointer will change to a two-headed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4000" y="2349360"/>
            <a:ext cx="48956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d hold down the mouse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w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enlarge the graphic, or dra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w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make it sm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the 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58920" y="4581360"/>
            <a:ext cx="1733400" cy="1400400"/>
          </a:xfrm>
          <a:prstGeom prst="rect">
            <a:avLst/>
          </a:prstGeom>
          <a:ln w="12600">
            <a:solidFill>
              <a:srgbClr val="009999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31672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928c"/>
                </a:solidFill>
                <a:latin typeface="Arial"/>
              </a:rPr>
              <a:t>Copying or moving an image within a presentations</a:t>
            </a:r>
            <a:endParaRPr b="1" lang="en-US" sz="32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2349360"/>
            <a:ext cx="374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want the same image on another slide, eg. the Titl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copy or move the image without having to insert another Clip Art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to select the image. Select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Ed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Cop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to copy the image), or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Cu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f you want to move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 to the slide to receive the image. Select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Ed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995640" y="2349360"/>
            <a:ext cx="47023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image and drag it into position on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ze it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16360" y="3573360"/>
            <a:ext cx="34704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928c"/>
                </a:solidFill>
                <a:latin typeface="Arial"/>
              </a:rPr>
              <a:t>Copying or moving an image between presentations</a:t>
            </a:r>
            <a:endParaRPr b="1" lang="en-US" sz="32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copy or move an image between open present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 new presentation, or open an existing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back to the first presentation by clicking its filename o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image. 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the other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the slide to receive the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as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Move and resize appropriat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79640" y="3716280"/>
            <a:ext cx="5095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Inserting an image to the Master slide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3457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99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ou can insert an image into the Master slide for non-title slides by opening the file containing the graphic then copying and pasting it into the slid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99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ou can also import it directly by finding a picture you like from the Internet, or download some from the Payne-Gallway web site </a:t>
            </a:r>
            <a:r>
              <a:rPr b="0" lang="en-GB" sz="1400" spc="-1" strike="noStrike">
                <a:solidFill>
                  <a:srgbClr val="009999"/>
                </a:solidFill>
                <a:latin typeface="Arial"/>
              </a:rPr>
              <a:t>www.payne-gallway.co.uk/ec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iew the </a:t>
            </a:r>
            <a:r>
              <a:rPr b="0" lang="en-GB" sz="1600" spc="-1" strike="noStrike">
                <a:solidFill>
                  <a:srgbClr val="12928c"/>
                </a:solidFill>
                <a:latin typeface="Arial"/>
              </a:rPr>
              <a:t>Master slid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1600" spc="-1" strike="noStrike">
                <a:solidFill>
                  <a:srgbClr val="12928c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ect the non-title </a:t>
            </a:r>
            <a:r>
              <a:rPr b="0" lang="en-GB" sz="1600" spc="-1" strike="noStrike">
                <a:solidFill>
                  <a:srgbClr val="12928c"/>
                </a:solidFill>
                <a:latin typeface="Arial"/>
              </a:rPr>
              <a:t>Master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GB" sz="1600" spc="-1" strike="noStrike">
                <a:solidFill>
                  <a:srgbClr val="12928c"/>
                </a:solidFill>
                <a:latin typeface="Arial"/>
              </a:rPr>
              <a:t>Inser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GB" sz="1600" spc="-1" strike="noStrike">
                <a:solidFill>
                  <a:srgbClr val="12928c"/>
                </a:solidFill>
                <a:latin typeface="Arial"/>
              </a:rPr>
              <a:t>Pictur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GB" sz="1600" spc="-1" strike="noStrike">
                <a:solidFill>
                  <a:srgbClr val="009999"/>
                </a:solidFill>
                <a:latin typeface="Arial"/>
              </a:rPr>
              <a:t>From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634920" y="2133360"/>
            <a:ext cx="5062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ate the pictures you’ve downloaded and click to select one, then click the </a:t>
            </a:r>
            <a:r>
              <a:rPr b="0" lang="en-GB" sz="1600" spc="-1" strike="noStrike">
                <a:solidFill>
                  <a:srgbClr val="009999"/>
                </a:solidFill>
                <a:latin typeface="Arial"/>
              </a:rPr>
              <a:t>Inser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ve and resize if necessary and add a border by clicking the </a:t>
            </a:r>
            <a:r>
              <a:rPr b="0" lang="en-GB" sz="1600" spc="-1" strike="noStrike">
                <a:solidFill>
                  <a:srgbClr val="009999"/>
                </a:solidFill>
                <a:latin typeface="Arial"/>
              </a:rPr>
              <a:t>Line Colo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itch to </a:t>
            </a:r>
            <a:r>
              <a:rPr b="0" lang="en-GB" sz="1600" spc="-1" strike="noStrike">
                <a:solidFill>
                  <a:srgbClr val="12928c"/>
                </a:solidFill>
                <a:latin typeface="Arial"/>
              </a:rPr>
              <a:t>Normal View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o exit the slide m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3280" y="2781360"/>
            <a:ext cx="3745080" cy="2440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04000" y="5589720"/>
            <a:ext cx="31428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a column char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255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Title and Ch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lide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lide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s already been created in the Tigers pres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hart slide and double-click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h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ceh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mall spreadsheet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type the existing data with the new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0360" y="2060640"/>
            <a:ext cx="41972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unwanted columns and rows in turn by clicking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colum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aders            and pressing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the spreadsheet data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corner handles to resize the chart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4508640"/>
            <a:ext cx="3384720" cy="1062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56360" y="51577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859280" y="3500280"/>
            <a:ext cx="3456000" cy="10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a char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rt slide will look something lik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14:35:47Z</dcterms:created>
  <dc:creator>Miriam Lloyd</dc:creator>
  <dc:description/>
  <dc:language>en-US</dc:language>
  <cp:lastModifiedBy>Miriam Lloyd</cp:lastModifiedBy>
  <dcterms:modified xsi:type="dcterms:W3CDTF">2004-05-15T17:27:04Z</dcterms:modified>
  <cp:revision>23</cp:revision>
  <dc:subject/>
  <dc:title>European Computer Driving Licence</dc:title>
</cp:coreProperties>
</file>