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692-D17A-46E7-B7F8-E819E10E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3AE-F21A-4972-A2C7-F12DFE32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4AC-CDAA-47A2-9137-1BCDEAC5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F54-7A53-4D8C-A86C-04DA088B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66D7-2A23-44D2-A237-07C9FA1B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FD19-B3DF-47B6-B5A8-9A127FB1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F222-2CFF-4E54-AD2D-C7FEC3B0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4C81-F5E1-4559-9FC1-E5F5CF02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DF05-1DC2-45A1-9866-7703B323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6FEB-D524-4551-A8EC-8B4B75FF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F5DE-1BC4-4D3D-9285-08A50D65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912-6472-418D-92B8-7E623B59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8CBA-293E-4FBA-924C-E4797125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E5AC-3D1F-40ED-AADC-3C6997BE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01A7-C97B-407F-80E6-EDDD5381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22A0-1E3D-4212-ABAA-F73D3558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05C6-C376-420F-BF34-65109BEE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C56-2747-403D-91AB-1B1DBEBF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71D-889C-4298-98F1-1668E34D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47D-86FC-4A6B-8F03-A094118D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1F6-6085-44F0-9CC8-7F39B9AD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12F-B902-44FD-8858-EC6A54D4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E7B-D28B-4EBD-B24B-E68A6E30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E8F-7C69-40AB-B155-04AF412E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928c"/>
              </a:buClr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374B-04C5-4E32-8DA0-90E8F4569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D754-5771-41B6-B4BE-ED5A81BAB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aba4"/>
                </a:solidFill>
                <a:latin typeface="Arial"/>
              </a:rPr>
              <a:t>European Computer Driving Licenc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6 –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5 – Special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a free-drawn line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utosh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con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Dra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L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crib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and drag to draw a freeha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08720" y="2421000"/>
            <a:ext cx="936720" cy="284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227640" y="5589720"/>
            <a:ext cx="1943280" cy="622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2276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an arrow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Arrow button on the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Draw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 out an arrow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 click the arrow and select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Format Auto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changes to the beginning and end style of the arrow by using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Format Autosha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93080" y="2421000"/>
            <a:ext cx="31896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1871640" cy="298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47640" y="3789360"/>
            <a:ext cx="5400720" cy="0"/>
          </a:xfrm>
          <a:prstGeom prst="line">
            <a:avLst/>
          </a:prstGeom>
          <a:ln w="3175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92360" y="4724280"/>
            <a:ext cx="187164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Rotating or Flipping an objec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n object on a sl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down-arrow o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on the Drawing toolba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Rotate or F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lay with the different rotate and flip op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0920" y="3284640"/>
            <a:ext cx="505080" cy="28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1143000" cy="390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643280" y="3789360"/>
            <a:ext cx="2772000" cy="1523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1143000" cy="3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Selecting and grouping drawn objects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elect more than one object by clicking the first object, holding dow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, then clicking other objec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 objects is useful if you want all the separate objects to be treated as on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move one of the objects, all the others will be moved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one of the selected objects and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Grouping then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9480" y="2133360"/>
            <a:ext cx="403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jects are now grouped and can be moved together as on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Un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one of the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Grouping then Un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35640" y="2133720"/>
            <a:ext cx="2467080" cy="676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508720" y="5229360"/>
            <a:ext cx="25146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Sending objects to the front or back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have two objects overlapping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ower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utomatically place the most recent object on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overlapping objects can be changed eg. one can be sent to the back or brought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on one of the overlapp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end to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Bring to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19640" y="4076640"/>
            <a:ext cx="1728720" cy="1031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47640" y="5589720"/>
            <a:ext cx="1582920" cy="1055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076720" y="5589720"/>
            <a:ext cx="158292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shapes to a slide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35989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ell as lines, you can add a range of shapes such as boxes and circles to a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modify these shapes in exactly the same way as modifying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a rectangle, 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o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raw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66920" y="2204640"/>
            <a:ext cx="46306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he mouse to draw the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 to draw ovals and cir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raw a perfect circle or square, keep your finger o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as you drag out the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03640" y="5157720"/>
            <a:ext cx="358560" cy="344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64000" y="2924280"/>
            <a:ext cx="1648080" cy="1114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516720" y="4365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Changing the fill colour and line colour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ing the </a:t>
            </a:r>
            <a:r>
              <a:rPr b="1" lang="en-GB" sz="2400" spc="-1" strike="noStrike">
                <a:solidFill>
                  <a:srgbClr val="12928c"/>
                </a:solidFill>
                <a:latin typeface="Arial"/>
              </a:rPr>
              <a:t>Fill Col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the shape and click the down-arrow on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Fill Col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a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ing the </a:t>
            </a:r>
            <a:r>
              <a:rPr b="1" lang="en-GB" sz="2400" spc="-1" strike="noStrike">
                <a:solidFill>
                  <a:srgbClr val="12928c"/>
                </a:solidFill>
                <a:latin typeface="Arial"/>
              </a:rPr>
              <a:t>Border colour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the shape and click the down-arrow on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Line Col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a line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43200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340000" y="486900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12928c"/>
                </a:solidFill>
                <a:latin typeface="Arial"/>
              </a:rPr>
              <a:t>Applying a shadow to a shape, </a:t>
            </a:r>
            <a:endParaRPr b="1" lang="en-US" sz="37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done in the exactly the same way as for a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object and click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hadow Sty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shadow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96360" y="2852640"/>
            <a:ext cx="325440" cy="311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51280" y="3860640"/>
            <a:ext cx="137628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Moving, copying or deleting a line or shape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or copy a shape or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ob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destination slide (either within the presentation or in a different, open presentation) 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Pas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e a shape or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objects can be deleted on a normal slide or the master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object. Press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ligning a shape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lign a drawn object on a slide, click the object and then click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Dr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 on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ra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lign or Distrib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make sur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Relative to Sl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Format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bar, click the appropriate alignment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67640" y="2781360"/>
            <a:ext cx="447840" cy="247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916360" y="5877000"/>
            <a:ext cx="1008000" cy="357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492360" y="3573360"/>
            <a:ext cx="23767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Slide Transition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32414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 change the way a slide opens.  You can make the next slide open like a blind or a curtain, 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 presentation i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Sorter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lick the firs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Tran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 by selecting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435640" y="2133720"/>
            <a:ext cx="3246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f the Task pane is visible,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Tran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drop-down list of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 down the list and select a transition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by adding a sound and changing the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093080" y="3429000"/>
            <a:ext cx="863640" cy="204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152720" cy="7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780000" y="2060640"/>
            <a:ext cx="1511280" cy="4454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443640" y="4437000"/>
            <a:ext cx="1219320" cy="2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and modifying a text box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600" spc="-1" strike="noStrike">
                <a:solidFill>
                  <a:srgbClr val="12928c"/>
                </a:solidFill>
                <a:latin typeface="Arial"/>
              </a:rPr>
              <a:t>Text Bo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con on the </a:t>
            </a:r>
            <a:r>
              <a:rPr b="0" lang="en-US" sz="2600" spc="-1" strike="noStrike">
                <a:solidFill>
                  <a:srgbClr val="12928c"/>
                </a:solidFill>
                <a:latin typeface="Arial"/>
              </a:rPr>
              <a:t>Draw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and drag the mouse to drag out a text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 in the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81200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987640" y="3860640"/>
            <a:ext cx="3465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Repositioning and resizing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Text Bo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l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a resizing hand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w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nlarge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Text 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w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it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27280" y="4149720"/>
            <a:ext cx="3943440" cy="1704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the text colour, and adding a border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ing the text col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Text Box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at it has a fuzzy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down-arrow on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Font Col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        and select a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ing a b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Line Sty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       and select a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down-arrow on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Line Col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        and select a line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432000" cy="327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211640" y="5084640"/>
            <a:ext cx="345960" cy="360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877080" y="5516640"/>
            <a:ext cx="431640" cy="339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059280" y="3573360"/>
            <a:ext cx="12254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Superscript and Subscript text 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Fo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uperscri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ubscri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3789360"/>
            <a:ext cx="61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ord at the end of this sentence is in 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superscrip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4508640"/>
            <a:ext cx="61196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ord at the end of this sentence is in 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subscrip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Adding transitions to multiple slides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ition can be applied to all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pply to All Sl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i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Tran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pply a transition to more than one slide but not all by holding dow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and clicking non-adjacent slides to selec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hold dow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o select a range of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              to view the slide s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start a Slide show, it will start from the currently selected slide.  To start at the beginning, make sur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elected before clicking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S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799920" cy="218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956720" y="2637000"/>
            <a:ext cx="91440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special effects to tex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7993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nimation effects i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orter 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using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e from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T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Anima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slide and click an animatio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3529080" cy="797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39000" y="3645000"/>
            <a:ext cx="13572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Formatting text and image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Dra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olbar at the bottom of the screen i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Normal 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the tools needed to draw and format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ra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olbar to create a logo for a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use the tools to draw objects on the master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4581360"/>
            <a:ext cx="714240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Adding a shadow to text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 slide on screen i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Normal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select the existing text, or create a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ext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clicking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ext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on the drawing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slide and drag the mouse button to draw a text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hadow Sty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ton o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raw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select one of the shadow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60360" cy="34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42920" y="5229360"/>
            <a:ext cx="2448000" cy="768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740720" y="2708280"/>
            <a:ext cx="358560" cy="344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107640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227640" y="5950080"/>
            <a:ext cx="12384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lines to a slid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o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raw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b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st holding dow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, click and hold the mouse button to drag out a horizontal line. Release the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ift key restricts the number of angles the line can 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move the line higher or lower, move the mouse pointer over the line until it becomes two double-headed arrows, then click and 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2708280"/>
            <a:ext cx="295560" cy="237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19280" y="4508640"/>
            <a:ext cx="1685880" cy="590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16360" y="4581360"/>
            <a:ext cx="3733920" cy="12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the colour of the line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line to selec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he down-arrow on the </a:t>
            </a:r>
            <a:r>
              <a:rPr b="0" lang="en-GB" sz="2400" spc="-1" strike="noStrike">
                <a:solidFill>
                  <a:srgbClr val="12928c"/>
                </a:solidFill>
                <a:latin typeface="Arial"/>
              </a:rPr>
              <a:t>Line Col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a different col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431640" cy="291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492360" y="3933720"/>
            <a:ext cx="1673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Modifying the line width and style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ying the line 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line and 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Line Sty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line thic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ying the line sty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line and 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ash Sty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lin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948360" y="3141720"/>
            <a:ext cx="257400" cy="218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1187280" cy="218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10004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09:50:37Z</dcterms:created>
  <dc:creator>Miriam Lloyd</dc:creator>
  <dc:description/>
  <dc:language>en-US</dc:language>
  <cp:lastModifiedBy>Pat</cp:lastModifiedBy>
  <dcterms:modified xsi:type="dcterms:W3CDTF">2004-05-21T10:44:55Z</dcterms:modified>
  <cp:revision>112</cp:revision>
  <dc:subject/>
  <dc:title>European Computer Driving Licence</dc:title>
</cp:coreProperties>
</file>