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4348-2593-44C9-BC98-B8CFCC04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15FB-C74E-4DFC-96DD-3C285286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E303-D7A8-4EF3-832F-E15F2FA1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F7AC-113C-45D0-BF29-DEEB4260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6D39-79B3-4C31-8A37-63248096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D530-CAB6-4719-A9D5-7A44AAAD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3E57-2871-423B-9745-961ADCA5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6CCD-7159-4B44-A2D0-401303A8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9C43-4E50-4DEB-87C4-A438D2C5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D211-C27F-4592-A8B9-7DDB98F1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D69A-ABD8-4997-BCE8-B07DA7FC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A133-6DC4-4F2D-82DF-7038509B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A747-4696-40E0-B490-11682F5E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CE46-D03A-4FAF-9DDE-39A7E0E6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7517-9F4A-4699-BBCD-2144A50D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12A9-FD8B-4B62-AB6E-2F5BD800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324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324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EEF1-8D84-4950-8C37-FBFE7F48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CA2A-4AC0-4201-AE58-A07EE1F9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492D-E879-40CA-84F7-DFBFC970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DD04-2FD6-486D-BF51-C91BD168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90F1-6D44-4A04-9A4F-B53A67CF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1DD3-C065-4093-829B-45352128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82C8-B95A-4034-A15F-44BF87F2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7571-0E67-4602-89BF-27CF6C27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928c"/>
              </a:buClr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47FF-4CAB-4FEF-BA09-03C9A02EF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5AD2-F6C5-46A6-BB7D-C2B7B60DD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5aba4"/>
                </a:solidFill>
                <a:latin typeface="Arial"/>
              </a:rPr>
              <a:t>European Computer Driving Licence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 6 – 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6.5 – Special Eff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Adding a free-drawn line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Autosha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con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Draw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o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L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crib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and drag to draw a freehan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308720" y="2421000"/>
            <a:ext cx="936720" cy="284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227640" y="5589720"/>
            <a:ext cx="1943280" cy="622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203640" y="3284640"/>
            <a:ext cx="22762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Adding an arrow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ick the Arrow button on the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Draw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o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 out an arrow 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ght click the arrow and select </a:t>
            </a:r>
            <a:r>
              <a:rPr b="0" lang="en-GB" sz="2400" spc="-1" strike="noStrike">
                <a:solidFill>
                  <a:srgbClr val="12928c"/>
                </a:solidFill>
                <a:latin typeface="Arial"/>
              </a:rPr>
              <a:t>Format Auto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changes to the beginning and end style of the arrow by using the </a:t>
            </a:r>
            <a:r>
              <a:rPr b="0" lang="en-GB" sz="2400" spc="-1" strike="noStrike">
                <a:solidFill>
                  <a:srgbClr val="12928c"/>
                </a:solidFill>
                <a:latin typeface="Arial"/>
              </a:rPr>
              <a:t>Format Autoshap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093080" y="2421000"/>
            <a:ext cx="318960" cy="360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419640" y="3500280"/>
            <a:ext cx="1871640" cy="298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547640" y="3789360"/>
            <a:ext cx="5400720" cy="0"/>
          </a:xfrm>
          <a:prstGeom prst="line">
            <a:avLst/>
          </a:prstGeom>
          <a:ln w="3175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492360" y="4724280"/>
            <a:ext cx="187164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Rotating or Flipping an objec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n object on a sl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down-arrow on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on the Drawing toolba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Rotate or Fl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lay with the different rotate and flip opti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50920" y="3284640"/>
            <a:ext cx="505080" cy="285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0" y="2349360"/>
            <a:ext cx="1143000" cy="390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643280" y="3789360"/>
            <a:ext cx="2772000" cy="1523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835280" y="4221000"/>
            <a:ext cx="1143000" cy="39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928c"/>
                </a:solidFill>
                <a:latin typeface="Arial"/>
              </a:rPr>
              <a:t>Selecting and grouping drawn objects</a:t>
            </a:r>
            <a:endParaRPr b="1" lang="en-US" sz="36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0384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select more than one object by clicking the first object, holding down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hi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, then clicking other objec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ing objects is useful if you want all the separate objects to be treated as on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move one of the objects, all the others will be moved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 one of the selected objects and click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Grouping then Gro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9480" y="2133360"/>
            <a:ext cx="403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bjects are now grouped and can be moved together as on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Ungro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 one of the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Grouping then Un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435640" y="2133720"/>
            <a:ext cx="2467080" cy="676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508720" y="5229360"/>
            <a:ext cx="251460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928c"/>
                </a:solidFill>
                <a:latin typeface="Arial"/>
              </a:rPr>
              <a:t>Sending objects to the front or back</a:t>
            </a:r>
            <a:endParaRPr b="1" lang="en-US" sz="36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have two objects overlapping,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ower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automatically place the most recent object on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der of overlapping objects can be changed eg. one can be sent to the back or brought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click on one of the overlapp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Or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end to 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Bring to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419640" y="4076640"/>
            <a:ext cx="1728720" cy="10317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547640" y="5589720"/>
            <a:ext cx="1582920" cy="10555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076720" y="5589720"/>
            <a:ext cx="1582920" cy="102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Adding shapes to a slide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35989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well as lines, you can add a range of shapes such as boxes and circles to a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modify these shapes in exactly the same way as modifying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dd a rectangle, click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 on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Draw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066920" y="2204640"/>
            <a:ext cx="46306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nd drag the mouse to draw the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e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O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l to draw ovals and cir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raw a perfect circle or square, keep your finger on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hi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as you drag out the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03640" y="5157720"/>
            <a:ext cx="358560" cy="344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364000" y="2924280"/>
            <a:ext cx="1648080" cy="1114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516720" y="4365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928c"/>
                </a:solidFill>
                <a:latin typeface="Arial"/>
              </a:rPr>
              <a:t>Changing the fill colour and line colour</a:t>
            </a:r>
            <a:endParaRPr b="1" lang="en-US" sz="36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nging the </a:t>
            </a:r>
            <a:r>
              <a:rPr b="1" lang="en-GB" sz="2400" spc="-1" strike="noStrike">
                <a:solidFill>
                  <a:srgbClr val="12928c"/>
                </a:solidFill>
                <a:latin typeface="Arial"/>
              </a:rPr>
              <a:t>Fill Col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the shape and click the down-arrow on the </a:t>
            </a:r>
            <a:r>
              <a:rPr b="0" lang="en-GB" sz="2400" spc="-1" strike="noStrike">
                <a:solidFill>
                  <a:srgbClr val="12928c"/>
                </a:solidFill>
                <a:latin typeface="Arial"/>
              </a:rPr>
              <a:t>Fill Col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a col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nging the </a:t>
            </a:r>
            <a:r>
              <a:rPr b="1" lang="en-GB" sz="2400" spc="-1" strike="noStrike">
                <a:solidFill>
                  <a:srgbClr val="12928c"/>
                </a:solidFill>
                <a:latin typeface="Arial"/>
              </a:rPr>
              <a:t>Border colour</a:t>
            </a:r>
            <a:r>
              <a:rPr b="0" lang="en-GB" sz="2400" spc="-1" strike="noStrike">
                <a:solidFill>
                  <a:srgbClr val="12928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the shape and click the down-arrow on the </a:t>
            </a:r>
            <a:r>
              <a:rPr b="0" lang="en-GB" sz="2400" spc="-1" strike="noStrike">
                <a:solidFill>
                  <a:srgbClr val="12928c"/>
                </a:solidFill>
                <a:latin typeface="Arial"/>
              </a:rPr>
              <a:t>Line Col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a line col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411280" y="3213000"/>
            <a:ext cx="432000" cy="279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340000" y="486900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12928c"/>
                </a:solidFill>
                <a:latin typeface="Arial"/>
              </a:rPr>
              <a:t>Applying a shadow to a shape, </a:t>
            </a:r>
            <a:endParaRPr b="1" lang="en-US" sz="37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done in the exactly the same way as for a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object and click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hadow Sty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 shadow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596360" y="2852640"/>
            <a:ext cx="325440" cy="311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851280" y="3860640"/>
            <a:ext cx="137628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928c"/>
                </a:solidFill>
                <a:latin typeface="Arial"/>
              </a:rPr>
              <a:t>Moving, copying or deleting a line or shape</a:t>
            </a:r>
            <a:endParaRPr b="1" lang="en-US" sz="36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 or copy a shape or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obj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Ed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Cop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destination slide (either within the presentation or in a different, open presentation) select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Ed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Pas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ete a shape or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n objects can be deleted on a normal slide or the master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object. Press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Aligning a shape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lign a drawn object on a slide, click the object and then click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Dr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tton on 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raw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o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Align or Distrib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n make sur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Relative to Sli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Format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bar, click the appropriate alignment t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667640" y="2781360"/>
            <a:ext cx="447840" cy="247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916360" y="5877000"/>
            <a:ext cx="1008000" cy="357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3492360" y="3573360"/>
            <a:ext cx="23767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Adding Slide Transitions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32414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 change the way a slide opens.  You can make the next slide open like a blind or a curtain, for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the presentation i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Sorter 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lick the first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Trans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ne by selecting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Sh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the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435640" y="2133720"/>
            <a:ext cx="32464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if the Task pane is visible, 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Trans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drop-down list of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Tas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 down the list and select a transition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by adding a sound and changing the 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093080" y="3429000"/>
            <a:ext cx="863640" cy="204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04000" y="5516640"/>
            <a:ext cx="1152720" cy="7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780000" y="2060640"/>
            <a:ext cx="1511280" cy="4454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443640" y="4437000"/>
            <a:ext cx="1219320" cy="20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Adding and modifying a text box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lang="en-US" sz="2600" spc="-1" strike="noStrike">
                <a:solidFill>
                  <a:srgbClr val="12928c"/>
                </a:solidFill>
                <a:latin typeface="Arial"/>
              </a:rPr>
              <a:t>Text Bo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con on the </a:t>
            </a:r>
            <a:r>
              <a:rPr b="0" lang="en-US" sz="2600" spc="-1" strike="noStrike">
                <a:solidFill>
                  <a:srgbClr val="12928c"/>
                </a:solidFill>
                <a:latin typeface="Arial"/>
              </a:rPr>
              <a:t>Draw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olb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and drag the mouse to drag out a text bo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pe in the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81200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987640" y="3860640"/>
            <a:ext cx="34657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Repositioning and resizing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Text Bo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ele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a resizing hand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w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enlarge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Text B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w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make it sm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627280" y="4149720"/>
            <a:ext cx="3943440" cy="17049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Changing the text colour, and adding a border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nging the text col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the </a:t>
            </a:r>
            <a:r>
              <a:rPr b="0" lang="en-GB" sz="2400" spc="-1" strike="noStrike">
                <a:solidFill>
                  <a:srgbClr val="12928c"/>
                </a:solidFill>
                <a:latin typeface="Arial"/>
              </a:rPr>
              <a:t>Text Box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that it has a fuzzy b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ick the down-arrow on the </a:t>
            </a:r>
            <a:r>
              <a:rPr b="0" lang="en-GB" sz="2400" spc="-1" strike="noStrike">
                <a:solidFill>
                  <a:srgbClr val="12928c"/>
                </a:solidFill>
                <a:latin typeface="Arial"/>
              </a:rPr>
              <a:t>Font Col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con        and select a col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ding a bord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lang="en-GB" sz="2400" spc="-1" strike="noStrike">
                <a:solidFill>
                  <a:srgbClr val="12928c"/>
                </a:solidFill>
                <a:latin typeface="Arial"/>
              </a:rPr>
              <a:t>Line Sty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con       and select a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ick the down-arrow on the </a:t>
            </a:r>
            <a:r>
              <a:rPr b="0" lang="en-GB" sz="2400" spc="-1" strike="noStrike">
                <a:solidFill>
                  <a:srgbClr val="12928c"/>
                </a:solidFill>
                <a:latin typeface="Arial"/>
              </a:rPr>
              <a:t>Line Col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con        and select a line col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432000" cy="327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211640" y="5084640"/>
            <a:ext cx="345960" cy="360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877080" y="5516640"/>
            <a:ext cx="431640" cy="339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3059280" y="3573360"/>
            <a:ext cx="12254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10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Adding Superscript and Subscript text 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Fo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uperscri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ubscri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32000" y="3789360"/>
            <a:ext cx="61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ord at the end of this sentence is in 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superscrip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32000" y="4508640"/>
            <a:ext cx="61196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ord at the end of this sentence is in 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subscrip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928c"/>
                </a:solidFill>
                <a:latin typeface="Arial"/>
              </a:rPr>
              <a:t>Adding transitions to multiple slides</a:t>
            </a:r>
            <a:endParaRPr b="1" lang="en-US" sz="36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ition can be applied to all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pply to All Sli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 in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lide Trans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pply a transition to more than one slide but not all by holding down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and clicking non-adjacent slides to select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hold down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hi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to select a range of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              to view the slide sh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start a Slide show, it will start from the currently selected slide.  To start at the beginning, make sur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lide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selected before clicking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lide Sh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19280" y="4292640"/>
            <a:ext cx="799920" cy="218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956720" y="2637000"/>
            <a:ext cx="914400" cy="1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Adding special effects to tex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2349360"/>
            <a:ext cx="7993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nimation effects i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lide Sorter 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using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lide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lide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ne from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T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Animation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 slide and click an animation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360" y="5157720"/>
            <a:ext cx="3529080" cy="797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939000" y="3645000"/>
            <a:ext cx="13572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Formatting text and images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99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Draw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olbar at the bottom of the screen i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Normal 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s the tools needed to draw and format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99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use 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raw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olbar to create a logo for a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99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lso use the tools to draw objects on the master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00000" y="4581360"/>
            <a:ext cx="7142400" cy="3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Adding a shadow to text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384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 slide on screen i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Normal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her select the existing text, or create a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Text Bo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clicking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Text Bo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on the drawing too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slide and drag the mouse button to draw a text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n th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948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hadow Sty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ton on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raw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select one of the shadow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32000" y="4005360"/>
            <a:ext cx="360360" cy="345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42920" y="5229360"/>
            <a:ext cx="2448000" cy="768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740720" y="2708280"/>
            <a:ext cx="358560" cy="344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6156360" y="3141720"/>
            <a:ext cx="1076400" cy="190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6227640" y="5950080"/>
            <a:ext cx="123840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Adding lines to a slide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on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Draw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lb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st holding down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hi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, click and hold the mouse button to drag out a horizontal line. Release the m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hift key restricts the number of angles the line can 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9480" y="2349360"/>
            <a:ext cx="40384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want to move the line higher or lower, move the mouse pointer over the line until it becomes two double-headed arrows, then click and d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71640" y="2708280"/>
            <a:ext cx="295560" cy="237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619280" y="4508640"/>
            <a:ext cx="1685880" cy="590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716360" y="4581360"/>
            <a:ext cx="3733920" cy="12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Changing the colour of the line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ick the line to selec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ick the down-arrow on the </a:t>
            </a:r>
            <a:r>
              <a:rPr b="0" lang="en-GB" sz="2400" spc="-1" strike="noStrike">
                <a:solidFill>
                  <a:srgbClr val="12928c"/>
                </a:solidFill>
                <a:latin typeface="Arial"/>
              </a:rPr>
              <a:t>Line Col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a different col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431640" cy="291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492360" y="3933720"/>
            <a:ext cx="16732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928c"/>
                </a:solidFill>
                <a:latin typeface="Arial"/>
              </a:rPr>
              <a:t>Modifying the line width and style</a:t>
            </a:r>
            <a:endParaRPr b="1" lang="en-US" sz="36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384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ifying the line wid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line and click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Line Sty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 line thick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948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ifying the line sty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line and click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Dash Sty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 line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00360" y="3068640"/>
            <a:ext cx="274680" cy="287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948360" y="3141720"/>
            <a:ext cx="257400" cy="218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692360" y="3573360"/>
            <a:ext cx="1187280" cy="2184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6084720" y="3645000"/>
            <a:ext cx="10004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10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7T09:50:37Z</dcterms:created>
  <dc:creator>Miriam Lloyd</dc:creator>
  <dc:description/>
  <dc:language>en-US</dc:language>
  <cp:lastModifiedBy>Pat</cp:lastModifiedBy>
  <dcterms:modified xsi:type="dcterms:W3CDTF">2004-05-21T10:44:55Z</dcterms:modified>
  <cp:revision>112</cp:revision>
  <dc:subject/>
  <dc:title>European Computer Driving Licence</dc:title>
</cp:coreProperties>
</file>