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344C-565F-4AB9-88C9-26984892A4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lide 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9AD-381F-405A-A8B4-3F262DED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9C4-270C-4D1E-8375-9DD38277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7F0-1B22-4035-BC7D-79F89761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AC4-6930-424C-AE36-B3A3033B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4A2B-95ED-42B5-9A76-3E5B51DE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9BBD-D9D1-4FC4-91FA-F72DB6FA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4883-0F16-41EA-99F1-BD9AAE70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C82C-B4FD-4668-AFEC-A2755F0D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0AF1-2FA4-4289-B4D0-5B9238AE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3F85-78F0-4EDC-AF98-956E708C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6C7A-8B8F-4AEF-9E93-9F178A27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36F-E31A-4464-9566-37268EF5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FB32-7440-4CFA-8676-C624AA5B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B16B-BD2A-4BC0-A730-EE304010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52D1-E3FC-48A5-8C15-188FF288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4630-C145-44AC-B258-8D8C2AD4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59E4-7D9D-40B4-B4D4-A308337A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D26-21BC-4321-A18F-3DDF80F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E4D-5B20-4EFF-9BCC-95DDD327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024C-7E19-4A6B-A906-F1B33336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63D-C701-4327-AEA2-D5C37953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2E0-B3D3-4300-B67E-9422138B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BEB-1A14-40AE-A430-7DAB33AA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618-78D8-46D5-AE79-C00ED8EE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928c"/>
              </a:buClr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4F6B-E8F7-4B58-AAAE-4BB95EF4D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3D8E-D54A-4C3E-BA8A-80CF1DC32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aba4"/>
                </a:solidFill>
                <a:latin typeface="Arial"/>
              </a:rPr>
              <a:t>European Computer Driving Licenc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6 – 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6 – Show Tim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Printing Handouts and Notes pages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43909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int </a:t>
            </a:r>
            <a:r>
              <a:rPr b="1" lang="en-US" sz="2000" spc="-1" strike="noStrike">
                <a:solidFill>
                  <a:srgbClr val="12928c"/>
                </a:solidFill>
                <a:latin typeface="Arial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int 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Hand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how many slides to print on a page and whether they should b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Horizon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to check the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48360" y="2349360"/>
            <a:ext cx="354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int Notes p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Notes p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int 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 of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1314360" cy="676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835280" y="4869000"/>
            <a:ext cx="1733400" cy="581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156360" y="3860640"/>
            <a:ext cx="1944720" cy="1200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124000" y="5877000"/>
            <a:ext cx="69552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Copying slides to a new presentation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569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py slides between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Sorter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lect the slide to be copied. If more than one slide is to be copied, hold dow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whilst clicking th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start a new presentation or open an exist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pied slides will assume the formatting of the new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keep the original formatting, 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aste Options but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 the pasted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Keep Source Forma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356000" y="5805360"/>
            <a:ext cx="1752840" cy="581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627280" y="5229360"/>
            <a:ext cx="8478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Saving in different file format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a choice of many file formats other than the normal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.pp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Sav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the down-arrow of the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Save as 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ox. A large selection of file types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s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esign Temp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you want to use the slide format for future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s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Web 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you want to post the presentation to a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s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owerPoint 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97 – 2003 &amp; 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-open in different versions of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ing i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Rich Text 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ses all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4941720"/>
            <a:ext cx="360036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Starting a show on any slide and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start a slide show 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ular sli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your presentation if it is not already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ane click a slide eg.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slid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lide show will start at the selected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51280" y="436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3752640" cy="28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2928c"/>
                </a:solidFill>
                <a:latin typeface="Arial"/>
              </a:rPr>
              <a:t>Navigating around a presentation</a:t>
            </a:r>
            <a:endParaRPr b="1" lang="en-US" sz="39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, right click the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tak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Previ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to the pre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Go to sl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v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menu in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lect any slid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use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r to go to the next slide, or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ack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 to go back a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27640" y="2565360"/>
            <a:ext cx="14284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Hiding slide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ot want to show one of the slides in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a slide in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e while i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Normal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Hid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e will display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Hidden Sl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con behind the slide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hide the slide from the show, 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Hid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309708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Using the Notes page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make additional notes about each slide to prompt you. these notes are visible only by you, not your audience, when you print them out or view them on-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slide on which you want to add a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the slide is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No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. Click and drag to enlarge the pan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47640" y="4365720"/>
            <a:ext cx="62391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Viewing your notes during a presentation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either view the notes on-screen if you get stuck for words in your show or you can print out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tes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view the notes on-screen, right click the mouse while i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 and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cr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peaker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xit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peaker No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3143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Slide Setup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3598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rientation by clicking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ortr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9480" y="2133360"/>
            <a:ext cx="403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down-arrow of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s sized f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hange the outpu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tions you may be asked about for ECDL ar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n-screen s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ver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35mm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816360" cy="169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3068640"/>
            <a:ext cx="22003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Printing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quite a few different options in thi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two slides will explain how to print various outputs for ECDL, and which options to choose for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386568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Printing slide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int just the slides, make sur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l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elected under 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rint W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hange which slides to print under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Print R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number of copies in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Cop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ew the slide printouts by clicking 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creen you can also preview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andou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ut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y selecting the different options under 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ist a the top of the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Print Preview by clic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00360" y="5877000"/>
            <a:ext cx="914400" cy="514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1368360" cy="422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16000" y="4508640"/>
            <a:ext cx="2581200" cy="981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956720" y="2708280"/>
            <a:ext cx="363240" cy="25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643280" y="4437000"/>
            <a:ext cx="4158000" cy="1139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8317080" y="5734080"/>
            <a:ext cx="41904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09:50:37Z</dcterms:created>
  <dc:creator>Miriam Lloyd</dc:creator>
  <dc:description/>
  <dc:language>en-US</dc:language>
  <cp:lastModifiedBy>Miriam Lloyd</cp:lastModifiedBy>
  <dcterms:modified xsi:type="dcterms:W3CDTF">2004-05-16T15:24:46Z</dcterms:modified>
  <cp:revision>119</cp:revision>
  <dc:subject/>
  <dc:title>European Computer Driving Licence</dc:title>
</cp:coreProperties>
</file>