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EA18-4002-49CC-B724-940AAFC70B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lide 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046-54C3-47C5-A43B-C4F5B858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291-A3DB-4D95-8E20-420E78EE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545-8E37-4B78-9973-866877D1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1B5-BC18-4400-B585-1039438E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D97C-D398-4F59-9318-0685367E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5FE8-8DA0-43E4-AC72-90E29C35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76DA-F251-4363-9B21-EDDF9818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F9BA-B76A-4B7B-A681-DE84B4A7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FCD5-73D7-4DA8-AEEB-38E67693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18E5-CD9B-4948-A2CE-D6E3115A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5A3A-CBBF-4A4F-B3CB-FF6129D6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68C-6F1A-46D5-B703-5F1C2D00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5D92-2E13-4F89-8BFD-0D8612BF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FFEC-F6B4-4E7D-B757-447D11D5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4670-F373-48B9-A44B-F703E30A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00AB-EC82-4EAE-B5AE-C278D3D0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234936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4380120"/>
            <a:ext cx="264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AC12-CE71-4243-B6E6-E4E02B85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9DF-0943-43B1-A625-0C9AD5B2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A41-522F-48A8-93F1-2C24AA14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05F-D6C4-497B-B5CB-C64DECE2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B1C-0EDD-4944-9B7E-C231FDA0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085-B837-4DD7-A3BE-E7855114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38012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136-81BE-4D48-9AFD-25305CA8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349360"/>
            <a:ext cx="40158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380120"/>
            <a:ext cx="82296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0CC-96D8-4444-875E-04F83E0B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928c"/>
              </a:buClr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6070-3B5E-4871-A890-348AA5A1A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9D66-FADC-41A7-AB5B-5AC066204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aba4"/>
                </a:solidFill>
                <a:latin typeface="Arial"/>
              </a:rPr>
              <a:t>European Computer Driving Licence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6 – 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6 – Show Tim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Printing Handouts and Notes pages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43909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int </a:t>
            </a:r>
            <a:r>
              <a:rPr b="1" lang="en-US" sz="2000" spc="-1" strike="noStrike">
                <a:solidFill>
                  <a:srgbClr val="12928c"/>
                </a:solidFill>
                <a:latin typeface="Arial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int 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Hand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how many slides to print on a page and whether they should b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Horizon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to check the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48360" y="2349360"/>
            <a:ext cx="354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int Notes p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Notes p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int 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 of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1314360" cy="676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835280" y="4869000"/>
            <a:ext cx="1733400" cy="581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156360" y="3860640"/>
            <a:ext cx="1944720" cy="1200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124000" y="5877000"/>
            <a:ext cx="69552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Copying slides to a new presentation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569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py slides between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Sorter 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lect the slide to be copied. If more than one slide is to be copied, hold down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whilst clicking th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start a new presentation or open an existing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pied slides will assume the formatting of the new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keep the original formatting, click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aste Options but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 the pasted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Keep Source Form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356000" y="5805360"/>
            <a:ext cx="1752840" cy="581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627280" y="5229360"/>
            <a:ext cx="8478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Saving in different file format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a choice of many file formats other than the normal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.pp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Sav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the down-arrow of the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Save as 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ox. A large selection of file type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s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Design Temp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you want to use the slide format for future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s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Web 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you want to post the presentation to a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s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owerPoint 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97 – 2003 &amp; 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-open in different versions of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ing i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Rich Text 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ses all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4941720"/>
            <a:ext cx="360036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928c"/>
                </a:solidFill>
                <a:latin typeface="Arial"/>
              </a:rPr>
              <a:t>Starting a show on any slide and</a:t>
            </a:r>
            <a:endParaRPr b="1" lang="en-US" sz="40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start a slide show 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ular sli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your presentation if it is not already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ane click a slide eg.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slid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lang="en-GB" sz="20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lide show will start at the selected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375264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2928c"/>
                </a:solidFill>
                <a:latin typeface="Arial"/>
              </a:rPr>
              <a:t>Navigating around a presentation</a:t>
            </a:r>
            <a:endParaRPr b="1" lang="en-US" sz="39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, right click the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tak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Previ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to the pre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Go to sl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v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menu in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lect any slid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use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r to go to the next slide, or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ack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 to go back a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27640" y="2565360"/>
            <a:ext cx="14284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Hiding slide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want to show one of the slides in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a slide in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e while i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Normal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Hid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Out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e will display the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Hidden Sl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con behind the slide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hide the slide from the show, select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12928c"/>
                </a:solidFill>
                <a:latin typeface="Arial"/>
              </a:rPr>
              <a:t>Hid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309708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Using the Notes page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make additional notes about each slide to prompt you. these notes are visible only by you, not your audience, when you print them out or view them on-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lide on which you want to add a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the slide is the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No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ne. Click and drag to enlarge the pan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47640" y="4365720"/>
            <a:ext cx="62391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928c"/>
                </a:solidFill>
                <a:latin typeface="Arial"/>
              </a:rPr>
              <a:t>Viewing your notes during a presentation</a:t>
            </a:r>
            <a:endParaRPr b="1" lang="en-US" sz="36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either view the notes on-screen if you get stuck for words in your show or you can print out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tes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view the notes on-screen, right click the mouse while i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 S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 and 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cr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peaker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xit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peaker No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3143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Slide Setup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3598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rientation by clicking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ortr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9480" y="2133360"/>
            <a:ext cx="403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down-arrow of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Slides sized f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hange the outpu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tions you may be asked about for ECDL ar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n-screen sh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ver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35mm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816360" cy="169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22003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Printing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000" spc="-1" strike="noStrike">
                <a:solidFill>
                  <a:srgbClr val="12928c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quite a few different options in thi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two slides will explain how to print various outputs for ECDL, and which options to choose for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386568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928c"/>
                </a:solidFill>
                <a:latin typeface="Arial"/>
              </a:rPr>
              <a:t>Printing slides</a:t>
            </a:r>
            <a:endParaRPr b="1" lang="en-US" sz="4400" spc="-1" strike="noStrike">
              <a:solidFill>
                <a:srgbClr val="12928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int just the slides, make sur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l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elected under 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rint W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hange which slides to print under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Print R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number of copies in the </a:t>
            </a:r>
            <a:r>
              <a:rPr b="0" lang="en-US" sz="1800" spc="-1" strike="noStrike">
                <a:solidFill>
                  <a:srgbClr val="12928c"/>
                </a:solidFill>
                <a:latin typeface="Arial"/>
              </a:rPr>
              <a:t>Cop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9480" y="2349360"/>
            <a:ext cx="4038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ew the slide printouts by clicking 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creen you can also preview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andou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ut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y selecting the different options under 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ist a the top of the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2928c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Print Preview by cli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00360" y="5877000"/>
            <a:ext cx="914400" cy="514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1368360" cy="42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16000" y="4508640"/>
            <a:ext cx="2581200" cy="981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956720" y="2708280"/>
            <a:ext cx="363240" cy="25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643280" y="4437000"/>
            <a:ext cx="4158000" cy="1139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8317080" y="5734080"/>
            <a:ext cx="41904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09:50:37Z</dcterms:created>
  <dc:creator>Miriam Lloyd</dc:creator>
  <dc:description/>
  <dc:language>en-US</dc:language>
  <cp:lastModifiedBy>Miriam Lloyd</cp:lastModifiedBy>
  <dcterms:modified xsi:type="dcterms:W3CDTF">2004-05-16T15:24:46Z</dcterms:modified>
  <cp:revision>119</cp:revision>
  <dc:subject/>
  <dc:title>European Computer Driving Licence</dc:title>
</cp:coreProperties>
</file>